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3698-41D9-4559-9D1D-ECFAE669196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3056-92C4-41E5-88FD-A98CBC33E32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A266-E790-4146-BB0B-6DC0BE41221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2973-0C32-413E-9F12-070B6C92E15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B84E-AF59-4BBB-812C-1579FAFEAC5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C30A-1290-4544-A4B4-54F6883480B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1319-B810-4AA4-9342-6562121C535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14D7-694E-45E3-88FB-F4742C0A370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3A20-0971-46FD-AC74-B3ADB0CD5D7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BC6E-13C8-4F5F-8639-B66B3EC303C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85CA-BE7A-4FF4-9ADF-77ECB4D9A0F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D255-7DDC-47E4-80AB-AED6293A79F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BA2-5210-4999-B7FE-43E24B8B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D86-1E97-4F62-BE5F-9B5649BC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8E74-EA57-4F3B-80C6-95538056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57BD-7B63-4FAA-92F4-EBE3F022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2F1-3C95-4903-A870-362E03CC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619D-6B79-42F9-B62E-4A902F0F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FD23-85EB-4527-B46B-271840B2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9A3-395D-4B11-BBA8-FAE8AC55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C6E-084A-43A8-B778-68C981FF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AC5-D293-4D9E-ABBB-FA98FC97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0A2A-BE7C-4D97-9AE2-A5520A06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D43C-51EE-4C28-9955-5E85F982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45D1-7B39-40B3-A8FC-061CD91D55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93560"/>
          <a:ext cx="829152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29152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42652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2652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69800" y="482760"/>
          <a:ext cx="856296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6296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514000" cy="70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79280" y="473040"/>
            <a:ext cx="8640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526240" cy="65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26240" cy="65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17400" y="531720"/>
          <a:ext cx="8317080" cy="821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17080" cy="821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.A. Pino</dc:creator>
  <dc:description/>
  <dc:language>en-US</dc:language>
  <cp:lastModifiedBy>jpino</cp:lastModifiedBy>
  <cp:lastPrinted>2006-03-07T16:10:21Z</cp:lastPrinted>
  <dcterms:modified xsi:type="dcterms:W3CDTF">2011-03-07T15:11:28Z</dcterms:modified>
  <cp:revision>98</cp:revision>
  <dc:subject/>
  <dc:title>Sin título de diapositiva</dc:title>
</cp:coreProperties>
</file>