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07B4-2CA3-447B-83A3-7CDEA03C97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76F8-5297-4CFA-83AC-8C4E1B9FA1B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617D-165B-411A-A158-744B1E51CD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F66E-B96E-42C9-BC97-547067657D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A99F-F271-49FF-8058-A6A307FC55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4A66-311F-4DE2-8C85-6FD7E3D506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6608-B37C-4222-A1E9-B01FEFDB32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7E98-78DF-4B30-8A7D-00F26D6E15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4E99-09DD-49A5-8B71-A06B538A5D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4048-1322-4DD2-ADC7-5184AB88D5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E961-5D8A-42D1-B39E-D881C86B32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83CC-C2C4-4AFF-8CA8-32F853F84D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F85-7C71-4937-B8DA-2C485BC3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0C9-C5E2-40D3-B259-C78301A2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B3E-7F6D-402D-B275-DCF16AA0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27A-2131-4E6C-8C61-DD69BAC2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927-7B7B-4E20-B25D-E19C1E70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FC5-BBE6-4B18-91BB-AC7B9C40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224-0A7E-48EE-B4E2-0AE91A49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600-1B24-4622-8856-8591A54A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8F6-AF42-409B-B2B0-E89DA563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960-FF9D-456B-A84A-B2FE1B4A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95B-304D-4BDF-8ED6-3B1A83D6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023-E0A0-4DF2-AC5C-F2020D27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75C3-62A1-4DB5-9E22-67E6C56C9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.A. Pino</dc:creator>
  <dc:description/>
  <dc:language>en-US</dc:language>
  <cp:lastModifiedBy>jpino</cp:lastModifiedBy>
  <cp:lastPrinted>2006-03-07T16:10:21Z</cp:lastPrinted>
  <dcterms:modified xsi:type="dcterms:W3CDTF">2011-03-07T15:11:28Z</dcterms:modified>
  <cp:revision>98</cp:revision>
  <dc:subject/>
  <dc:title>Sin título de diapositiva</dc:title>
</cp:coreProperties>
</file>