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A9C8-9696-44B0-A497-6E3BEA5AEE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E556-BC38-4B83-891D-BFFB7FC5BA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1766-3F10-4646-9D4F-9ABF5AF1A2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A475-BCA5-47FA-B17B-666A9FDA1D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C800-CF4F-419C-B479-F563AFD2D9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6A17-768D-4D19-AB53-5C1A50D578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F04E-BBE8-4A41-9B3A-2B94DAFA1C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FF8-8564-49D8-9ED6-E5240EA99C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E0F8-B954-4FD1-B34B-D33C4C3DE4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BF7B-E841-490A-BA1E-8C64C1F063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581A-063E-411A-A283-510CBDCBAB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AFAC-C685-4345-9366-B1B1123308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A70-F255-44F5-9BC1-48FDC16C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562-3764-4984-8A10-63754A27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97F-1673-46F5-82EA-0287336A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B6F-1C4D-428E-9719-050D21F2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F74-6E1D-4478-BC22-32A9D2BF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DCC-E3FF-4014-AA96-4ED01960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929-587C-46E1-A5F3-214FB7CB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C79-FA4A-40C5-AFB8-506DD69E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D61-FDC0-46AA-8375-8D1D1919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ED6-CDB4-4913-B9B9-258310A9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B41-7BFF-4276-BF4C-09F8ADC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E14-4696-4C6C-B3CB-ABABCBE7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5CA2-18E3-426D-9D3D-BC1F1579D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.A. Pino</dc:creator>
  <dc:description/>
  <dc:language>en-US</dc:language>
  <cp:lastModifiedBy>jpino</cp:lastModifiedBy>
  <cp:lastPrinted>2006-03-07T16:10:21Z</cp:lastPrinted>
  <dcterms:modified xsi:type="dcterms:W3CDTF">2011-03-07T15:11:28Z</dcterms:modified>
  <cp:revision>98</cp:revision>
  <dc:subject/>
  <dc:title>Sin título de diapositiva</dc:title>
</cp:coreProperties>
</file>