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4803-6CC1-4B87-BF3D-09F3362B82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BBEC-676C-4C73-8C78-AE243EFBAB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88E6-7C3C-4D20-BA31-751CDF0F8F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B75-B9CF-4966-A96F-CD25820A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C98-1D3A-40CC-943D-116BC5A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A24-E366-42CC-A570-63000B4D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309-9DCD-41FD-B5A1-9CC4EB5E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2B1-0ADB-4B8E-A13B-8394E5D0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4B6-178D-48C0-8697-9F0F63E7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007-F1D3-4D38-9EFE-1E94EDBD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03F-DB24-4EA7-804D-5227CE54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E87-EFB3-4E97-9782-911F9B8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6D6-D8B3-4E60-A8C4-75F384E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4DF-A61A-4D0F-9A79-6D7EAFA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024-ED69-4D23-BE80-06A788BD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9CA5-21B3-4D89-A03B-80AC62227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Tercer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68360" y="1628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. Lutz: Learning Python. Fourth edition. O’Reilly Publishers,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. Downey: Think Python. Green Tea Press,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. van Rossum: Python Tutorial. Python Labs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1-03-07T13:59:53Z</dcterms:modified>
  <cp:revision>34</cp:revision>
  <dc:subject/>
  <dc:title>datos generales curso</dc:title>
</cp:coreProperties>
</file>