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1FA4-59EE-432B-8CCE-6F921AF150B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9AF0-A4D6-4664-86F9-457116296A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utación I: Introdu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3F6-D87B-453B-AFA2-DEA5382CB2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0D2-E61E-450D-BEB9-AB173A46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394-A0EC-47A8-A81E-11F26080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E0B-AA7B-4BC8-9B32-8196B716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EE9-2947-4540-A769-21EB43CE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ECB-860F-4631-8BB6-89932026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823E-EE36-4B9B-BD21-94D2133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D12-E82B-4993-82BF-D493C013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093-7D59-4A5C-BE29-7019C883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4BD-B398-429E-B596-0C2F45EF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CB9-8E1E-46BB-8D99-7B465E1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DBF-0079-4145-B8AA-7B8B3A30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D8F-26D1-46C4-B0A7-1003E264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2F0C-64DD-4AC1-A898-44F0C982F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19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Alberto P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pino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lanco 2120, Tercer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7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1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3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0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3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AutoShape 27"/>
          <p:cNvCxnSpPr>
            <a:stCxn id="64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AutoShape 28"/>
          <p:cNvCxnSpPr>
            <a:stCxn id="65" idx="0"/>
            <a:endCxn id="51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8" name="Text Box 29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0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68360" y="1628640"/>
            <a:ext cx="8207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puntes del cu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. Lutz: Learning Python. Fourth edition. O’Reilly Publishers, 200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. Downey: Think Python. Green Tea Press, 20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. van Rossum: Python Tutorial. Python Labs, 200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pino</dc:creator>
  <dc:description/>
  <dc:language>en-US</dc:language>
  <cp:lastModifiedBy>jpino</cp:lastModifiedBy>
  <cp:lastPrinted>2006-03-02T13:33:10Z</cp:lastPrinted>
  <dcterms:modified xsi:type="dcterms:W3CDTF">2011-03-07T13:59:53Z</dcterms:modified>
  <cp:revision>34</cp:revision>
  <dc:subject/>
  <dc:title>datos generales curso</dc:title>
</cp:coreProperties>
</file>