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854F-2835-46F4-9723-EDD04A8FA5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300F-25BB-40A1-A94F-973EA16033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3F6D-1140-474A-91DF-1D646B533E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CE5-EA46-4C11-A753-5523541F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C54-3D4C-4CF2-B25E-5BD08E5C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5077-F6FC-43B0-9F20-9C3D24B3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3385-C01F-483B-AFA5-756A3F1C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07B6-0F0B-4441-A131-4D0E52B8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1634-7C98-4092-BE71-A55C1F6B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FAC-E23B-4518-8DC9-CA2498E5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FD4A-2D0D-41CE-ACD9-A76244A7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84C0-E6B2-4F01-B583-383D2546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1D4-D45A-46BC-B8C1-542EE623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F10-7077-45C1-AA77-2FDEE07C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4A19-61BC-405E-B6B0-E2814A69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A7CA-C815-41E7-9E0C-E1ED22111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9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Alberto P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pino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lanco 2120, Tercer P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27"/>
          <p:cNvCxnSpPr>
            <a:stCxn id="64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AutoShape 28"/>
          <p:cNvCxnSpPr>
            <a:stCxn id="65" idx="0"/>
            <a:endCxn id="51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68360" y="1628640"/>
            <a:ext cx="8207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punte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. Lutz: Learning Python. Fourth edition. O’Reilly Publishers, 200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. Downey: Think Python. Green Tea Press, 20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G. van Rossum: Python Tutorial. Python Labs,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pino</dc:creator>
  <dc:description/>
  <dc:language>en-US</dc:language>
  <cp:lastModifiedBy>jpino</cp:lastModifiedBy>
  <cp:lastPrinted>2006-03-02T13:33:10Z</cp:lastPrinted>
  <dcterms:modified xsi:type="dcterms:W3CDTF">2011-03-07T13:59:53Z</dcterms:modified>
  <cp:revision>34</cp:revision>
  <dc:subject/>
  <dc:title>datos generales curso</dc:title>
</cp:coreProperties>
</file>