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77B6-CDBA-419F-BDC8-4019A97133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BBB8-D349-4EE3-B56A-CD4CE78083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2CD3-1133-4891-BCE3-F0D466AACB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677-F800-406F-93A1-9F4F7519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288-FE71-4EF5-9938-A0F27467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3C6-E1E4-4C88-88BD-B1359AE8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164-BBB8-4C2D-9352-193DFA3B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210-656C-48CE-B836-0809DB4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688-396F-4407-84A0-3774212A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940-DFCF-4922-AB93-23FFECA5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F90-BB1A-4547-9B09-E6A32E85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8A3-3EFA-4905-BEBA-2E28E369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FCE-B3A9-4B7A-B35D-196046C3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DB9-494E-491A-948E-5A83401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C74-4200-4821-A934-C04A6531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2DCD-9B71-44CF-9B26-12B6AC3AF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pino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Tercer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68360" y="162864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. Lutz: Learning Python. Fourth edition. O’Reilly Publishers,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. Downey: Think Python. Green Tea Press,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. van Rossum: Python Tutorial. Python Labs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1-03-07T13:59:53Z</dcterms:modified>
  <cp:revision>34</cp:revision>
  <dc:subject/>
  <dc:title>datos generales curso</dc:title>
</cp:coreProperties>
</file>