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E6F-3A10-4AD2-8680-33A977CF89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230D-0652-47ED-89F5-2038290DDF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6F3C-E53F-43EA-B024-096EF5D495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5A4-F60C-4BB0-9C9C-CCD25BCB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1AA-A38E-45A0-9A3B-D7A29D4D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3C4-B13B-4653-81D5-C31C6014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112-89CC-4827-ADF1-CEB62B5B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4B2-0B10-4528-9BF3-0F184E1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333-7FD0-488F-92E8-FD442604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FDB-12B9-4A9A-8A70-244A883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C76-E3BC-47E2-9FD1-544C21D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EFA-732B-4AF1-98D7-439389D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4DB-1668-44B9-8361-8413B75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8D6-DE5D-46F9-9B6C-4B3C8EA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1DF-BF2C-4B9B-AF08-98B46210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E1B-D696-407B-AD2E-9FA46053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7T13:59:53Z</dcterms:modified>
  <cp:revision>34</cp:revision>
  <dc:subject/>
  <dc:title>datos generales curso</dc:title>
</cp:coreProperties>
</file>