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5BCE77-AF40-43AD-BFC6-2E5C2A056F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9FBBF5-F750-4EC1-ACEA-2C5A74CC97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4923A6-FDE4-4A40-A29D-E382724F8A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1A81F3E-A870-4A6B-91EF-DBE5F29619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1A8-72A7-4607-8252-EB85F6B7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403-28F6-472A-8015-F4AA7A74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62D-BB4F-4F13-A475-E9A69813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E6C-49CC-4EB4-BFF6-0721AC35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F1E-41DF-4DFA-B1A3-B26C621E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72E-2797-4E23-A028-53F5BFCD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801-5D04-4CC8-B4B8-1495CF65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675-D4AB-45DF-9B23-F1A01F59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B21-1497-4B19-9A2E-98089256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31C-D015-40CE-9314-40ABC97D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66E-90DA-427E-BA3D-4A83478C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FDA-10B9-4B30-9626-2CF039A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635C-47A4-4766-86C7-B35BE0A06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nbaloian</cp:lastModifiedBy>
  <cp:lastPrinted>2005-01-12T14:41:26Z</cp:lastPrinted>
  <dcterms:modified xsi:type="dcterms:W3CDTF">2011-03-22T15:41:53Z</dcterms:modified>
  <cp:revision>66</cp:revision>
  <dc:subject/>
  <dc:title>Sin título de diapositiva</dc:title>
</cp:coreProperties>
</file>