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6FC918-9270-477F-8B8C-3C0B5A44C9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33555D-14AF-4CBF-B644-4A82EC4D90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96FFF6-4B3D-4273-BDB8-F615B8E425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7254C0-4669-4615-BD6A-EB8ADD7D2B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E53-630D-46E0-820C-9188B9D6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572-DE72-4153-B7E4-7DB8B1F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042-BF01-4E8A-8458-3A3445A0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8C7-4403-4D81-A1D3-0B757160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E74-D75D-421D-92A5-90BB88D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2B3-901A-444A-8114-31D2F08D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15A-BB12-4401-AD40-4FA71209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0F7-F9F6-4CA5-8EFF-04F80F1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426-A893-4D15-8E61-A8CFF40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4B2-F0F4-45CC-BF3F-DEF3F34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09A-0CBD-419C-AF6D-432C872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CA4-1A01-431B-BE09-A3A6464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2603-398C-4731-A172-04E2925A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nbaloian</cp:lastModifiedBy>
  <cp:lastPrinted>2005-01-12T14:41:26Z</cp:lastPrinted>
  <dcterms:modified xsi:type="dcterms:W3CDTF">2011-03-22T15:41:53Z</dcterms:modified>
  <cp:revision>66</cp:revision>
  <dc:subject/>
  <dc:title>Sin título de diapositiva</dc:title>
</cp:coreProperties>
</file>