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AD8482-5DFA-48C3-A474-BDCB3220EB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A14050-50F5-4DDA-9A58-12CA07C9A2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CF77099-FD30-4303-9E7C-43E85F17D3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E6A80B-B9EE-4D9A-AAA8-6141D41B68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A15-F475-4AFB-9F15-7CF4C798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A6E-27BD-4DCB-B242-0E9DDF70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4D0-37E6-44F9-AF80-2FDF8040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93B-3C3E-4190-B794-2B3286CA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3B5-C6BE-47AE-A4FB-18E67D00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44F-A8C1-4B70-894D-0202E13B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815-3C65-4C35-96DF-C69BC08F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8E3-F52E-4175-A97C-390A05D8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45E-09DE-4526-AC66-33BF50EC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7CD-4A0A-491E-B623-B881E8D8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BC5-D1BA-46B1-8CA8-3EFF5B21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826-308B-4462-B2F6-8347B24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E856-4CB3-4781-9E49-7480E1C75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nbaloian</cp:lastModifiedBy>
  <cp:lastPrinted>2005-01-12T14:41:26Z</cp:lastPrinted>
  <dcterms:modified xsi:type="dcterms:W3CDTF">2011-03-22T15:41:53Z</dcterms:modified>
  <cp:revision>66</cp:revision>
  <dc:subject/>
  <dc:title>Sin título de diapositiva</dc:title>
</cp:coreProperties>
</file>