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3CE79C-751D-4210-ADCE-1338C7B8C9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960BB1-5BFA-4B48-8C11-483AC280CC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0ABAF0-53E0-41B1-9023-B3A0E106CD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3ED080-0B07-4582-96A9-17513EB065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E1C-E1CD-45DC-A4A1-08F61DA0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B29-FEE2-49E2-BE60-7DD01827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1CD-5D06-4ADD-8267-9891BAC1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4D9-26F6-4159-B31A-06248E55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4F8-A8C2-44A4-BE8E-2CC74851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3B7-2190-4283-9492-57835D2B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A5A-834B-4212-A935-CBFD86B6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16D-6FAD-493A-B167-BA3FAD19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4C8-8725-40AD-A43B-84FB31BE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868-F914-4AD0-80E4-33657A9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958-8E71-45C2-B1A9-521D8A1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921-C690-463F-BF48-EED490EF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0171-B8A8-4EFC-863B-0702ECF47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nbaloian</cp:lastModifiedBy>
  <cp:lastPrinted>2005-01-12T14:41:26Z</cp:lastPrinted>
  <dcterms:modified xsi:type="dcterms:W3CDTF">2011-03-22T15:41:53Z</dcterms:modified>
  <cp:revision>66</cp:revision>
  <dc:subject/>
  <dc:title>Sin título de diapositiva</dc:title>
</cp:coreProperties>
</file>