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CF5D-1A57-41F7-B00F-4A15FACD37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7074-72C1-4CFF-B7F0-1CAACA0A1C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44CB-A7E9-4608-AD02-ADB4E3BEEF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. Balo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8A46-CC58-4FC4-8D95-8522241513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4E0-F671-4D74-BD49-83486B3C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01EE-02DD-4E93-9BEA-B400201E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3D9-AC74-4BB5-BBB3-C791DEA7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34D-F185-4C23-A4AD-CF336BE5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E6D-BBCE-456C-8A6A-0B79BC69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603-21DD-44E1-ADF9-6E8C9F34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BA7-4557-46E9-9568-1F35D9D2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BA6-ED93-43E8-BFE1-334171FA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943-4951-49CA-8097-634B85CE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849-614B-4E66-90C8-EEE7085F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917-BFF1-40A4-B42B-D1F47C59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BD9-21F4-4283-B06E-150898F1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8ECD-2222-47A2-87AF-29567897E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 </cp:lastModifiedBy>
  <cp:lastPrinted>2006-03-17T17:08:51Z</cp:lastPrinted>
  <dcterms:modified xsi:type="dcterms:W3CDTF">2011-03-18T01:55:40Z</dcterms:modified>
  <cp:revision>60</cp:revision>
  <dc:subject/>
  <dc:title>Sin título de diapositiva</dc:title>
</cp:coreProperties>
</file>