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C3BF-398B-4E52-8C65-6294C86C2A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4F73-EBE8-4227-A168-C6FFDEE339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31D1-40EB-4B37-B5C8-B294682555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4A74-3BFF-45C7-B1C7-5CEF024AFC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EC3-5897-493B-99BB-6788C8E9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0D6-AF6E-42E5-8E2D-1A22CD2E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685-BA8F-443D-8D00-7A3B5433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8AC-DE7D-4915-8EBA-B5B64DE7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570-8451-4DB6-961B-12BE92F2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74F-7EF0-4ABB-A594-9E2721BD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59D-6399-4BD7-94A5-C485A10D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B17-3931-4016-8368-FABC0C3E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697-AE0E-4D6B-A23C-1D939B71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037-8C04-41BD-8C08-3D96FF72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3AD-6444-4A4F-93DC-A3D108A6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599-BD7C-49CF-8961-5A1A124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F37F-7576-4B72-B7D5-EB6505F89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 </cp:lastModifiedBy>
  <cp:lastPrinted>2006-03-17T17:08:51Z</cp:lastPrinted>
  <dcterms:modified xsi:type="dcterms:W3CDTF">2011-03-18T01:55:40Z</dcterms:modified>
  <cp:revision>60</cp:revision>
  <dc:subject/>
  <dc:title>Sin título de diapositiva</dc:title>
</cp:coreProperties>
</file>