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B644-8684-410B-A9C5-1AC554C9B4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3760-636D-46CC-9D26-1543493956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02D3-BD7E-4AD1-BC4A-89FA3FDF2A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78F0-745F-49AD-ADD1-1E813D0CFEB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7F7-4B2C-4995-8B78-56D7FB0A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4BE-3679-4B63-879B-5F9E587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D75-DC69-431D-864A-C4B6D702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1F3-4BC5-488A-BF23-2CC1AB93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06C-CD89-434F-A002-408CA92F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2B5-3A53-438C-BD2D-BB9652FD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5D4-EB60-4DA1-9104-3ECE6B96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C23-C2C5-46BC-B827-A56A9388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50B-30B4-4606-8615-E704C72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9BC-8E0D-4A3E-88D5-A0185F12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968-622B-4A97-AEC4-29D1E22F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0A6-9F97-406E-B759-40BAF51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55CD-85A5-4121-8FDC-2FBE66C67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 </cp:lastModifiedBy>
  <cp:lastPrinted>2006-03-17T17:08:51Z</cp:lastPrinted>
  <dcterms:modified xsi:type="dcterms:W3CDTF">2011-03-18T01:55:40Z</dcterms:modified>
  <cp:revision>60</cp:revision>
  <dc:subject/>
  <dc:title>Sin título de diapositiva</dc:title>
</cp:coreProperties>
</file>