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-360"/>
            <a:ext cx="2939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664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. Balo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386640"/>
            <a:ext cx="2939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80C0-5190-45FD-9FD8-0B4B1CC3876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. Balo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57AB-B78C-4149-ACD3-1F38038DE57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. Balo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2589-DB99-40E6-9ABE-D6E7109680B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. Balo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F4DE-69CF-45DC-B8F1-C93D87F7803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7F2C-6F4C-41D1-8542-9BD074187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79A1-69F2-4249-A5D7-9F2B618A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0A39-97C5-438B-8FE3-1FDC5092D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D78D-C8D2-4A3A-A5E4-F72FBCD67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3E7B-27A2-4A7A-A616-3FD5986D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BD42-62F1-4EAC-8DE6-45435E9A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6225-584B-4816-B53F-B3C94F2B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34F6-5E89-4919-BB42-B87C9563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0036-4F21-4E80-8F7A-54059E72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1A66-ECCE-432E-A258-D5832A02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D810-2910-40C2-BC7A-1403D3D3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832E-F908-4056-8F6E-6CE3928C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59F1-253D-459C-9FA7-FAF22E9A9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79280" y="27000"/>
            <a:ext cx="8785440" cy="62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blema: ordenar 3 números generado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x,y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andom.randint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a=azar(1,100);b=azar(1,100);c=azar(1,100)#;separa in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 "Numeros=",min(a,b,c),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a,b,c),max(a,b,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¿def medio(x,y,z):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1: restar menor y mayor de la suma de lo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+y+z-max(x,y,z)-min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2: menor de los gana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x,y),max(x,z),max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: mayor de los perde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ax(min(x,y),min(x,z),min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Solución 4: ordenar los 2 primeros y comparar 3º con menor y may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enor=min(x,y);mayor=max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menor,z),may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33440" y="277920"/>
          <a:ext cx="7786800" cy="634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277920"/>
                    <a:ext cx="7786800" cy="63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Line 5"/>
          <p:cNvSpPr/>
          <p:nvPr/>
        </p:nvSpPr>
        <p:spPr>
          <a:xfrm>
            <a:off x="6300720" y="1341360"/>
            <a:ext cx="0" cy="22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6"/>
          <p:cNvSpPr/>
          <p:nvPr/>
        </p:nvSpPr>
        <p:spPr>
          <a:xfrm flipH="1">
            <a:off x="3708000" y="350028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425520" y="341280"/>
          <a:ext cx="8136000" cy="689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341280"/>
                    <a:ext cx="8136000" cy="689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563400" y="396720"/>
          <a:ext cx="7952040" cy="621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400" y="396720"/>
                    <a:ext cx="7952040" cy="621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4"/>
          <p:cNvGraphicFramePr/>
          <p:nvPr/>
        </p:nvGraphicFramePr>
        <p:xfrm>
          <a:off x="496800" y="701640"/>
          <a:ext cx="8425080" cy="52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701640"/>
                    <a:ext cx="842508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701640" y="461880"/>
          <a:ext cx="789768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461880"/>
                    <a:ext cx="78976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600120" y="471600"/>
          <a:ext cx="8219880" cy="65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120" y="471600"/>
                    <a:ext cx="8219880" cy="65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711360" y="433440"/>
          <a:ext cx="7804080" cy="696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433440"/>
                    <a:ext cx="7804080" cy="69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905040" y="701640"/>
          <a:ext cx="7518240" cy="698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701640"/>
                    <a:ext cx="7518240" cy="69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2"/>
          <p:cNvGraphicFramePr/>
          <p:nvPr/>
        </p:nvGraphicFramePr>
        <p:xfrm>
          <a:off x="609480" y="476280"/>
          <a:ext cx="8350200" cy="78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76280"/>
                    <a:ext cx="8350200" cy="78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212760" y="471600"/>
          <a:ext cx="8793000" cy="66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760" y="471600"/>
                    <a:ext cx="8793000" cy="66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839880" y="498600"/>
          <a:ext cx="7878600" cy="622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498600"/>
                    <a:ext cx="7878600" cy="62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250920" y="328680"/>
            <a:ext cx="842472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 (más na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 &gt; 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4"/>
          <p:cNvGraphicFramePr/>
          <p:nvPr/>
        </p:nvGraphicFramePr>
        <p:xfrm>
          <a:off x="831960" y="498600"/>
          <a:ext cx="7692840" cy="611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498600"/>
                    <a:ext cx="7692840" cy="61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684360" y="720720"/>
          <a:ext cx="7961040" cy="673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720720"/>
                    <a:ext cx="7961040" cy="673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914400" y="517680"/>
          <a:ext cx="7194600" cy="561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194600" cy="56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969840" y="619200"/>
          <a:ext cx="791532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619200"/>
                    <a:ext cx="791532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720720" y="527040"/>
          <a:ext cx="8155080" cy="58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527040"/>
                    <a:ext cx="815508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 </cp:lastModifiedBy>
  <cp:lastPrinted>2006-03-17T17:08:51Z</cp:lastPrinted>
  <dcterms:modified xsi:type="dcterms:W3CDTF">2011-03-18T01:55:40Z</dcterms:modified>
  <cp:revision>60</cp:revision>
  <dc:subject/>
  <dc:title>Sin título de diapositiva</dc:title>
</cp:coreProperties>
</file>