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5FE6-AECE-425F-9F28-F125202911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4ABD-A5C9-4455-8098-1983495694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9318-E3FB-4611-8F79-065D3FF0FEF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7226-9F46-407F-98DF-12C9C4DBDB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586-96F8-4F81-819E-DDF86C19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72A-3820-4806-B40F-500F7982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D8D-F809-4091-A88F-261C4CFF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00F-C7E1-4248-A64F-EF133085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F8A-77F3-4DDC-A094-BD8DE336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24F-A882-48CD-97C9-ED938D6A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86E-2F0A-4520-A607-395BE472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3DB-A214-491F-8F31-BC6726D7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33A-641D-4EA5-B5C3-F5D19A08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A84-EF02-4650-A05E-D56C044B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99A-2E59-4AB1-8E3C-0574C5D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CCC-BB6D-490D-B4FE-8B3E972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7BE-071D-45F8-982B-445E04A0C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 </cp:lastModifiedBy>
  <cp:lastPrinted>2006-03-17T17:08:51Z</cp:lastPrinted>
  <dcterms:modified xsi:type="dcterms:W3CDTF">2011-03-18T01:55:40Z</dcterms:modified>
  <cp:revision>60</cp:revision>
  <dc:subject/>
  <dc:title>Sin título de diapositiva</dc:title>
</cp:coreProperties>
</file>