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39440"/>
            <a:ext cx="49417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D142-FD15-4907-A033-4C7172ED0C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DC6A-0D84-41D2-8891-44FB6334D19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3 Marcador de encabezado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4 Marcador de pie de página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5 Marcador de número de diapositiva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45BF-E593-4881-8AA4-B5BCB80F0B7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044D-23D3-4533-9D47-5EFED902CB1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EE74-1073-4170-A810-931F01A5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01BA-7DC4-4EA1-9E8C-8E279DE1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E8A1-F371-4CB4-8BF7-9E0A717B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7775-BCB0-4EA9-A7BD-2A7A4ECD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A459-4DD1-48BC-A512-B741AC9C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ABDA-9A28-485B-ACD5-B93B5370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FDCF-531C-4732-ADF8-B6DDF30F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414A-FF14-40E4-8FB6-F6B49B19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0889-9630-4017-B6E6-5AD49741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244D-3340-423F-AB89-1A3F4D50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36F5-FD64-40EB-A152-D754D7AC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5957-19F0-451B-B892-3ADE4F86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B42C-D93D-4A11-8AC2-B4DC820DF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79280" y="333360"/>
            <a:ext cx="896472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Escribir un programa que lea un número entero de dos dígitos, y escriba como resultado el número invert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specíficamente el diálogo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gresar un 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o de 2 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ertido=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perímetro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área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 programa que obtenga el lado de un cuadrado y use las funciones anteriores para calcular el área y el perímetro del siguiente a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do del cuadrado?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29440688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1187280" y="3213000"/>
            <a:ext cx="5372280" cy="2400480"/>
            <a:chOff x="1187280" y="3213000"/>
            <a:chExt cx="5372280" cy="2400480"/>
          </a:xfrm>
        </p:grpSpPr>
        <p:sp>
          <p:nvSpPr>
            <p:cNvPr id="75" name="AutoShape 8"/>
            <p:cNvSpPr/>
            <p:nvPr/>
          </p:nvSpPr>
          <p:spPr>
            <a:xfrm>
              <a:off x="1187280" y="3213000"/>
              <a:ext cx="5372280" cy="24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7"/>
            <p:cNvSpPr/>
            <p:nvPr/>
          </p:nvSpPr>
          <p:spPr>
            <a:xfrm>
              <a:off x="2901960" y="3441600"/>
              <a:ext cx="194292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6"/>
            <p:cNvSpPr/>
            <p:nvPr/>
          </p:nvSpPr>
          <p:spPr>
            <a:xfrm>
              <a:off x="3244320" y="3670200"/>
              <a:ext cx="1257840" cy="13719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5"/>
            <p:cNvSpPr/>
            <p:nvPr/>
          </p:nvSpPr>
          <p:spPr>
            <a:xfrm>
              <a:off x="3244320" y="3670200"/>
              <a:ext cx="125784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10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318960" y="406440"/>
          <a:ext cx="901404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250920" y="48600"/>
            <a:ext cx="8475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 area y perimetro de a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lad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lado cuadrad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a/2.0 #radio del círc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math.sqrt(2)*a/2 #radio del círcul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R)-area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perimetro(R)+perimetro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del programa es distinta del parámetro r de las funciones (que “mueren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(con minúscula) es distinta de R (con mayúsc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68360" y="182520"/>
          <a:ext cx="833112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2520"/>
                    <a:ext cx="833112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.A. Pino</dc:creator>
  <dc:description/>
  <dc:language>en-US</dc:language>
  <cp:lastModifiedBy>jpino</cp:lastModifiedBy>
  <cp:lastPrinted>2006-03-14T15:11:26Z</cp:lastPrinted>
  <dcterms:modified xsi:type="dcterms:W3CDTF">2011-03-09T19:07:20Z</dcterms:modified>
  <cp:revision>81</cp:revision>
  <dc:subject/>
  <dc:title>Sin título de diapositiva</dc:title>
</cp:coreProperties>
</file>