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A7E7-5943-4685-A4AD-14FF8EEE4E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0727-2DBC-47F1-BB97-6FBEAB3EF7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85D5-C26E-4307-9209-DCBB94E220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DB61-319A-4DE3-B065-6C59F8B122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069-91B6-406D-AAD7-F45A1BE1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3D4-C8BA-41AB-8E61-1E453A33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EB7-AB65-45E0-AC74-768EB18F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678-A57B-4F2A-964C-3CBE83E9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D64-A8A2-45AB-8C2A-4078F127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9E1-D611-48F5-BE4C-0F22D071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F81-0E8D-4421-A13B-55EB79EC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B28-BF45-4D43-96E6-F43D84F5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388-4C7A-49F3-989D-E7831046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084-6302-4E6B-B127-E62FEE09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10B-C7E9-475D-9ABD-8DF65DC6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FA3-F5FC-48A2-BBAD-9ECE2876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EB99-681E-48DC-BECA-34A9AA2D6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Escribir un programa que lea un número entero de dos dígitos, y escriba como resultado el número in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pecíficamente el diálog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gresar un 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o de 2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tido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8360" y="182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2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.A. Pino</dc:creator>
  <dc:description/>
  <dc:language>en-US</dc:language>
  <cp:lastModifiedBy>jpino</cp:lastModifiedBy>
  <cp:lastPrinted>2006-03-14T15:11:26Z</cp:lastPrinted>
  <dcterms:modified xsi:type="dcterms:W3CDTF">2011-03-09T19:07:20Z</dcterms:modified>
  <cp:revision>81</cp:revision>
  <dc:subject/>
  <dc:title>Sin título de diapositiva</dc:title>
</cp:coreProperties>
</file>