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781800" cy="9882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82400" cy="988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3832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lase 2: Funci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1920" y="-360"/>
            <a:ext cx="293832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20520" y="739440"/>
            <a:ext cx="4941720" cy="370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692600"/>
            <a:ext cx="5423040" cy="44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385200"/>
            <a:ext cx="293832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lase 2: J.A. Pi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1920" y="9385200"/>
            <a:ext cx="293832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5752E-DC37-4031-A4E1-28DC2E851A28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2"/>
          <p:cNvSpPr/>
          <p:nvPr/>
        </p:nvSpPr>
        <p:spPr>
          <a:xfrm>
            <a:off x="0" y="0"/>
            <a:ext cx="29383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lase 2: Funci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6"/>
          <p:cNvSpPr/>
          <p:nvPr/>
        </p:nvSpPr>
        <p:spPr>
          <a:xfrm>
            <a:off x="0" y="9385200"/>
            <a:ext cx="29383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lase 2: J.A. Pi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7"/>
          <p:cNvSpPr/>
          <p:nvPr/>
        </p:nvSpPr>
        <p:spPr>
          <a:xfrm>
            <a:off x="3841920" y="9385200"/>
            <a:ext cx="29383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D57FE-08B6-4EA2-B74D-15FC325C4451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920880" y="739800"/>
            <a:ext cx="4941720" cy="370692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79320" y="4692600"/>
            <a:ext cx="5423040" cy="444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920880" y="739800"/>
            <a:ext cx="4941720" cy="370692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79320" y="4692600"/>
            <a:ext cx="5423040" cy="444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3 Marcador de encabezado"/>
          <p:cNvSpPr/>
          <p:nvPr/>
        </p:nvSpPr>
        <p:spPr>
          <a:xfrm>
            <a:off x="0" y="0"/>
            <a:ext cx="29383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lase 2: Funci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4 Marcador de pie de página"/>
          <p:cNvSpPr/>
          <p:nvPr/>
        </p:nvSpPr>
        <p:spPr>
          <a:xfrm>
            <a:off x="0" y="9385200"/>
            <a:ext cx="29383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lase 2: J.A. Pi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5 Marcador de número de diapositiva"/>
          <p:cNvSpPr/>
          <p:nvPr/>
        </p:nvSpPr>
        <p:spPr>
          <a:xfrm>
            <a:off x="3841920" y="9385200"/>
            <a:ext cx="29383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3BC13-64D9-48A7-9B8E-E45C4BA10894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2"/>
          <p:cNvSpPr/>
          <p:nvPr/>
        </p:nvSpPr>
        <p:spPr>
          <a:xfrm>
            <a:off x="0" y="0"/>
            <a:ext cx="29383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lase 2: Funci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6"/>
          <p:cNvSpPr/>
          <p:nvPr/>
        </p:nvSpPr>
        <p:spPr>
          <a:xfrm>
            <a:off x="0" y="9385200"/>
            <a:ext cx="29383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lase 2: J.A. Pi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3841920" y="9385200"/>
            <a:ext cx="29383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3AB29-43A4-4653-BF32-3023D2A49B30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920880" y="739800"/>
            <a:ext cx="4941720" cy="370692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79320" y="4692600"/>
            <a:ext cx="5423040" cy="444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EA85A-61B2-4FE6-B20B-02C3038C9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5D317-9798-488A-A837-273237E6D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2A487-D496-4E37-ABAD-B1329DE6E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F258E-175C-487A-804A-757FB56A1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E3953-A8BE-45BA-A996-6E728E540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9B25C-74CA-4579-8AC2-AAA02EA4A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B2191-A8C1-498E-84FD-AEF09B6F2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496A5-9600-41A2-A3EE-ED4635052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8C240-8E54-4930-9F6E-C51086D0A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9C04B-82B3-4965-AE8B-97E0A8F1A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61225-3456-4B3D-B0CD-190C3491B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5034F-BB65-4578-93E3-6C76C7E01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F21BB-132D-48A5-83D5-164DA07579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5"/>
          <p:cNvSpPr/>
          <p:nvPr/>
        </p:nvSpPr>
        <p:spPr>
          <a:xfrm>
            <a:off x="179280" y="333360"/>
            <a:ext cx="8964720" cy="40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blema 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</a:rPr>
              <a:t>Escribir un programa que lea un número entero de dos dígitos, y escriba como resultado el número inverti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specíficamente el diálogo 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gresar un n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tero de 2 dígi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7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vertido= 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Object 4"/>
          <p:cNvGraphicFramePr/>
          <p:nvPr/>
        </p:nvGraphicFramePr>
        <p:xfrm>
          <a:off x="318960" y="406440"/>
          <a:ext cx="9056880" cy="4746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8960" y="406440"/>
                    <a:ext cx="9056880" cy="474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Object 4"/>
          <p:cNvGraphicFramePr/>
          <p:nvPr/>
        </p:nvGraphicFramePr>
        <p:xfrm>
          <a:off x="623880" y="550800"/>
          <a:ext cx="8505720" cy="5603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3880" y="550800"/>
                    <a:ext cx="8505720" cy="560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Object 4"/>
          <p:cNvGraphicFramePr/>
          <p:nvPr/>
        </p:nvGraphicFramePr>
        <p:xfrm>
          <a:off x="420840" y="507960"/>
          <a:ext cx="8418240" cy="5892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0840" y="507960"/>
                    <a:ext cx="8418240" cy="589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Ejercici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50560" y="691920"/>
            <a:ext cx="889308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scribir una función que reciba el radio y entregue el perímetro de un círcu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scribir una función que reciba el radio y entregue el área de un círcu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scribir un programa que obtenga el lado de un cuadrado y use las funciones anteriores para calcular el área y el perímetro del siguiente anill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ado del cuadrado?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4294406880" tIns="36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" name="Group 4"/>
          <p:cNvGrpSpPr/>
          <p:nvPr/>
        </p:nvGrpSpPr>
        <p:grpSpPr>
          <a:xfrm>
            <a:off x="1187280" y="3213000"/>
            <a:ext cx="5372280" cy="2400480"/>
            <a:chOff x="1187280" y="3213000"/>
            <a:chExt cx="5372280" cy="2400480"/>
          </a:xfrm>
        </p:grpSpPr>
        <p:sp>
          <p:nvSpPr>
            <p:cNvPr id="75" name="AutoShape 8"/>
            <p:cNvSpPr/>
            <p:nvPr/>
          </p:nvSpPr>
          <p:spPr>
            <a:xfrm>
              <a:off x="1187280" y="3213000"/>
              <a:ext cx="5372280" cy="240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Oval 7"/>
            <p:cNvSpPr/>
            <p:nvPr/>
          </p:nvSpPr>
          <p:spPr>
            <a:xfrm>
              <a:off x="2901960" y="3441600"/>
              <a:ext cx="1942920" cy="1828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Rectangle 6"/>
            <p:cNvSpPr/>
            <p:nvPr/>
          </p:nvSpPr>
          <p:spPr>
            <a:xfrm>
              <a:off x="3244320" y="3670200"/>
              <a:ext cx="1257840" cy="1371960"/>
            </a:xfrm>
            <a:prstGeom prst="rect">
              <a:avLst/>
            </a:prstGeom>
            <a:solidFill>
              <a:srgbClr val="ffffff"/>
            </a:solidFill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Oval 5"/>
            <p:cNvSpPr/>
            <p:nvPr/>
          </p:nvSpPr>
          <p:spPr>
            <a:xfrm>
              <a:off x="3244320" y="3670200"/>
              <a:ext cx="1257840" cy="1371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" name="Rectangle 10"/>
          <p:cNvSpPr/>
          <p:nvPr/>
        </p:nvSpPr>
        <p:spPr>
          <a:xfrm>
            <a:off x="685800" y="24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Object 4"/>
          <p:cNvGraphicFramePr/>
          <p:nvPr/>
        </p:nvGraphicFramePr>
        <p:xfrm>
          <a:off x="318960" y="406440"/>
          <a:ext cx="9014040" cy="5065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8960" y="406440"/>
                    <a:ext cx="9014040" cy="506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5"/>
          <p:cNvSpPr/>
          <p:nvPr/>
        </p:nvSpPr>
        <p:spPr>
          <a:xfrm>
            <a:off x="250920" y="48600"/>
            <a:ext cx="8475480" cy="588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#programa: calcula area y perimetro de anil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#obtener lado del cuadr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=input(“lado cuadrado?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#calcular valores de los rad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=a/2.0 #radio del círculo men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=math.sqrt(2)*a/2 #radio del círculo may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#calcular y mostrar result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 “área=“, area(R)-area(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 “perímetro=”, perimetro(R)+perimetro(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r del programa es distinta del parámetro r de las funciones (que “mueren” al terminar la función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r (con minúscula) es distinta de R (con mayúscul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Object 4"/>
          <p:cNvGraphicFramePr/>
          <p:nvPr/>
        </p:nvGraphicFramePr>
        <p:xfrm>
          <a:off x="468360" y="182520"/>
          <a:ext cx="8331120" cy="6675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82520"/>
                    <a:ext cx="8331120" cy="667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Object 4"/>
          <p:cNvGraphicFramePr/>
          <p:nvPr/>
        </p:nvGraphicFramePr>
        <p:xfrm>
          <a:off x="711360" y="739800"/>
          <a:ext cx="7924680" cy="5283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1360" y="739800"/>
                    <a:ext cx="7924680" cy="528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Object 2"/>
          <p:cNvGraphicFramePr/>
          <p:nvPr/>
        </p:nvGraphicFramePr>
        <p:xfrm>
          <a:off x="539640" y="620640"/>
          <a:ext cx="8404200" cy="5602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620640"/>
                    <a:ext cx="8404200" cy="560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Object 2"/>
          <p:cNvGraphicFramePr/>
          <p:nvPr/>
        </p:nvGraphicFramePr>
        <p:xfrm>
          <a:off x="623880" y="550800"/>
          <a:ext cx="8229600" cy="5545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3880" y="550800"/>
                    <a:ext cx="8229600" cy="554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Object 2"/>
          <p:cNvGraphicFramePr/>
          <p:nvPr/>
        </p:nvGraphicFramePr>
        <p:xfrm>
          <a:off x="682560" y="479520"/>
          <a:ext cx="7967880" cy="6457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2560" y="479520"/>
                    <a:ext cx="7967880" cy="645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Object 4"/>
          <p:cNvGraphicFramePr/>
          <p:nvPr/>
        </p:nvGraphicFramePr>
        <p:xfrm>
          <a:off x="668160" y="479520"/>
          <a:ext cx="8331480" cy="6429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8160" y="479520"/>
                    <a:ext cx="8331480" cy="642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Object 4"/>
          <p:cNvGraphicFramePr/>
          <p:nvPr/>
        </p:nvGraphicFramePr>
        <p:xfrm>
          <a:off x="581040" y="479520"/>
          <a:ext cx="8447040" cy="6762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1040" y="479520"/>
                    <a:ext cx="8447040" cy="676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Object 4"/>
          <p:cNvGraphicFramePr/>
          <p:nvPr/>
        </p:nvGraphicFramePr>
        <p:xfrm>
          <a:off x="668160" y="479520"/>
          <a:ext cx="8258400" cy="6022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8160" y="479520"/>
                    <a:ext cx="8258400" cy="60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3:05:30Z</dcterms:created>
  <dc:creator>J.A. Pino</dc:creator>
  <dc:description/>
  <dc:language>en-US</dc:language>
  <cp:lastModifiedBy>jpino</cp:lastModifiedBy>
  <cp:lastPrinted>2006-03-14T15:11:26Z</cp:lastPrinted>
  <dcterms:modified xsi:type="dcterms:W3CDTF">2011-03-09T19:07:20Z</dcterms:modified>
  <cp:revision>81</cp:revision>
  <dc:subject/>
  <dc:title>Sin título de diapositiva</dc:title>
</cp:coreProperties>
</file>