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39440"/>
            <a:ext cx="49417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D1B5-8C75-424C-B3BF-3C77F504D92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19E8-25EA-4B86-846D-18E10646C3E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3 Marcador de encabezado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5 Marcador de número de diapositiva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86D5-CF18-4D06-9870-F54CB011256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1F4E-3A94-403B-9E82-22AFC86EDAD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839-131E-4730-AB3D-82B2F9EF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8AF-1220-4112-8658-00104916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B949-435A-47D5-A700-C5EC1BC9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C0D9-8685-4EA9-9F07-868CE9A1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7D36-CE82-47E7-93D1-FF6C40BC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4BFE-1B3C-4888-B1A7-9245533F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7DF8-BD0D-486B-9833-03ADFB4B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5B30-C947-4203-A1B5-28567DAA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432-558D-46C2-A6BC-0AD1C0F5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922-A55A-4939-91FF-9D90B06E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F717-1776-4093-A62D-A0A86456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991D-F152-4A8D-8CE0-C24136B6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D60C-3AB2-45B5-9FFF-65FE8A22E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79280" y="333360"/>
            <a:ext cx="896472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Escribir un programa que lea un número entero de dos dígitos, y escriba como resultado el número invert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specíficamente el diálogo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gresar un 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o de 2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ertido=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1187280" y="3213000"/>
            <a:ext cx="5372280" cy="2400480"/>
            <a:chOff x="1187280" y="3213000"/>
            <a:chExt cx="5372280" cy="2400480"/>
          </a:xfrm>
        </p:grpSpPr>
        <p:sp>
          <p:nvSpPr>
            <p:cNvPr id="75" name="AutoShape 8"/>
            <p:cNvSpPr/>
            <p:nvPr/>
          </p:nvSpPr>
          <p:spPr>
            <a:xfrm>
              <a:off x="1187280" y="3213000"/>
              <a:ext cx="5372280" cy="24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7"/>
            <p:cNvSpPr/>
            <p:nvPr/>
          </p:nvSpPr>
          <p:spPr>
            <a:xfrm>
              <a:off x="2901960" y="34416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6"/>
            <p:cNvSpPr/>
            <p:nvPr/>
          </p:nvSpPr>
          <p:spPr>
            <a:xfrm>
              <a:off x="3244320" y="36702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5"/>
            <p:cNvSpPr/>
            <p:nvPr/>
          </p:nvSpPr>
          <p:spPr>
            <a:xfrm>
              <a:off x="3244320" y="36702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10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250920" y="4860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68360" y="182520"/>
          <a:ext cx="83311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2520"/>
                    <a:ext cx="83311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.A. Pino</dc:creator>
  <dc:description/>
  <dc:language>en-US</dc:language>
  <cp:lastModifiedBy>jpino</cp:lastModifiedBy>
  <cp:lastPrinted>2006-03-14T15:11:26Z</cp:lastPrinted>
  <dcterms:modified xsi:type="dcterms:W3CDTF">2011-03-09T19:07:20Z</dcterms:modified>
  <cp:revision>81</cp:revision>
  <dc:subject/>
  <dc:title>Sin título de diapositiva</dc:title>
</cp:coreProperties>
</file>