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92F1-B286-4A90-8AD6-6CBF4079F7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9365-EDD5-4A4C-9D5B-37DA054888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3343-A669-40E2-89CC-7185090C52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99F-5610-4CC3-9731-002045D2CB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6393-AEAF-495B-9DB3-8C102E5CD9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33FC-8BA8-4A26-8F24-3C463CC51C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9084-49CD-4A7D-BDE7-7307384A02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A0E7-FE6B-478B-8844-0E062F9D1F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6F07-ACDF-48CB-9599-A076986BDF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491E-0BCE-41E9-81A2-05C1F9B3E4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AC08-2634-4A6A-B834-DBA420DF08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D7A1-6F40-49D9-9403-0EDFFF5F34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E75-9BE4-486E-9588-3ABF55CE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9DA-6885-4F6C-8399-0FF2E6E3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061-E8F0-4F90-AC48-609E3FEA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EEE-3862-41DE-92D1-D7C2127D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C3B-3002-413C-8614-B6853AE4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CCB-21CD-4DD3-9771-CEDB63A9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61A-EEB9-456E-81CF-1963358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FBC-2399-455C-B57F-853F9B19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DFF-A74C-4F4B-8D22-311D02D4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81-E997-4474-8AB8-15C6EAE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1C1-1BB3-4CBD-9FAC-D6D791A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7CE-5411-4B2D-B0AE-6F71D8C7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3BDF-8315-4249-BA0D-265191437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4:31:41Z</dcterms:modified>
  <cp:revision>95</cp:revision>
  <dc:subject/>
  <dc:title>Sin título de diapositiva</dc:title>
</cp:coreProperties>
</file>