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6600" y="0"/>
            <a:ext cx="29606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A2524-70C0-46C7-ABFF-3C63081ECBD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A55DF-962D-48DB-A00F-A4E74920907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D4783-980A-4714-9026-EEFDBD1A5CF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9A5B-CCAF-4B47-AE5B-6FF0E3F6391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F6861-A7CD-42F3-B751-F84A6FF6A1E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D2462-CA4D-4640-86A5-06A05C7785E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51F60-E56D-4F46-803C-E89BC3BCB97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317E1-5763-49B8-A458-7D424D597F6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88B3F-5B1A-402B-878A-CB35AA7A584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14D7E-1012-4409-83C2-7E403F3AE36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6300B-AAA3-4199-8ED5-919B09FAFB7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846600" y="9420120"/>
            <a:ext cx="29606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EB837-058B-47A8-8F97-8CF3AE4C8A0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78040" y="7318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87400" y="4709880"/>
            <a:ext cx="4957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0D0A-7E8A-452F-841A-CC74806E0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5C11-B6D4-4CCC-AF13-8B5E88E00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21F8-C8FE-4D0E-840D-D7C60459A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538B-783C-4548-AAF8-A8032B2FB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2E22-3BDB-4ECF-A2F2-A29911F35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9775-79D9-4C42-81D6-DD820127B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3713-D1CB-4429-BB96-5E8A25CDF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87A2-DB88-41A3-B50A-5769B566C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E113-E8DE-4B2B-87DE-25E7A0480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2F69-BF5E-4536-A7C2-91D75722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78B4-7E72-45CD-BB4A-86F822D8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B604-6C3E-4FF8-8DD0-A5B0C5A1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266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524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9076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09C2C-6AE5-4215-807B-F3D87E4B5E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542880" y="655560"/>
          <a:ext cx="8205840" cy="598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2880" y="655560"/>
                    <a:ext cx="8205840" cy="598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431640" y="371520"/>
          <a:ext cx="8737920" cy="780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371520"/>
                    <a:ext cx="8737920" cy="780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4"/>
          <p:cNvGraphicFramePr/>
          <p:nvPr/>
        </p:nvGraphicFramePr>
        <p:xfrm>
          <a:off x="371520" y="407880"/>
          <a:ext cx="8759880" cy="779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520" y="407880"/>
                    <a:ext cx="8759880" cy="779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4"/>
          <p:cNvGraphicFramePr/>
          <p:nvPr/>
        </p:nvGraphicFramePr>
        <p:xfrm>
          <a:off x="519120" y="493560"/>
          <a:ext cx="8291520" cy="756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493560"/>
                    <a:ext cx="8291520" cy="756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2"/>
          <p:cNvGraphicFramePr/>
          <p:nvPr/>
        </p:nvGraphicFramePr>
        <p:xfrm>
          <a:off x="469800" y="407880"/>
          <a:ext cx="8426520" cy="584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07880"/>
                    <a:ext cx="8426520" cy="584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469800" y="482760"/>
          <a:ext cx="8588520" cy="695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88520" cy="695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4"/>
          <p:cNvGraphicFramePr/>
          <p:nvPr/>
        </p:nvGraphicFramePr>
        <p:xfrm>
          <a:off x="469800" y="482760"/>
          <a:ext cx="8562960" cy="696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62960" cy="69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469800" y="482760"/>
          <a:ext cx="8514000" cy="7018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14000" cy="701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4"/>
          <p:cNvGraphicFramePr/>
          <p:nvPr/>
        </p:nvGraphicFramePr>
        <p:xfrm>
          <a:off x="469800" y="482760"/>
          <a:ext cx="8612280" cy="777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612280" cy="777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4"/>
          <p:cNvGraphicFramePr/>
          <p:nvPr/>
        </p:nvGraphicFramePr>
        <p:xfrm>
          <a:off x="469800" y="482760"/>
          <a:ext cx="8612280" cy="777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612280" cy="777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395280" y="395280"/>
          <a:ext cx="8637480" cy="768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95280"/>
                    <a:ext cx="8637480" cy="768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444600" y="457200"/>
          <a:ext cx="8663040" cy="622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57200"/>
                    <a:ext cx="8663040" cy="62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Lenguaje Python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gener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341000"/>
            <a:ext cx="8062920" cy="4754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 fontScale="97000"/>
          </a:bodyPr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pirado en idioma inglé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print,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notación matemá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presiones: 100.0*h/(h+m), p-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unciones: input(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ntaxis (gramática, escritura) reglamen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da instrucción en una lí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con significados especiales (input, pr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minúsculas (salvo casos espe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mántica (interpretación) precisa (sin ambigüeda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con significado/efecto bien defi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4"/>
          <p:cNvGraphicFramePr/>
          <p:nvPr/>
        </p:nvGraphicFramePr>
        <p:xfrm>
          <a:off x="766800" y="839880"/>
          <a:ext cx="7783560" cy="509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839880"/>
                    <a:ext cx="7783560" cy="50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5"/>
          <p:cNvSpPr/>
          <p:nvPr/>
        </p:nvSpPr>
        <p:spPr>
          <a:xfrm>
            <a:off x="179280" y="473040"/>
            <a:ext cx="8640720" cy="34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= inpu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úmero desde el teclado y lo guarda en la variabl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t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riable = inpu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án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º y lo guarda en la variable indic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444600" y="482760"/>
          <a:ext cx="8526240" cy="6511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82760"/>
                    <a:ext cx="8526240" cy="65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324000" y="1007640"/>
            <a:ext cx="8569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ón que lee un nº desde el teclado y lo entrega como resul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mánt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pera que el usuario ingrese un número (dígitos y e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(obtiene) el nú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ga el número como resul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617400" y="531720"/>
          <a:ext cx="8317080" cy="821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531720"/>
                    <a:ext cx="8317080" cy="821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9:55:34Z</dcterms:created>
  <dc:creator>J.A. Pino</dc:creator>
  <dc:description/>
  <dc:language>en-US</dc:language>
  <cp:lastModifiedBy>jpino</cp:lastModifiedBy>
  <cp:lastPrinted>2006-03-07T16:10:21Z</cp:lastPrinted>
  <dcterms:modified xsi:type="dcterms:W3CDTF">2011-03-07T14:31:41Z</dcterms:modified>
  <cp:revision>95</cp:revision>
  <dc:subject/>
  <dc:title>Sin título de diapositiva</dc:title>
</cp:coreProperties>
</file>