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73F9-E935-4B0D-8F59-8C19AEBB65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F070-ED78-411C-95CB-C590BECEAB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DFF1-10EC-49E8-AEDF-7497D413EA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E2AA-228A-4B5C-9F31-408CE4E3EA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55EF-244C-4329-8399-93D9397E7D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A84C-FB7D-4EC2-AD47-9073F891F80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C946-9E0E-45DE-ABF7-FAAD072DF5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C75A-6847-44F3-A886-F209B26242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77C0-613E-4254-A391-085EAFD371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826A-665C-4B09-B170-0D370D5057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B06F-AA90-4B5C-98AE-EA86E64E97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9D80-8F37-4709-B4C5-DBD40C2B46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5D1-B84B-45DD-BAB5-F3D6821D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DE2-98AE-4BD4-91F4-2F6F5B2F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968-F5D1-4791-AE85-D9554275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203-7952-4703-B432-6AB14BD8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F67-1300-418E-896B-4306D7C0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ED0-8646-490A-9154-855AD554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F27-D24F-4E98-86F2-881E5E82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300-D4DE-449B-94BF-A71DC044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63E-CF15-411C-ABFC-3B25B00C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5BB-47A7-453C-96A1-1E7F9192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B3D-8DDB-42C2-97C8-097D472A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1608-12FC-4B1B-9F76-14B8187E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9BFC-DB9F-4FF9-840E-D99AEF5B1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.A. Pino</dc:creator>
  <dc:description/>
  <dc:language>en-US</dc:language>
  <cp:lastModifiedBy>jpino</cp:lastModifiedBy>
  <cp:lastPrinted>2006-03-07T16:10:21Z</cp:lastPrinted>
  <dcterms:modified xsi:type="dcterms:W3CDTF">2011-03-07T14:31:41Z</dcterms:modified>
  <cp:revision>95</cp:revision>
  <dc:subject/>
  <dc:title>Sin título de diapositiva</dc:title>
</cp:coreProperties>
</file>