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FE6-D36B-45D5-9F02-CD999E7A3B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CE99-BA26-4854-AD63-BB2BE235B0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323-0C52-4F15-8823-AA829553C8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ECDF-2234-4A0E-AA52-1E0B0BA4DD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819-39E1-406A-882D-0AF2C1BF2D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13F-9587-4930-B39B-86FA90E0CC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AD9-C3B9-4A55-8C54-7D3B8D8A4A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729A-5826-4EE3-9636-9B9EFC8614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4F4-7C63-4B99-BE8F-EE8971F38F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8DB-7C71-41DF-8392-92A259BD61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FA5-AED8-4629-AED0-C4B29CE339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286A-842F-4A58-A213-A7AC13D93B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404-7B68-4838-8FD3-3FF1C20D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266-14DE-4F30-AD3D-F4E81762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10E-3BF0-4BB5-A92E-1BD470C1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C97-7795-4B23-AC09-513C3DC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FEF-22B5-4446-AEEA-3B4AB71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5EA-FCBA-4B7B-89CE-2772D23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E1D-8AC1-47CC-8881-D4817E0E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A58-32F0-47F9-8C34-A550D35E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A99-9BAC-4D20-A776-56B653E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925-8E9C-4CE2-8B8C-09932DE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5C9-4532-430A-BBF9-CD7447A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FF7-BFC0-43F9-8321-6E3274A3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FF6-2A17-4764-B65C-2D383DC4C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4:31:41Z</dcterms:modified>
  <cp:revision>95</cp:revision>
  <dc:subject/>
  <dc:title>Sin título de diapositiva</dc:title>
</cp:coreProperties>
</file>