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6578-CAD6-4F4B-8726-3A4DEC075B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5291-02EA-4256-820F-D89DDB3F6A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E6E3-B44F-4FA6-8A6F-841E16845D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BA5F-153C-4E20-AC68-CC612C1C4F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21A7-C1EB-4073-8893-601F4109DD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7527-B3D2-4EE9-937F-A977055542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2123-130D-47E4-A03F-4A68E32D6F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49CD-AE85-49EF-85E7-624CC929FC5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5B04-AECC-4EBE-9713-A00EE5C9EF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3DE-D501-4E81-BCEE-118376AD95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7982-FA3D-453E-8831-ABEAF72477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3221-D37A-49BD-9746-B8727E65C6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5BB-95A8-46F1-A379-F79B77CC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C80-5196-4763-8887-D7DE2E88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00A-819E-4BD9-90F3-10F933E1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CC6-73D3-4ACE-8C2C-105E5EEB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124-28BB-48BF-A380-D8F0CE7F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1BF-2C70-4B3C-80A5-DC6269D1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2A9-BE39-4CD5-804B-B05D8379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74D-7BF2-4D08-84DE-9B004E01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AF7-6258-44DA-9BFD-F522C030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5EF-212F-419C-AA16-C03963B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193-6766-41CB-A8E1-73C79361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66A-4A50-4711-929F-0B4EF621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B297-1080-4033-B57D-97CBA2160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.A. Pino</dc:creator>
  <dc:description/>
  <dc:language>en-US</dc:language>
  <cp:lastModifiedBy>jpino</cp:lastModifiedBy>
  <cp:lastPrinted>2006-03-07T16:10:21Z</cp:lastPrinted>
  <dcterms:modified xsi:type="dcterms:W3CDTF">2011-03-07T14:31:41Z</dcterms:modified>
  <cp:revision>95</cp:revision>
  <dc:subject/>
  <dc:title>Sin título de diapositiva</dc:title>
</cp:coreProperties>
</file>