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F626-5920-473F-908D-629219FCAE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C24F-E40C-4A9E-BD63-137D2E466D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1F5-6CFF-4730-9575-321A353AE4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2A1-7CB1-4DD2-8D58-8B93F97B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248-8662-4168-B8B9-A6B7C72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842-346A-479B-B0CC-AA96D6F1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D36-B2A8-45F2-95C3-04219D13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400-CEB8-4E93-87C7-EDFCB007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511-DC7B-4D88-9A1E-53CDA32C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C41-666C-410E-8681-78335C85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639-9A23-4D42-9739-93F2FEE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2C2-0270-4190-B6C6-D471A391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EB0-8687-47DC-9D98-17999937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3CB-D9E5-4954-9849-944642DB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C6E-4F6A-42DE-AD42-F6A6C12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72E8-D1CE-4A60-A456-406644B41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lson Baloian, 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{nbaloian,jpino}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Tercer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68360" y="1628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. Lutz: Learning Python. Fourth edition. O’Reilly Publishers,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. Downey: Think Python. Green Tea Press,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. van Rossum: Python Tutorial. Python Labs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1-03-04T12:06:04Z</dcterms:modified>
  <cp:revision>33</cp:revision>
  <dc:subject/>
  <dc:title>datos generales curso</dc:title>
</cp:coreProperties>
</file>