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F81C-362B-44D1-A5F8-84B0DB5564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E698-A46A-46EC-AE7D-20ADE652E3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FC97-B878-4B6F-B1AC-2DE196E413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8B8-8287-494A-9D11-A9EBF77E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3B0-7CA1-4953-87F8-18EF8756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790-4128-4802-B249-CB60891C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DEF-B244-4DD9-937F-31BCF26D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8FC-F972-4FB9-A895-9D7918B0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804-9099-4988-9B38-EF09A9B5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A70-FABD-4455-9536-46F96FAA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7EA-19A6-4CDF-95C8-DC171E4E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144-DE7C-4E2A-9898-787E3897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610-59D5-4108-BF87-14E6033B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C85-691F-4FC4-9A16-EBC2BA63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406-5E60-468E-941F-ECB1602A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2144-B683-485E-8DFE-78C8CA88F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9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elson Baloian, José Alberto P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{nbaloian,jpino}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lanco 2120, Tercer P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68360" y="1628640"/>
            <a:ext cx="8207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. Lutz: Learning Python. Fourth edition. O’Reilly Publishers, 20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. Downey: Think Python. Green Tea Press, 20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G. van Rossum: Python Tutorial. Python Labs,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pino</dc:creator>
  <dc:description/>
  <dc:language>en-US</dc:language>
  <cp:lastModifiedBy>jpino</cp:lastModifiedBy>
  <cp:lastPrinted>2006-03-02T13:33:10Z</cp:lastPrinted>
  <dcterms:modified xsi:type="dcterms:W3CDTF">2011-03-04T12:06:04Z</dcterms:modified>
  <cp:revision>33</cp:revision>
  <dc:subject/>
  <dc:title>datos generales curso</dc:title>
</cp:coreProperties>
</file>