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6654-0BB5-4E92-B167-FA97AA8747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2BC2-2ECB-4FFB-A4C8-A68A35E0CB7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ED78-B210-4BAD-AEFD-CB08E45CC5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A0C-FEBE-42E9-AD68-4A39912D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4D2-2391-427A-9BCD-54D782B5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5C4-7910-441D-926A-EF13ED77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E19-6A56-44A0-A951-3B757057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6AB-265F-4A65-B1E4-2118A417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042-5561-4CB3-8ED5-749135E9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EB2-0F75-4863-B679-33D4DB2E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000-BED9-4C0E-8A42-FAFE2199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D57-2CB9-467B-B898-BA89F178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520-56D0-4924-A116-6235B3B7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CF2-47BF-41A4-94D3-E5147B93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C6B-8ED6-4CA6-8C52-3F8A89E4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D632-4E3E-4AB0-A8CC-4EDF68CEA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9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elson Baloian, José Alberto P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{nbaloian,jpino}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lanco 2120, Tercer P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68360" y="1628640"/>
            <a:ext cx="8207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. Lutz: Learning Python. Fourth edition. O’Reilly Publishers, 20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. Downey: Think Python. Green Tea Press, 20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G. van Rossum: Python Tutorial. Python Labs,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pino</dc:creator>
  <dc:description/>
  <dc:language>en-US</dc:language>
  <cp:lastModifiedBy>jpino</cp:lastModifiedBy>
  <cp:lastPrinted>2006-03-02T13:33:10Z</cp:lastPrinted>
  <dcterms:modified xsi:type="dcterms:W3CDTF">2011-03-04T12:06:04Z</dcterms:modified>
  <cp:revision>33</cp:revision>
  <dc:subject/>
  <dc:title>datos generales curso</dc:title>
</cp:coreProperties>
</file>