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17B5-F02E-4B9B-8255-00640DDE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F7EF-FA27-40B7-92F9-62B588B0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7CF-1F21-4F5F-BBBE-076D1612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C6A6-929D-4779-AB53-44048BE5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082E-8EE0-435B-A352-61FCB563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200D-F7EC-45A0-8CA7-E03BA174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A60A-D77C-47CB-A78A-DAEFF7B7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0A1-6A36-4ACB-8A05-356C87BD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28BE-A61D-4C20-80D9-E0E1DE2D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6CCF-18ED-42D6-9740-88171D94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10A8-DBC5-4772-B0F3-2EDFA586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CE0D-9FAE-4837-854D-B655C2D9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728F-9718-406F-9CE1-B60F48EB14D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  <a:ea typeface="Calibri"/>
              </a:rPr>
              <a:t>Análisis de Flujos Metabóli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4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La resolución de este simple sistema se podría hacer mediante cálculos manuales, pero esto no es posible en todos los casos y no es recomendable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En vez de esto, se utiliza una aproximación matricial, en el cual las reacciones son tratadas utilizando álgebra line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7 CuadroTexto"/>
          <p:cNvSpPr/>
          <p:nvPr/>
        </p:nvSpPr>
        <p:spPr>
          <a:xfrm>
            <a:off x="755640" y="3573360"/>
            <a:ext cx="7848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  <a:ea typeface="Calibri"/>
              </a:rPr>
              <a:t>Así, definimos 3 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Calibri"/>
                <a:ea typeface="Calibri"/>
              </a:rPr>
              <a:t>Matriz estequiométrica 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  <a:ea typeface="Calibri"/>
              </a:rPr>
              <a:t>Vector de flujos en estado estacionario 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  <a:ea typeface="Calibri"/>
              </a:rPr>
              <a:t>Vector de flujos medibles 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atriz de coeficientes estequiométr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32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284120" y="1781280"/>
            <a:ext cx="678204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.S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P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P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P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M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M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M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ción 1 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2    0     0     0    1    0     0    0     0      0      0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ción 2   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-2     0     0    0    0     1    0     0      0      0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ción 3   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0    -1     0    0    0     1    0     0      0      0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0    0     0     0    0    0     0    0     1      0      0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0    0    -1     0    0    0     0    0     0      1      0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0    0     0     0    0    0     0    1     -1     0      1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0    0     0    -1    0    1     0    0     0      0      0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0    0     0     0    0    0     0    0     0      -1    -1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ción J   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   0     0     0    1    0     0    0     0      0      0    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7"/>
          <p:cNvSpPr/>
          <p:nvPr/>
        </p:nvSpPr>
        <p:spPr>
          <a:xfrm>
            <a:off x="2732040" y="2162160"/>
            <a:ext cx="4495680" cy="3505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jemplo 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Line 61"/>
          <p:cNvSpPr/>
          <p:nvPr/>
        </p:nvSpPr>
        <p:spPr>
          <a:xfrm>
            <a:off x="198108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70"/>
          <p:cNvGrpSpPr/>
          <p:nvPr/>
        </p:nvGrpSpPr>
        <p:grpSpPr>
          <a:xfrm>
            <a:off x="838080" y="2057400"/>
            <a:ext cx="7848720" cy="4643640"/>
            <a:chOff x="838080" y="2057400"/>
            <a:chExt cx="7848720" cy="4643640"/>
          </a:xfrm>
        </p:grpSpPr>
        <p:sp>
          <p:nvSpPr>
            <p:cNvPr id="77" name="Text Box 60"/>
            <p:cNvSpPr/>
            <p:nvPr/>
          </p:nvSpPr>
          <p:spPr>
            <a:xfrm>
              <a:off x="838080" y="2057400"/>
              <a:ext cx="7848720" cy="464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ustrato 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s-ES" sz="1800" spc="-1" strike="noStrike" baseline="-30000">
                  <a:solidFill>
                    <a:srgbClr val="000000"/>
                  </a:solidFill>
                  <a:latin typeface="Calibri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Metabolito Intracelular 1 (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s-ES" sz="1800" spc="-1" strike="noStrike" baseline="-30000">
                  <a:solidFill>
                    <a:srgbClr val="000000"/>
                  </a:solidFill>
                  <a:latin typeface="Calibri"/>
                  <a:ea typeface="Times New Roman"/>
                </a:rPr>
                <a:t>2</a:t>
              </a:r>
              <a:r>
                <a:rPr b="1" lang="es-ES_tradnl" sz="1800" spc="-1" strike="noStrike" baseline="-30000">
                  <a:solidFill>
                    <a:srgbClr val="000000"/>
                  </a:solidFill>
                  <a:latin typeface="Calibri"/>
                  <a:ea typeface="Times New Roman"/>
                </a:rPr>
                <a:t>	</a:t>
              </a:r>
              <a:r>
                <a:rPr b="1" lang="es-ES_tradnl" sz="1800" spc="-1" strike="noStrike" baseline="-30000">
                  <a:solidFill>
                    <a:srgbClr val="000000"/>
                  </a:solidFill>
                  <a:latin typeface="Calibri"/>
                  <a:ea typeface="Times New Roman"/>
                </a:rPr>
                <a:t>	</a:t>
              </a:r>
              <a:r>
                <a:rPr b="1" lang="es-ES_tradnl" sz="1800" spc="-1" strike="noStrike" baseline="-30000">
                  <a:solidFill>
                    <a:srgbClr val="000000"/>
                  </a:solidFill>
                  <a:latin typeface="Calibri"/>
                  <a:ea typeface="Times New Roman"/>
                </a:rPr>
                <a:t>	</a:t>
              </a:r>
              <a:r>
                <a:rPr b="1" lang="es-ES_tradnl" sz="1800" spc="-1" strike="noStrike" baseline="-30000">
                  <a:solidFill>
                    <a:srgbClr val="000000"/>
                  </a:solidFill>
                  <a:latin typeface="Calibri"/>
                  <a:ea typeface="Times New Roman"/>
                </a:rPr>
                <a:t>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s-ES" sz="1800" spc="-1" strike="noStrike" baseline="-30000">
                  <a:solidFill>
                    <a:srgbClr val="000000"/>
                  </a:solidFill>
                  <a:latin typeface="Calibri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Me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tabolito Intracelular 2 (B)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	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	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	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Producto 1 (P1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	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s-ES" sz="1800" spc="-1" strike="noStrike" baseline="-30000">
                  <a:solidFill>
                    <a:srgbClr val="000000"/>
                  </a:solidFill>
                  <a:latin typeface="Calibri"/>
                  <a:ea typeface="Times New Roman"/>
                </a:rPr>
                <a:t>4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	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	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	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	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	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Metabolito Intracelular 3 (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s-ES" sz="1800" spc="-1" strike="noStrike" baseline="-30000">
                  <a:solidFill>
                    <a:srgbClr val="000000"/>
                  </a:solidFill>
                  <a:latin typeface="Calibri"/>
                  <a:ea typeface="Times New Roman"/>
                </a:rPr>
                <a:t>5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	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s-ES" sz="1800" spc="-1" strike="noStrike" baseline="-30000">
                  <a:solidFill>
                    <a:srgbClr val="000000"/>
                  </a:solidFill>
                  <a:latin typeface="Calibri"/>
                  <a:ea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roducto 2 (P2)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roducto 3 (P3)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           </a:t>
              </a:r>
              <a:r>
                <a:rPr b="1" lang="es-E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62"/>
            <p:cNvSpPr/>
            <p:nvPr/>
          </p:nvSpPr>
          <p:spPr>
            <a:xfrm>
              <a:off x="1981080" y="3200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63"/>
            <p:cNvSpPr/>
            <p:nvPr/>
          </p:nvSpPr>
          <p:spPr>
            <a:xfrm>
              <a:off x="1981080" y="4038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64"/>
            <p:cNvSpPr/>
            <p:nvPr/>
          </p:nvSpPr>
          <p:spPr>
            <a:xfrm flipH="1">
              <a:off x="1632240" y="4853520"/>
              <a:ext cx="316800" cy="5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65"/>
            <p:cNvSpPr/>
            <p:nvPr/>
          </p:nvSpPr>
          <p:spPr>
            <a:xfrm>
              <a:off x="2895480" y="487692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66"/>
            <p:cNvSpPr/>
            <p:nvPr/>
          </p:nvSpPr>
          <p:spPr>
            <a:xfrm>
              <a:off x="4191120" y="38862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Rectangle 69"/>
          <p:cNvSpPr/>
          <p:nvPr/>
        </p:nvSpPr>
        <p:spPr>
          <a:xfrm>
            <a:off x="755640" y="1628640"/>
            <a:ext cx="7632720" cy="46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Reac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1523880" y="1676520"/>
            <a:ext cx="5943600" cy="53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18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.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18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.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18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3.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</a:t>
            </a:r>
            <a:r>
              <a:rPr b="1" lang="es-ES" sz="18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18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4.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18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5.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</a:t>
            </a:r>
            <a:r>
              <a:rPr b="1" lang="es-ES" sz="18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18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6.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</a:t>
            </a:r>
            <a:r>
              <a:rPr b="1" lang="es-ES" sz="18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2819520" y="2286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2819520" y="3048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2819520" y="38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6"/>
          <p:cNvSpPr/>
          <p:nvPr/>
        </p:nvSpPr>
        <p:spPr>
          <a:xfrm>
            <a:off x="281952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2819520" y="5562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2819520" y="6400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9" descr="Ejercicio 1"/>
          <p:cNvPicPr/>
          <p:nvPr/>
        </p:nvPicPr>
        <p:blipFill>
          <a:blip r:embed="rId1"/>
          <a:stretch/>
        </p:blipFill>
        <p:spPr>
          <a:xfrm>
            <a:off x="6372360" y="2637000"/>
            <a:ext cx="22222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alance Estado Estacionario para Metabolitos Intracelular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395280" y="1571760"/>
            <a:ext cx="8229600" cy="20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: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=    0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=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: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-     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3   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-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=    0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=     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3      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+   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: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  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5   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-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=    0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=     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5      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+   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" descr="Ejercicio 1"/>
          <p:cNvPicPr/>
          <p:nvPr/>
        </p:nvPicPr>
        <p:blipFill>
          <a:blip r:embed="rId1"/>
          <a:stretch/>
        </p:blipFill>
        <p:spPr>
          <a:xfrm>
            <a:off x="6986520" y="3645000"/>
            <a:ext cx="21574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triz de Coeficientes estequiométricos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-612720" y="1484280"/>
            <a:ext cx="845820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     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     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     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   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   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971640" y="2637000"/>
            <a:ext cx="6324480" cy="3200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8" descr="Ejercicio 1"/>
          <p:cNvPicPr/>
          <p:nvPr/>
        </p:nvPicPr>
        <p:blipFill>
          <a:blip r:embed="rId1"/>
          <a:stretch/>
        </p:blipFill>
        <p:spPr>
          <a:xfrm>
            <a:off x="7520040" y="4437000"/>
            <a:ext cx="16239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cuación de Balance Metabólico</a:t>
            </a: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09480" y="2362320"/>
            <a:ext cx="83059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      T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V : vector de flu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r : vector de flujos med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: matriz de coeficientes estequiométr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1523880" y="2286000"/>
            <a:ext cx="304920" cy="13716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cuación de Balance Metabólic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611280" y="1557360"/>
            <a:ext cx="815328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3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      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      -1            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      -1            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8"/>
          <p:cNvSpPr/>
          <p:nvPr/>
        </p:nvSpPr>
        <p:spPr>
          <a:xfrm>
            <a:off x="590400" y="1700280"/>
            <a:ext cx="381240" cy="26668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9"/>
          <p:cNvSpPr/>
          <p:nvPr/>
        </p:nvSpPr>
        <p:spPr>
          <a:xfrm>
            <a:off x="1332000" y="1628640"/>
            <a:ext cx="5333760" cy="2743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7020000" y="1484280"/>
            <a:ext cx="457200" cy="26668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395280" y="5157720"/>
            <a:ext cx="706932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6 incógnitas, 3 metabolitos en estado estacionari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3 grados de libertad, hay que medir 3 metabolit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-1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Calibri"/>
              </a:rPr>
              <a:t>p1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=  0.3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Calibri"/>
              </a:rPr>
              <a:t>p2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= 0.5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2" descr="Ejercicio 1"/>
          <p:cNvPicPr/>
          <p:nvPr/>
        </p:nvPicPr>
        <p:blipFill>
          <a:blip r:embed="rId1"/>
          <a:stretch/>
        </p:blipFill>
        <p:spPr>
          <a:xfrm>
            <a:off x="7421400" y="4292640"/>
            <a:ext cx="17226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cuación de Balance Metabólic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85800" y="2057400"/>
            <a:ext cx="815328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           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685800" y="2209680"/>
            <a:ext cx="380880" cy="26672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1447920" y="2133720"/>
            <a:ext cx="5333760" cy="2743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7086600" y="2133720"/>
            <a:ext cx="457200" cy="26668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cuación de Balance Metabólic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85800" y="2057400"/>
            <a:ext cx="815328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1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3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5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           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7164360" y="2060640"/>
            <a:ext cx="380880" cy="26668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447920" y="2133720"/>
            <a:ext cx="5333760" cy="2743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7956720" y="2133720"/>
            <a:ext cx="457200" cy="26668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  <a:ea typeface="Calibri"/>
              </a:rPr>
              <a:t>Flujos Metabóli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El flujo metabólico se define como la tasa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  <a:ea typeface="Calibri"/>
              </a:rPr>
              <a:t> o velocidad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a la que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  <a:ea typeface="Calibri"/>
              </a:rPr>
              <a:t>un sustrat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 se convierte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  <a:ea typeface="Calibri"/>
              </a:rPr>
              <a:t>en un producto ví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 reacciones y rutas metabólic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  <a:ea typeface="Calibri"/>
              </a:rPr>
              <a:t>Sustrato – Metabolito Intermedio - Produc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ad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0" y="1628640"/>
            <a:ext cx="3600360" cy="40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826920" y="1700280"/>
            <a:ext cx="609840" cy="3733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700360" y="1700280"/>
            <a:ext cx="660240" cy="3886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4356000" y="1557360"/>
            <a:ext cx="457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ustrato 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et Int 1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 Int 2 (B)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roducto 1 (P1)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0.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et Int 3 (C)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0.5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roducto 2 (P2)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Producto 3 (P3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4859280" y="18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4859280" y="2521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4859280" y="313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5940360" y="2997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7"/>
          <p:cNvSpPr/>
          <p:nvPr/>
        </p:nvSpPr>
        <p:spPr>
          <a:xfrm flipH="1">
            <a:off x="4859280" y="3716280"/>
            <a:ext cx="217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8"/>
          <p:cNvSpPr/>
          <p:nvPr/>
        </p:nvSpPr>
        <p:spPr>
          <a:xfrm>
            <a:off x="5219640" y="3716280"/>
            <a:ext cx="11527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Ejercicio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Group 82"/>
          <p:cNvGrpSpPr/>
          <p:nvPr/>
        </p:nvGrpSpPr>
        <p:grpSpPr>
          <a:xfrm>
            <a:off x="2486880" y="836640"/>
            <a:ext cx="4101120" cy="5761080"/>
            <a:chOff x="2486880" y="836640"/>
            <a:chExt cx="4101120" cy="5761080"/>
          </a:xfrm>
        </p:grpSpPr>
        <p:sp>
          <p:nvSpPr>
            <p:cNvPr id="140" name="Text Box 5"/>
            <p:cNvSpPr/>
            <p:nvPr/>
          </p:nvSpPr>
          <p:spPr>
            <a:xfrm>
              <a:off x="2556000" y="836640"/>
              <a:ext cx="4032000" cy="576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5551560" y="1071720"/>
              <a:ext cx="34596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7"/>
            <p:cNvSpPr/>
            <p:nvPr/>
          </p:nvSpPr>
          <p:spPr>
            <a:xfrm>
              <a:off x="3246480" y="1071720"/>
              <a:ext cx="34596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4514760" y="2247840"/>
              <a:ext cx="344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9"/>
            <p:cNvSpPr/>
            <p:nvPr/>
          </p:nvSpPr>
          <p:spPr>
            <a:xfrm>
              <a:off x="3592440" y="3540240"/>
              <a:ext cx="346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10"/>
            <p:cNvSpPr/>
            <p:nvPr/>
          </p:nvSpPr>
          <p:spPr>
            <a:xfrm>
              <a:off x="5551560" y="3540240"/>
              <a:ext cx="3459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1"/>
            <p:cNvSpPr/>
            <p:nvPr/>
          </p:nvSpPr>
          <p:spPr>
            <a:xfrm>
              <a:off x="2901960" y="4834080"/>
              <a:ext cx="344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12"/>
            <p:cNvSpPr/>
            <p:nvPr/>
          </p:nvSpPr>
          <p:spPr>
            <a:xfrm>
              <a:off x="4284720" y="4834080"/>
              <a:ext cx="344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13"/>
            <p:cNvSpPr/>
            <p:nvPr/>
          </p:nvSpPr>
          <p:spPr>
            <a:xfrm>
              <a:off x="2901960" y="6127920"/>
              <a:ext cx="34452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 flipH="1">
              <a:off x="3822840" y="2600280"/>
              <a:ext cx="576000" cy="9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5"/>
            <p:cNvSpPr/>
            <p:nvPr/>
          </p:nvSpPr>
          <p:spPr>
            <a:xfrm flipH="1">
              <a:off x="3131640" y="3894120"/>
              <a:ext cx="460440" cy="9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6"/>
            <p:cNvSpPr/>
            <p:nvPr/>
          </p:nvSpPr>
          <p:spPr>
            <a:xfrm>
              <a:off x="3938760" y="3894120"/>
              <a:ext cx="460080" cy="9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7"/>
            <p:cNvSpPr/>
            <p:nvPr/>
          </p:nvSpPr>
          <p:spPr>
            <a:xfrm>
              <a:off x="3068640" y="5186520"/>
              <a:ext cx="0" cy="9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8"/>
            <p:cNvSpPr/>
            <p:nvPr/>
          </p:nvSpPr>
          <p:spPr>
            <a:xfrm>
              <a:off x="4859280" y="2600280"/>
              <a:ext cx="692280" cy="9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 flipH="1">
              <a:off x="4858920" y="1424160"/>
              <a:ext cx="692280" cy="82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20"/>
            <p:cNvSpPr/>
            <p:nvPr/>
          </p:nvSpPr>
          <p:spPr>
            <a:xfrm>
              <a:off x="3592440" y="1424160"/>
              <a:ext cx="806400" cy="82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24"/>
            <p:cNvSpPr/>
            <p:nvPr/>
          </p:nvSpPr>
          <p:spPr>
            <a:xfrm>
              <a:off x="3938760" y="1424160"/>
              <a:ext cx="2300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25"/>
            <p:cNvSpPr/>
            <p:nvPr/>
          </p:nvSpPr>
          <p:spPr>
            <a:xfrm>
              <a:off x="2959200" y="1825560"/>
              <a:ext cx="46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Group 26"/>
            <p:cNvGrpSpPr/>
            <p:nvPr/>
          </p:nvGrpSpPr>
          <p:grpSpPr>
            <a:xfrm>
              <a:off x="3822840" y="1776240"/>
              <a:ext cx="166320" cy="706320"/>
              <a:chOff x="3822840" y="1776240"/>
              <a:chExt cx="166320" cy="706320"/>
            </a:xfrm>
          </p:grpSpPr>
          <p:sp>
            <p:nvSpPr>
              <p:cNvPr id="159" name="Freeform 27"/>
              <p:cNvSpPr/>
              <p:nvPr/>
            </p:nvSpPr>
            <p:spPr>
              <a:xfrm>
                <a:off x="3873960" y="1776240"/>
                <a:ext cx="115200" cy="5889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180" h="900">
                    <a:moveTo>
                      <a:pt x="0" y="0"/>
                    </a:moveTo>
                    <a:cubicBezTo>
                      <a:pt x="90" y="15"/>
                      <a:pt x="180" y="30"/>
                      <a:pt x="180" y="180"/>
                    </a:cubicBezTo>
                    <a:cubicBezTo>
                      <a:pt x="180" y="330"/>
                      <a:pt x="30" y="780"/>
                      <a:pt x="0" y="9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28"/>
              <p:cNvSpPr/>
              <p:nvPr/>
            </p:nvSpPr>
            <p:spPr>
              <a:xfrm flipH="1">
                <a:off x="3822840" y="2129400"/>
                <a:ext cx="115200" cy="35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Text Box 29"/>
            <p:cNvSpPr/>
            <p:nvPr/>
          </p:nvSpPr>
          <p:spPr>
            <a:xfrm>
              <a:off x="3478320" y="2444760"/>
              <a:ext cx="3729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30"/>
            <p:cNvSpPr/>
            <p:nvPr/>
          </p:nvSpPr>
          <p:spPr>
            <a:xfrm>
              <a:off x="5064120" y="1424160"/>
              <a:ext cx="2318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Group 31"/>
            <p:cNvGrpSpPr/>
            <p:nvPr/>
          </p:nvGrpSpPr>
          <p:grpSpPr>
            <a:xfrm>
              <a:off x="5256360" y="1658880"/>
              <a:ext cx="614160" cy="483840"/>
              <a:chOff x="5256360" y="1658880"/>
              <a:chExt cx="614160" cy="483840"/>
            </a:xfrm>
          </p:grpSpPr>
          <p:sp>
            <p:nvSpPr>
              <p:cNvPr id="164" name="Freeform 32"/>
              <p:cNvSpPr/>
              <p:nvPr/>
            </p:nvSpPr>
            <p:spPr>
              <a:xfrm>
                <a:off x="5256360" y="1658880"/>
                <a:ext cx="614160" cy="471240"/>
              </a:xfrm>
              <a:custGeom>
                <a:avLst/>
                <a:gdLst>
                  <a:gd name="textAreaLeft" fmla="*/ 0 w 614160"/>
                  <a:gd name="textAreaRight" fmla="*/ 614520 w 61416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960" h="720">
                    <a:moveTo>
                      <a:pt x="960" y="0"/>
                    </a:moveTo>
                    <a:cubicBezTo>
                      <a:pt x="540" y="30"/>
                      <a:pt x="120" y="60"/>
                      <a:pt x="60" y="180"/>
                    </a:cubicBezTo>
                    <a:cubicBezTo>
                      <a:pt x="0" y="300"/>
                      <a:pt x="510" y="630"/>
                      <a:pt x="600" y="7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33"/>
              <p:cNvSpPr/>
              <p:nvPr/>
            </p:nvSpPr>
            <p:spPr>
              <a:xfrm>
                <a:off x="5524920" y="2012040"/>
                <a:ext cx="114840" cy="13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Text Box 34"/>
            <p:cNvSpPr/>
            <p:nvPr/>
          </p:nvSpPr>
          <p:spPr>
            <a:xfrm>
              <a:off x="5897520" y="1541520"/>
              <a:ext cx="4604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35"/>
            <p:cNvSpPr/>
            <p:nvPr/>
          </p:nvSpPr>
          <p:spPr>
            <a:xfrm>
              <a:off x="5665680" y="2013120"/>
              <a:ext cx="5763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36"/>
            <p:cNvSpPr/>
            <p:nvPr/>
          </p:nvSpPr>
          <p:spPr>
            <a:xfrm>
              <a:off x="4168800" y="3070080"/>
              <a:ext cx="2300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37"/>
            <p:cNvSpPr/>
            <p:nvPr/>
          </p:nvSpPr>
          <p:spPr>
            <a:xfrm>
              <a:off x="3298680" y="3162240"/>
              <a:ext cx="46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41"/>
            <p:cNvSpPr/>
            <p:nvPr/>
          </p:nvSpPr>
          <p:spPr>
            <a:xfrm>
              <a:off x="5205240" y="2717640"/>
              <a:ext cx="2304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Group 42"/>
            <p:cNvGrpSpPr/>
            <p:nvPr/>
          </p:nvGrpSpPr>
          <p:grpSpPr>
            <a:xfrm>
              <a:off x="4693320" y="2849760"/>
              <a:ext cx="421920" cy="632160"/>
              <a:chOff x="4693320" y="2849760"/>
              <a:chExt cx="421920" cy="632160"/>
            </a:xfrm>
          </p:grpSpPr>
          <p:sp>
            <p:nvSpPr>
              <p:cNvPr id="172" name="Freeform 43"/>
              <p:cNvSpPr/>
              <p:nvPr/>
            </p:nvSpPr>
            <p:spPr>
              <a:xfrm rot="1342800">
                <a:off x="4892400" y="2849400"/>
                <a:ext cx="115200" cy="58752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587520"/>
                  <a:gd name="textAreaBottom" fmla="*/ 587880 h 587520"/>
                </a:gdLst>
                <a:ahLst/>
                <a:rect l="textAreaLeft" t="textAreaTop" r="textAreaRight" b="textAreaBottom"/>
                <a:pathLst>
                  <a:path w="180" h="900">
                    <a:moveTo>
                      <a:pt x="0" y="0"/>
                    </a:moveTo>
                    <a:cubicBezTo>
                      <a:pt x="90" y="15"/>
                      <a:pt x="180" y="30"/>
                      <a:pt x="180" y="180"/>
                    </a:cubicBezTo>
                    <a:cubicBezTo>
                      <a:pt x="180" y="330"/>
                      <a:pt x="30" y="780"/>
                      <a:pt x="0" y="9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44"/>
              <p:cNvSpPr/>
              <p:nvPr/>
            </p:nvSpPr>
            <p:spPr>
              <a:xfrm flipH="1">
                <a:off x="4693320" y="3200040"/>
                <a:ext cx="240480" cy="28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Text Box 45"/>
            <p:cNvSpPr/>
            <p:nvPr/>
          </p:nvSpPr>
          <p:spPr>
            <a:xfrm>
              <a:off x="4591080" y="3462480"/>
              <a:ext cx="3459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46"/>
            <p:cNvSpPr/>
            <p:nvPr/>
          </p:nvSpPr>
          <p:spPr>
            <a:xfrm>
              <a:off x="3478320" y="4246560"/>
              <a:ext cx="2300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47"/>
            <p:cNvSpPr/>
            <p:nvPr/>
          </p:nvSpPr>
          <p:spPr>
            <a:xfrm>
              <a:off x="2849400" y="3789360"/>
              <a:ext cx="4622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Group 51"/>
            <p:cNvGrpSpPr/>
            <p:nvPr/>
          </p:nvGrpSpPr>
          <p:grpSpPr>
            <a:xfrm>
              <a:off x="3020760" y="4368600"/>
              <a:ext cx="300240" cy="315000"/>
              <a:chOff x="3020760" y="4368600"/>
              <a:chExt cx="300240" cy="315000"/>
            </a:xfrm>
          </p:grpSpPr>
          <p:sp>
            <p:nvSpPr>
              <p:cNvPr id="178" name="Freeform 52"/>
              <p:cNvSpPr/>
              <p:nvPr/>
            </p:nvSpPr>
            <p:spPr>
              <a:xfrm rot="1507800">
                <a:off x="3148560" y="4379040"/>
                <a:ext cx="115200" cy="2937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180" h="900">
                    <a:moveTo>
                      <a:pt x="0" y="0"/>
                    </a:moveTo>
                    <a:cubicBezTo>
                      <a:pt x="90" y="15"/>
                      <a:pt x="180" y="30"/>
                      <a:pt x="180" y="180"/>
                    </a:cubicBezTo>
                    <a:cubicBezTo>
                      <a:pt x="180" y="330"/>
                      <a:pt x="30" y="780"/>
                      <a:pt x="0" y="9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53"/>
              <p:cNvSpPr/>
              <p:nvPr/>
            </p:nvSpPr>
            <p:spPr>
              <a:xfrm flipH="1">
                <a:off x="3020760" y="4555440"/>
                <a:ext cx="179280" cy="11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Text Box 54"/>
            <p:cNvSpPr/>
            <p:nvPr/>
          </p:nvSpPr>
          <p:spPr>
            <a:xfrm>
              <a:off x="2747880" y="4592520"/>
              <a:ext cx="384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55"/>
            <p:cNvSpPr/>
            <p:nvPr/>
          </p:nvSpPr>
          <p:spPr>
            <a:xfrm>
              <a:off x="3938760" y="4481640"/>
              <a:ext cx="2300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4168800" y="4129200"/>
              <a:ext cx="614160" cy="482400"/>
              <a:chOff x="4168800" y="4129200"/>
              <a:chExt cx="614160" cy="48240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4168800" y="4129200"/>
                <a:ext cx="614160" cy="469440"/>
              </a:xfrm>
              <a:custGeom>
                <a:avLst/>
                <a:gdLst>
                  <a:gd name="textAreaLeft" fmla="*/ 0 w 614160"/>
                  <a:gd name="textAreaRight" fmla="*/ 614520 w 614160"/>
                  <a:gd name="textAreaTop" fmla="*/ 0 h 469440"/>
                  <a:gd name="textAreaBottom" fmla="*/ 469800 h 469440"/>
                </a:gdLst>
                <a:ahLst/>
                <a:rect l="textAreaLeft" t="textAreaTop" r="textAreaRight" b="textAreaBottom"/>
                <a:pathLst>
                  <a:path w="960" h="720">
                    <a:moveTo>
                      <a:pt x="960" y="0"/>
                    </a:moveTo>
                    <a:cubicBezTo>
                      <a:pt x="540" y="30"/>
                      <a:pt x="120" y="60"/>
                      <a:pt x="60" y="180"/>
                    </a:cubicBezTo>
                    <a:cubicBezTo>
                      <a:pt x="0" y="300"/>
                      <a:pt x="510" y="630"/>
                      <a:pt x="600" y="7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58"/>
              <p:cNvSpPr/>
              <p:nvPr/>
            </p:nvSpPr>
            <p:spPr>
              <a:xfrm>
                <a:off x="4437360" y="4481280"/>
                <a:ext cx="114840" cy="1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Text Box 59"/>
            <p:cNvSpPr/>
            <p:nvPr/>
          </p:nvSpPr>
          <p:spPr>
            <a:xfrm>
              <a:off x="4629240" y="4481640"/>
              <a:ext cx="461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60"/>
            <p:cNvSpPr/>
            <p:nvPr/>
          </p:nvSpPr>
          <p:spPr>
            <a:xfrm>
              <a:off x="4745160" y="4011480"/>
              <a:ext cx="5760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61"/>
            <p:cNvSpPr/>
            <p:nvPr/>
          </p:nvSpPr>
          <p:spPr>
            <a:xfrm>
              <a:off x="2786040" y="5538960"/>
              <a:ext cx="23004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Group 62"/>
            <p:cNvGrpSpPr/>
            <p:nvPr/>
          </p:nvGrpSpPr>
          <p:grpSpPr>
            <a:xfrm>
              <a:off x="3054240" y="5421240"/>
              <a:ext cx="615960" cy="483840"/>
              <a:chOff x="3054240" y="5421240"/>
              <a:chExt cx="615960" cy="4838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3054240" y="5421240"/>
                <a:ext cx="615960" cy="47124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960" h="720">
                    <a:moveTo>
                      <a:pt x="960" y="0"/>
                    </a:moveTo>
                    <a:cubicBezTo>
                      <a:pt x="540" y="30"/>
                      <a:pt x="120" y="60"/>
                      <a:pt x="60" y="180"/>
                    </a:cubicBezTo>
                    <a:cubicBezTo>
                      <a:pt x="0" y="300"/>
                      <a:pt x="510" y="630"/>
                      <a:pt x="600" y="7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64"/>
              <p:cNvSpPr/>
              <p:nvPr/>
            </p:nvSpPr>
            <p:spPr>
              <a:xfrm>
                <a:off x="3323520" y="5774400"/>
                <a:ext cx="115200" cy="13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Text Box 65"/>
            <p:cNvSpPr/>
            <p:nvPr/>
          </p:nvSpPr>
          <p:spPr>
            <a:xfrm>
              <a:off x="3478320" y="5775480"/>
              <a:ext cx="4604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66"/>
            <p:cNvSpPr/>
            <p:nvPr/>
          </p:nvSpPr>
          <p:spPr>
            <a:xfrm>
              <a:off x="3708360" y="5303880"/>
              <a:ext cx="5763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70"/>
            <p:cNvSpPr/>
            <p:nvPr/>
          </p:nvSpPr>
          <p:spPr>
            <a:xfrm>
              <a:off x="2593800" y="5068800"/>
              <a:ext cx="46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72"/>
            <p:cNvSpPr/>
            <p:nvPr/>
          </p:nvSpPr>
          <p:spPr>
            <a:xfrm>
              <a:off x="3205800" y="213372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73"/>
            <p:cNvSpPr/>
            <p:nvPr/>
          </p:nvSpPr>
          <p:spPr>
            <a:xfrm>
              <a:off x="3494880" y="269244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74"/>
            <p:cNvSpPr/>
            <p:nvPr/>
          </p:nvSpPr>
          <p:spPr>
            <a:xfrm>
              <a:off x="2486880" y="422100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76"/>
            <p:cNvSpPr/>
            <p:nvPr/>
          </p:nvSpPr>
          <p:spPr>
            <a:xfrm rot="6864600">
              <a:off x="3276000" y="1665720"/>
              <a:ext cx="614160" cy="39384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960" h="720">
                  <a:moveTo>
                    <a:pt x="960" y="0"/>
                  </a:moveTo>
                  <a:cubicBezTo>
                    <a:pt x="540" y="30"/>
                    <a:pt x="120" y="60"/>
                    <a:pt x="60" y="180"/>
                  </a:cubicBezTo>
                  <a:cubicBezTo>
                    <a:pt x="0" y="300"/>
                    <a:pt x="510" y="630"/>
                    <a:pt x="600" y="7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78"/>
            <p:cNvSpPr/>
            <p:nvPr/>
          </p:nvSpPr>
          <p:spPr>
            <a:xfrm rot="12041400">
              <a:off x="3739680" y="2876400"/>
              <a:ext cx="287280" cy="52560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525600"/>
                <a:gd name="textAreaBottom" fmla="*/ 525960 h 525600"/>
              </a:gdLst>
              <a:ahLst/>
              <a:rect l="textAreaLeft" t="textAreaTop" r="textAreaRight" b="textAreaBottom"/>
              <a:pathLst>
                <a:path w="960" h="720">
                  <a:moveTo>
                    <a:pt x="960" y="0"/>
                  </a:moveTo>
                  <a:cubicBezTo>
                    <a:pt x="540" y="30"/>
                    <a:pt x="120" y="60"/>
                    <a:pt x="60" y="180"/>
                  </a:cubicBezTo>
                  <a:cubicBezTo>
                    <a:pt x="0" y="300"/>
                    <a:pt x="510" y="630"/>
                    <a:pt x="600" y="7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79"/>
            <p:cNvSpPr/>
            <p:nvPr/>
          </p:nvSpPr>
          <p:spPr>
            <a:xfrm rot="11064600">
              <a:off x="2979360" y="3976200"/>
              <a:ext cx="431640" cy="45432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960" h="720">
                  <a:moveTo>
                    <a:pt x="960" y="0"/>
                  </a:moveTo>
                  <a:cubicBezTo>
                    <a:pt x="540" y="30"/>
                    <a:pt x="120" y="60"/>
                    <a:pt x="60" y="180"/>
                  </a:cubicBezTo>
                  <a:cubicBezTo>
                    <a:pt x="0" y="300"/>
                    <a:pt x="510" y="630"/>
                    <a:pt x="600" y="7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80"/>
            <p:cNvSpPr/>
            <p:nvPr/>
          </p:nvSpPr>
          <p:spPr>
            <a:xfrm rot="10242000">
              <a:off x="2842560" y="5268600"/>
              <a:ext cx="207720" cy="60624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960" h="720">
                  <a:moveTo>
                    <a:pt x="960" y="0"/>
                  </a:moveTo>
                  <a:cubicBezTo>
                    <a:pt x="540" y="30"/>
                    <a:pt x="120" y="60"/>
                    <a:pt x="60" y="180"/>
                  </a:cubicBezTo>
                  <a:cubicBezTo>
                    <a:pt x="0" y="300"/>
                    <a:pt x="510" y="630"/>
                    <a:pt x="600" y="7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81"/>
            <p:cNvSpPr/>
            <p:nvPr/>
          </p:nvSpPr>
          <p:spPr>
            <a:xfrm>
              <a:off x="2486880" y="587700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Reac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539640" y="1268280"/>
            <a:ext cx="43434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A + ATP  </a:t>
            </a: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  C + CO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B + NAD</a:t>
            </a:r>
            <a:r>
              <a:rPr b="1" lang="es-ES" sz="2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 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C  </a:t>
            </a: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  D + AT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C  </a:t>
            </a: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  E + CO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D + ATP  </a:t>
            </a: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  F + CO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D  </a:t>
            </a: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  G + NAD</a:t>
            </a:r>
            <a:r>
              <a:rPr b="1" lang="es-ES" sz="2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F + ATP  </a:t>
            </a: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  H + NAD</a:t>
            </a:r>
            <a:r>
              <a:rPr b="1" lang="es-ES" sz="2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0" descr="Ejercicio 2"/>
          <p:cNvPicPr/>
          <p:nvPr/>
        </p:nvPicPr>
        <p:blipFill>
          <a:blip r:embed="rId1"/>
          <a:stretch/>
        </p:blipFill>
        <p:spPr>
          <a:xfrm>
            <a:off x="5389560" y="1700280"/>
            <a:ext cx="34401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lance Estado Estacionario para Metabolitos Intracelula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79280" y="1484280"/>
            <a:ext cx="67834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C: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 = 0  </a:t>
            </a: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D: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 =  0 </a:t>
            </a: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F: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 =  0  </a:t>
            </a: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ATP: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1 +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3 -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s-ES_tradnl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= 0 </a:t>
            </a: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3 =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1 + 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s-ES_tradnl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s-ES_tradnl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:   -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= 0 </a:t>
            </a: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7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7" descr="Ejercicio 2"/>
          <p:cNvPicPr/>
          <p:nvPr/>
        </p:nvPicPr>
        <p:blipFill>
          <a:blip r:embed="rId1"/>
          <a:stretch/>
        </p:blipFill>
        <p:spPr>
          <a:xfrm>
            <a:off x="5802480" y="2205000"/>
            <a:ext cx="33415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Matriz de Coeficientes estequiométricos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13" descr="Ejercicio 2"/>
          <p:cNvPicPr/>
          <p:nvPr/>
        </p:nvPicPr>
        <p:blipFill>
          <a:blip r:embed="rId1"/>
          <a:stretch/>
        </p:blipFill>
        <p:spPr>
          <a:xfrm>
            <a:off x="6991200" y="3860640"/>
            <a:ext cx="2152800" cy="2997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97" descr=""/>
          <p:cNvPicPr/>
          <p:nvPr/>
        </p:nvPicPr>
        <p:blipFill>
          <a:blip r:embed="rId2"/>
          <a:stretch/>
        </p:blipFill>
        <p:spPr>
          <a:xfrm>
            <a:off x="0" y="890640"/>
            <a:ext cx="975672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cuación de Balance Metabólic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609480" y="2362320"/>
            <a:ext cx="830592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=       T 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V : vector de fluj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r : vector de flujos medi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T: matriz de coeficientes estequiométr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1523880" y="2286000"/>
            <a:ext cx="304920" cy="13716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66680" y="5273640"/>
            <a:ext cx="70693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7 incógnitas, 5 metabolitos en estado estacionari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2 grados de libertad, hay que medir 2 metabolit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-2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=  -3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2194920" y="26028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cuación de Balance Metabó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12" descr="Ejercicio 2"/>
          <p:cNvPicPr/>
          <p:nvPr/>
        </p:nvPicPr>
        <p:blipFill>
          <a:blip r:embed="rId1"/>
          <a:stretch/>
        </p:blipFill>
        <p:spPr>
          <a:xfrm>
            <a:off x="6576840" y="3284640"/>
            <a:ext cx="2567160" cy="3573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"/>
          <p:cNvPicPr/>
          <p:nvPr/>
        </p:nvPicPr>
        <p:blipFill>
          <a:blip r:embed="rId2"/>
          <a:stretch/>
        </p:blipFill>
        <p:spPr>
          <a:xfrm>
            <a:off x="-396720" y="907920"/>
            <a:ext cx="7508880" cy="34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cuación de Balance Metabólic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295" descr=""/>
          <p:cNvPicPr/>
          <p:nvPr/>
        </p:nvPicPr>
        <p:blipFill>
          <a:blip r:embed="rId1"/>
          <a:stretch/>
        </p:blipFill>
        <p:spPr>
          <a:xfrm>
            <a:off x="-900000" y="1484280"/>
            <a:ext cx="976140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cuación de Balance Metabólic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249" descr=""/>
          <p:cNvPicPr/>
          <p:nvPr/>
        </p:nvPicPr>
        <p:blipFill>
          <a:blip r:embed="rId1"/>
          <a:stretch/>
        </p:blipFill>
        <p:spPr>
          <a:xfrm>
            <a:off x="0" y="1866960"/>
            <a:ext cx="914400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ad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0" name="Group 278"/>
          <p:cNvGrpSpPr/>
          <p:nvPr/>
        </p:nvGrpSpPr>
        <p:grpSpPr>
          <a:xfrm>
            <a:off x="4718880" y="907920"/>
            <a:ext cx="4101120" cy="5761080"/>
            <a:chOff x="4718880" y="907920"/>
            <a:chExt cx="4101120" cy="5761080"/>
          </a:xfrm>
        </p:grpSpPr>
        <p:sp>
          <p:nvSpPr>
            <p:cNvPr id="231" name="Text Box 109"/>
            <p:cNvSpPr/>
            <p:nvPr/>
          </p:nvSpPr>
          <p:spPr>
            <a:xfrm>
              <a:off x="6170400" y="1495440"/>
              <a:ext cx="230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115"/>
            <p:cNvSpPr/>
            <p:nvPr/>
          </p:nvSpPr>
          <p:spPr>
            <a:xfrm>
              <a:off x="7296120" y="1495440"/>
              <a:ext cx="2318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121"/>
            <p:cNvSpPr/>
            <p:nvPr/>
          </p:nvSpPr>
          <p:spPr>
            <a:xfrm>
              <a:off x="6400800" y="3141720"/>
              <a:ext cx="2300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126"/>
            <p:cNvSpPr/>
            <p:nvPr/>
          </p:nvSpPr>
          <p:spPr>
            <a:xfrm>
              <a:off x="7437240" y="2789280"/>
              <a:ext cx="230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31"/>
            <p:cNvSpPr/>
            <p:nvPr/>
          </p:nvSpPr>
          <p:spPr>
            <a:xfrm>
              <a:off x="5709960" y="4317840"/>
              <a:ext cx="2304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140"/>
            <p:cNvSpPr/>
            <p:nvPr/>
          </p:nvSpPr>
          <p:spPr>
            <a:xfrm>
              <a:off x="6170400" y="4552920"/>
              <a:ext cx="230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146"/>
            <p:cNvSpPr/>
            <p:nvPr/>
          </p:nvSpPr>
          <p:spPr>
            <a:xfrm>
              <a:off x="5018040" y="5610240"/>
              <a:ext cx="23004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Group 222"/>
            <p:cNvGrpSpPr/>
            <p:nvPr/>
          </p:nvGrpSpPr>
          <p:grpSpPr>
            <a:xfrm>
              <a:off x="4718880" y="907920"/>
              <a:ext cx="4101120" cy="5761080"/>
              <a:chOff x="4718880" y="907920"/>
              <a:chExt cx="4101120" cy="5761080"/>
            </a:xfrm>
          </p:grpSpPr>
          <p:sp>
            <p:nvSpPr>
              <p:cNvPr id="239" name="Text Box 223"/>
              <p:cNvSpPr/>
              <p:nvPr/>
            </p:nvSpPr>
            <p:spPr>
              <a:xfrm>
                <a:off x="4788000" y="907920"/>
                <a:ext cx="4032000" cy="5761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24"/>
              <p:cNvSpPr/>
              <p:nvPr/>
            </p:nvSpPr>
            <p:spPr>
              <a:xfrm>
                <a:off x="7783560" y="1143000"/>
                <a:ext cx="34596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Text Box 225"/>
              <p:cNvSpPr/>
              <p:nvPr/>
            </p:nvSpPr>
            <p:spPr>
              <a:xfrm>
                <a:off x="5478480" y="1143000"/>
                <a:ext cx="34596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Text Box 226"/>
              <p:cNvSpPr/>
              <p:nvPr/>
            </p:nvSpPr>
            <p:spPr>
              <a:xfrm>
                <a:off x="6746760" y="2319120"/>
                <a:ext cx="3445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Text Box 227"/>
              <p:cNvSpPr/>
              <p:nvPr/>
            </p:nvSpPr>
            <p:spPr>
              <a:xfrm>
                <a:off x="5824440" y="3611520"/>
                <a:ext cx="346320" cy="35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Text Box 228"/>
              <p:cNvSpPr/>
              <p:nvPr/>
            </p:nvSpPr>
            <p:spPr>
              <a:xfrm>
                <a:off x="7783560" y="3611520"/>
                <a:ext cx="345960" cy="35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Text Box 229"/>
              <p:cNvSpPr/>
              <p:nvPr/>
            </p:nvSpPr>
            <p:spPr>
              <a:xfrm>
                <a:off x="5133960" y="4905360"/>
                <a:ext cx="3445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Text Box 230"/>
              <p:cNvSpPr/>
              <p:nvPr/>
            </p:nvSpPr>
            <p:spPr>
              <a:xfrm>
                <a:off x="6516720" y="4905360"/>
                <a:ext cx="3445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Text Box 231"/>
              <p:cNvSpPr/>
              <p:nvPr/>
            </p:nvSpPr>
            <p:spPr>
              <a:xfrm>
                <a:off x="5133960" y="6199200"/>
                <a:ext cx="3445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232"/>
              <p:cNvSpPr/>
              <p:nvPr/>
            </p:nvSpPr>
            <p:spPr>
              <a:xfrm flipH="1">
                <a:off x="6054840" y="2671560"/>
                <a:ext cx="57600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233"/>
              <p:cNvSpPr/>
              <p:nvPr/>
            </p:nvSpPr>
            <p:spPr>
              <a:xfrm flipH="1">
                <a:off x="5363640" y="3965400"/>
                <a:ext cx="46044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Line 234"/>
              <p:cNvSpPr/>
              <p:nvPr/>
            </p:nvSpPr>
            <p:spPr>
              <a:xfrm>
                <a:off x="6170760" y="3965400"/>
                <a:ext cx="46008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Line 235"/>
              <p:cNvSpPr/>
              <p:nvPr/>
            </p:nvSpPr>
            <p:spPr>
              <a:xfrm>
                <a:off x="5300640" y="5257800"/>
                <a:ext cx="0" cy="9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Line 236"/>
              <p:cNvSpPr/>
              <p:nvPr/>
            </p:nvSpPr>
            <p:spPr>
              <a:xfrm>
                <a:off x="7091280" y="2671560"/>
                <a:ext cx="69228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Line 237"/>
              <p:cNvSpPr/>
              <p:nvPr/>
            </p:nvSpPr>
            <p:spPr>
              <a:xfrm flipH="1">
                <a:off x="7090920" y="1495440"/>
                <a:ext cx="69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Line 238"/>
              <p:cNvSpPr/>
              <p:nvPr/>
            </p:nvSpPr>
            <p:spPr>
              <a:xfrm>
                <a:off x="5824440" y="1495440"/>
                <a:ext cx="8064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Text Box 239"/>
              <p:cNvSpPr/>
              <p:nvPr/>
            </p:nvSpPr>
            <p:spPr>
              <a:xfrm>
                <a:off x="5191200" y="1896840"/>
                <a:ext cx="460440" cy="23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6" name="Group 240"/>
              <p:cNvGrpSpPr/>
              <p:nvPr/>
            </p:nvGrpSpPr>
            <p:grpSpPr>
              <a:xfrm>
                <a:off x="6054840" y="1847520"/>
                <a:ext cx="166320" cy="706320"/>
                <a:chOff x="6054840" y="1847520"/>
                <a:chExt cx="166320" cy="706320"/>
              </a:xfrm>
            </p:grpSpPr>
            <p:sp>
              <p:nvSpPr>
                <p:cNvPr id="257" name="Freeform 241"/>
                <p:cNvSpPr/>
                <p:nvPr/>
              </p:nvSpPr>
              <p:spPr>
                <a:xfrm>
                  <a:off x="6105960" y="1847520"/>
                  <a:ext cx="115200" cy="58896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588960"/>
                    <a:gd name="textAreaBottom" fmla="*/ 589320 h 588960"/>
                  </a:gdLst>
                  <a:ahLst/>
                  <a:rect l="textAreaLeft" t="textAreaTop" r="textAreaRight" b="textAreaBottom"/>
                  <a:pathLst>
                    <a:path w="180" h="900">
                      <a:moveTo>
                        <a:pt x="0" y="0"/>
                      </a:moveTo>
                      <a:cubicBezTo>
                        <a:pt x="90" y="15"/>
                        <a:pt x="180" y="30"/>
                        <a:pt x="180" y="180"/>
                      </a:cubicBezTo>
                      <a:cubicBezTo>
                        <a:pt x="180" y="330"/>
                        <a:pt x="30" y="780"/>
                        <a:pt x="0" y="9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242"/>
                <p:cNvSpPr/>
                <p:nvPr/>
              </p:nvSpPr>
              <p:spPr>
                <a:xfrm flipH="1">
                  <a:off x="6054840" y="2200680"/>
                  <a:ext cx="115200" cy="35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Text Box 243"/>
              <p:cNvSpPr/>
              <p:nvPr/>
            </p:nvSpPr>
            <p:spPr>
              <a:xfrm>
                <a:off x="5710320" y="2516040"/>
                <a:ext cx="37296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1" lang="es-E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0" name="Group 244"/>
              <p:cNvGrpSpPr/>
              <p:nvPr/>
            </p:nvGrpSpPr>
            <p:grpSpPr>
              <a:xfrm>
                <a:off x="7488360" y="1730160"/>
                <a:ext cx="614160" cy="483840"/>
                <a:chOff x="7488360" y="1730160"/>
                <a:chExt cx="614160" cy="483840"/>
              </a:xfrm>
            </p:grpSpPr>
            <p:sp>
              <p:nvSpPr>
                <p:cNvPr id="261" name="Freeform 245"/>
                <p:cNvSpPr/>
                <p:nvPr/>
              </p:nvSpPr>
              <p:spPr>
                <a:xfrm>
                  <a:off x="7488360" y="1730160"/>
                  <a:ext cx="614160" cy="471240"/>
                </a:xfrm>
                <a:custGeom>
                  <a:avLst/>
                  <a:gdLst>
                    <a:gd name="textAreaLeft" fmla="*/ 0 w 614160"/>
                    <a:gd name="textAreaRight" fmla="*/ 614520 w 614160"/>
                    <a:gd name="textAreaTop" fmla="*/ 0 h 471240"/>
                    <a:gd name="textAreaBottom" fmla="*/ 471600 h 471240"/>
                  </a:gdLst>
                  <a:ahLst/>
                  <a:rect l="textAreaLeft" t="textAreaTop" r="textAreaRight" b="textAreaBottom"/>
                  <a:pathLst>
                    <a:path w="960" h="720">
                      <a:moveTo>
                        <a:pt x="960" y="0"/>
                      </a:moveTo>
                      <a:cubicBezTo>
                        <a:pt x="540" y="30"/>
                        <a:pt x="120" y="60"/>
                        <a:pt x="60" y="180"/>
                      </a:cubicBezTo>
                      <a:cubicBezTo>
                        <a:pt x="0" y="300"/>
                        <a:pt x="510" y="630"/>
                        <a:pt x="600" y="7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246"/>
                <p:cNvSpPr/>
                <p:nvPr/>
              </p:nvSpPr>
              <p:spPr>
                <a:xfrm>
                  <a:off x="7756920" y="2083320"/>
                  <a:ext cx="114840" cy="13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Text Box 247"/>
              <p:cNvSpPr/>
              <p:nvPr/>
            </p:nvSpPr>
            <p:spPr>
              <a:xfrm>
                <a:off x="8129520" y="1612800"/>
                <a:ext cx="460440" cy="23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s-ES" sz="14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Text Box 248"/>
              <p:cNvSpPr/>
              <p:nvPr/>
            </p:nvSpPr>
            <p:spPr>
              <a:xfrm>
                <a:off x="7897680" y="2084400"/>
                <a:ext cx="576360" cy="23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Text Box 249"/>
              <p:cNvSpPr/>
              <p:nvPr/>
            </p:nvSpPr>
            <p:spPr>
              <a:xfrm>
                <a:off x="5530680" y="3233520"/>
                <a:ext cx="460440" cy="23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Group 250"/>
              <p:cNvGrpSpPr/>
              <p:nvPr/>
            </p:nvGrpSpPr>
            <p:grpSpPr>
              <a:xfrm>
                <a:off x="6925320" y="2921040"/>
                <a:ext cx="421920" cy="632160"/>
                <a:chOff x="6925320" y="2921040"/>
                <a:chExt cx="421920" cy="632160"/>
              </a:xfrm>
            </p:grpSpPr>
            <p:sp>
              <p:nvSpPr>
                <p:cNvPr id="267" name="Freeform 251"/>
                <p:cNvSpPr/>
                <p:nvPr/>
              </p:nvSpPr>
              <p:spPr>
                <a:xfrm rot="1342800">
                  <a:off x="7124400" y="2920680"/>
                  <a:ext cx="115200" cy="5875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587520"/>
                    <a:gd name="textAreaBottom" fmla="*/ 587880 h 587520"/>
                  </a:gdLst>
                  <a:ahLst/>
                  <a:rect l="textAreaLeft" t="textAreaTop" r="textAreaRight" b="textAreaBottom"/>
                  <a:pathLst>
                    <a:path w="180" h="900">
                      <a:moveTo>
                        <a:pt x="0" y="0"/>
                      </a:moveTo>
                      <a:cubicBezTo>
                        <a:pt x="90" y="15"/>
                        <a:pt x="180" y="30"/>
                        <a:pt x="180" y="180"/>
                      </a:cubicBezTo>
                      <a:cubicBezTo>
                        <a:pt x="180" y="330"/>
                        <a:pt x="30" y="780"/>
                        <a:pt x="0" y="9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Line 252"/>
                <p:cNvSpPr/>
                <p:nvPr/>
              </p:nvSpPr>
              <p:spPr>
                <a:xfrm flipH="1">
                  <a:off x="6925320" y="3271320"/>
                  <a:ext cx="240480" cy="281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9" name="Text Box 253"/>
              <p:cNvSpPr/>
              <p:nvPr/>
            </p:nvSpPr>
            <p:spPr>
              <a:xfrm>
                <a:off x="6823080" y="3533760"/>
                <a:ext cx="345960" cy="23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1" lang="es-E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Text Box 254"/>
              <p:cNvSpPr/>
              <p:nvPr/>
            </p:nvSpPr>
            <p:spPr>
              <a:xfrm>
                <a:off x="5081400" y="3860640"/>
                <a:ext cx="462240" cy="23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1" name="Group 255"/>
              <p:cNvGrpSpPr/>
              <p:nvPr/>
            </p:nvGrpSpPr>
            <p:grpSpPr>
              <a:xfrm>
                <a:off x="5252760" y="4439880"/>
                <a:ext cx="300240" cy="315000"/>
                <a:chOff x="5252760" y="4439880"/>
                <a:chExt cx="300240" cy="315000"/>
              </a:xfrm>
            </p:grpSpPr>
            <p:sp>
              <p:nvSpPr>
                <p:cNvPr id="272" name="Freeform 256"/>
                <p:cNvSpPr/>
                <p:nvPr/>
              </p:nvSpPr>
              <p:spPr>
                <a:xfrm rot="1507800">
                  <a:off x="5380560" y="4450320"/>
                  <a:ext cx="115200" cy="29376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293760"/>
                    <a:gd name="textAreaBottom" fmla="*/ 294120 h 293760"/>
                  </a:gdLst>
                  <a:ahLst/>
                  <a:rect l="textAreaLeft" t="textAreaTop" r="textAreaRight" b="textAreaBottom"/>
                  <a:pathLst>
                    <a:path w="180" h="900">
                      <a:moveTo>
                        <a:pt x="0" y="0"/>
                      </a:moveTo>
                      <a:cubicBezTo>
                        <a:pt x="90" y="15"/>
                        <a:pt x="180" y="30"/>
                        <a:pt x="180" y="180"/>
                      </a:cubicBezTo>
                      <a:cubicBezTo>
                        <a:pt x="180" y="330"/>
                        <a:pt x="30" y="780"/>
                        <a:pt x="0" y="9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257"/>
                <p:cNvSpPr/>
                <p:nvPr/>
              </p:nvSpPr>
              <p:spPr>
                <a:xfrm flipH="1">
                  <a:off x="5252760" y="4626720"/>
                  <a:ext cx="17928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" name="Text Box 258"/>
              <p:cNvSpPr/>
              <p:nvPr/>
            </p:nvSpPr>
            <p:spPr>
              <a:xfrm>
                <a:off x="4979880" y="4663800"/>
                <a:ext cx="384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1" lang="es-E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5" name="Group 259"/>
              <p:cNvGrpSpPr/>
              <p:nvPr/>
            </p:nvGrpSpPr>
            <p:grpSpPr>
              <a:xfrm>
                <a:off x="6400800" y="4200480"/>
                <a:ext cx="614160" cy="482400"/>
                <a:chOff x="6400800" y="4200480"/>
                <a:chExt cx="614160" cy="482400"/>
              </a:xfrm>
            </p:grpSpPr>
            <p:sp>
              <p:nvSpPr>
                <p:cNvPr id="276" name="Freeform 260"/>
                <p:cNvSpPr/>
                <p:nvPr/>
              </p:nvSpPr>
              <p:spPr>
                <a:xfrm>
                  <a:off x="6400800" y="4200480"/>
                  <a:ext cx="614160" cy="469440"/>
                </a:xfrm>
                <a:custGeom>
                  <a:avLst/>
                  <a:gdLst>
                    <a:gd name="textAreaLeft" fmla="*/ 0 w 614160"/>
                    <a:gd name="textAreaRight" fmla="*/ 614520 w 614160"/>
                    <a:gd name="textAreaTop" fmla="*/ 0 h 469440"/>
                    <a:gd name="textAreaBottom" fmla="*/ 469800 h 469440"/>
                  </a:gdLst>
                  <a:ahLst/>
                  <a:rect l="textAreaLeft" t="textAreaTop" r="textAreaRight" b="textAreaBottom"/>
                  <a:pathLst>
                    <a:path w="960" h="720">
                      <a:moveTo>
                        <a:pt x="960" y="0"/>
                      </a:moveTo>
                      <a:cubicBezTo>
                        <a:pt x="540" y="30"/>
                        <a:pt x="120" y="60"/>
                        <a:pt x="60" y="180"/>
                      </a:cubicBezTo>
                      <a:cubicBezTo>
                        <a:pt x="0" y="300"/>
                        <a:pt x="510" y="630"/>
                        <a:pt x="600" y="7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261"/>
                <p:cNvSpPr/>
                <p:nvPr/>
              </p:nvSpPr>
              <p:spPr>
                <a:xfrm>
                  <a:off x="6669360" y="4552560"/>
                  <a:ext cx="114840" cy="13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8" name="Text Box 262"/>
              <p:cNvSpPr/>
              <p:nvPr/>
            </p:nvSpPr>
            <p:spPr>
              <a:xfrm>
                <a:off x="6861240" y="4552920"/>
                <a:ext cx="461880" cy="23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s-ES" sz="14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Text Box 263"/>
              <p:cNvSpPr/>
              <p:nvPr/>
            </p:nvSpPr>
            <p:spPr>
              <a:xfrm>
                <a:off x="6977160" y="4082760"/>
                <a:ext cx="576000" cy="23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0" name="Group 264"/>
              <p:cNvGrpSpPr/>
              <p:nvPr/>
            </p:nvGrpSpPr>
            <p:grpSpPr>
              <a:xfrm>
                <a:off x="5286240" y="5492520"/>
                <a:ext cx="615960" cy="483840"/>
                <a:chOff x="5286240" y="5492520"/>
                <a:chExt cx="615960" cy="483840"/>
              </a:xfrm>
            </p:grpSpPr>
            <p:sp>
              <p:nvSpPr>
                <p:cNvPr id="281" name="Freeform 265"/>
                <p:cNvSpPr/>
                <p:nvPr/>
              </p:nvSpPr>
              <p:spPr>
                <a:xfrm>
                  <a:off x="5286240" y="5492520"/>
                  <a:ext cx="615960" cy="471240"/>
                </a:xfrm>
                <a:custGeom>
                  <a:avLst/>
                  <a:gdLst>
                    <a:gd name="textAreaLeft" fmla="*/ 0 w 615960"/>
                    <a:gd name="textAreaRight" fmla="*/ 616320 w 615960"/>
                    <a:gd name="textAreaTop" fmla="*/ 0 h 471240"/>
                    <a:gd name="textAreaBottom" fmla="*/ 471600 h 471240"/>
                  </a:gdLst>
                  <a:ahLst/>
                  <a:rect l="textAreaLeft" t="textAreaTop" r="textAreaRight" b="textAreaBottom"/>
                  <a:pathLst>
                    <a:path w="960" h="720">
                      <a:moveTo>
                        <a:pt x="960" y="0"/>
                      </a:moveTo>
                      <a:cubicBezTo>
                        <a:pt x="540" y="30"/>
                        <a:pt x="120" y="60"/>
                        <a:pt x="60" y="180"/>
                      </a:cubicBezTo>
                      <a:cubicBezTo>
                        <a:pt x="0" y="300"/>
                        <a:pt x="510" y="630"/>
                        <a:pt x="600" y="7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266"/>
                <p:cNvSpPr/>
                <p:nvPr/>
              </p:nvSpPr>
              <p:spPr>
                <a:xfrm>
                  <a:off x="5555520" y="5845680"/>
                  <a:ext cx="115200" cy="13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" name="Text Box 267"/>
              <p:cNvSpPr/>
              <p:nvPr/>
            </p:nvSpPr>
            <p:spPr>
              <a:xfrm>
                <a:off x="5710320" y="5846760"/>
                <a:ext cx="460440" cy="23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s-ES" sz="14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Text Box 268"/>
              <p:cNvSpPr/>
              <p:nvPr/>
            </p:nvSpPr>
            <p:spPr>
              <a:xfrm>
                <a:off x="5940360" y="5375160"/>
                <a:ext cx="576360" cy="23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Text Box 269"/>
              <p:cNvSpPr/>
              <p:nvPr/>
            </p:nvSpPr>
            <p:spPr>
              <a:xfrm>
                <a:off x="4825800" y="5140080"/>
                <a:ext cx="460440" cy="23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Text Box 270"/>
              <p:cNvSpPr/>
              <p:nvPr/>
            </p:nvSpPr>
            <p:spPr>
              <a:xfrm>
                <a:off x="5437800" y="2205000"/>
                <a:ext cx="55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Text Box 271"/>
              <p:cNvSpPr/>
              <p:nvPr/>
            </p:nvSpPr>
            <p:spPr>
              <a:xfrm>
                <a:off x="5726880" y="2763720"/>
                <a:ext cx="55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Text Box 272"/>
              <p:cNvSpPr/>
              <p:nvPr/>
            </p:nvSpPr>
            <p:spPr>
              <a:xfrm>
                <a:off x="4718880" y="4292280"/>
                <a:ext cx="55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Freeform 273"/>
              <p:cNvSpPr/>
              <p:nvPr/>
            </p:nvSpPr>
            <p:spPr>
              <a:xfrm rot="6864600">
                <a:off x="5508000" y="1737000"/>
                <a:ext cx="614160" cy="393840"/>
              </a:xfrm>
              <a:custGeom>
                <a:avLst/>
                <a:gdLst>
                  <a:gd name="textAreaLeft" fmla="*/ 0 w 614160"/>
                  <a:gd name="textAreaRight" fmla="*/ 614520 w 614160"/>
                  <a:gd name="textAreaTop" fmla="*/ 0 h 393840"/>
                  <a:gd name="textAreaBottom" fmla="*/ 394200 h 393840"/>
                </a:gdLst>
                <a:ahLst/>
                <a:rect l="textAreaLeft" t="textAreaTop" r="textAreaRight" b="textAreaBottom"/>
                <a:pathLst>
                  <a:path w="960" h="720">
                    <a:moveTo>
                      <a:pt x="960" y="0"/>
                    </a:moveTo>
                    <a:cubicBezTo>
                      <a:pt x="540" y="30"/>
                      <a:pt x="120" y="60"/>
                      <a:pt x="60" y="180"/>
                    </a:cubicBezTo>
                    <a:cubicBezTo>
                      <a:pt x="0" y="300"/>
                      <a:pt x="510" y="630"/>
                      <a:pt x="600" y="7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Freeform 274"/>
              <p:cNvSpPr/>
              <p:nvPr/>
            </p:nvSpPr>
            <p:spPr>
              <a:xfrm rot="12041400">
                <a:off x="5971680" y="2947680"/>
                <a:ext cx="287280" cy="52560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525600"/>
                  <a:gd name="textAreaBottom" fmla="*/ 525960 h 525600"/>
                </a:gdLst>
                <a:ahLst/>
                <a:rect l="textAreaLeft" t="textAreaTop" r="textAreaRight" b="textAreaBottom"/>
                <a:pathLst>
                  <a:path w="960" h="720">
                    <a:moveTo>
                      <a:pt x="960" y="0"/>
                    </a:moveTo>
                    <a:cubicBezTo>
                      <a:pt x="540" y="30"/>
                      <a:pt x="120" y="60"/>
                      <a:pt x="60" y="180"/>
                    </a:cubicBezTo>
                    <a:cubicBezTo>
                      <a:pt x="0" y="300"/>
                      <a:pt x="510" y="630"/>
                      <a:pt x="600" y="7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Freeform 275"/>
              <p:cNvSpPr/>
              <p:nvPr/>
            </p:nvSpPr>
            <p:spPr>
              <a:xfrm rot="11064600">
                <a:off x="5211360" y="4047480"/>
                <a:ext cx="431640" cy="45432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454320"/>
                  <a:gd name="textAreaBottom" fmla="*/ 454680 h 454320"/>
                </a:gdLst>
                <a:ahLst/>
                <a:rect l="textAreaLeft" t="textAreaTop" r="textAreaRight" b="textAreaBottom"/>
                <a:pathLst>
                  <a:path w="960" h="720">
                    <a:moveTo>
                      <a:pt x="960" y="0"/>
                    </a:moveTo>
                    <a:cubicBezTo>
                      <a:pt x="540" y="30"/>
                      <a:pt x="120" y="60"/>
                      <a:pt x="60" y="180"/>
                    </a:cubicBezTo>
                    <a:cubicBezTo>
                      <a:pt x="0" y="300"/>
                      <a:pt x="510" y="630"/>
                      <a:pt x="600" y="7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Freeform 276"/>
              <p:cNvSpPr/>
              <p:nvPr/>
            </p:nvSpPr>
            <p:spPr>
              <a:xfrm rot="10242000">
                <a:off x="5074560" y="5339880"/>
                <a:ext cx="207720" cy="60624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606240"/>
                  <a:gd name="textAreaBottom" fmla="*/ 606600 h 606240"/>
                </a:gdLst>
                <a:ahLst/>
                <a:rect l="textAreaLeft" t="textAreaTop" r="textAreaRight" b="textAreaBottom"/>
                <a:pathLst>
                  <a:path w="960" h="720">
                    <a:moveTo>
                      <a:pt x="960" y="0"/>
                    </a:moveTo>
                    <a:cubicBezTo>
                      <a:pt x="540" y="30"/>
                      <a:pt x="120" y="60"/>
                      <a:pt x="60" y="180"/>
                    </a:cubicBezTo>
                    <a:cubicBezTo>
                      <a:pt x="0" y="300"/>
                      <a:pt x="510" y="630"/>
                      <a:pt x="600" y="7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Text Box 277"/>
              <p:cNvSpPr/>
              <p:nvPr/>
            </p:nvSpPr>
            <p:spPr>
              <a:xfrm>
                <a:off x="4718880" y="5948280"/>
                <a:ext cx="55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94" name="Picture 280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374472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  <a:ea typeface="Calibri"/>
              </a:rPr>
              <a:t>Análisis de Flujos metabóli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  <a:ea typeface="Calibri"/>
              </a:rPr>
              <a:t>Método para determinar los flujos metaból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  <a:ea typeface="Calibri"/>
              </a:rPr>
              <a:t>Utiliza modelos estequiométricos de las vías y balances de masa para metabolitos intracelu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  <a:ea typeface="Calibri"/>
              </a:rPr>
              <a:t>Se miden los flujos de metabolitos extracelu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  <a:ea typeface="Calibri"/>
              </a:rPr>
              <a:t>Se obtiene un mapa de flujos metabólicos que permite comparar distintas condiciones y encontrar posibles problemas en la v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43 Rectángulo"/>
          <p:cNvSpPr/>
          <p:nvPr/>
        </p:nvSpPr>
        <p:spPr>
          <a:xfrm>
            <a:off x="611280" y="3357720"/>
            <a:ext cx="748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  <a:ea typeface="Calibri"/>
              </a:rPr>
              <a:t>Sistema exactamente determinad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3 Rectángulo"/>
          <p:cNvSpPr/>
          <p:nvPr/>
        </p:nvSpPr>
        <p:spPr>
          <a:xfrm>
            <a:off x="755640" y="1197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  <a:ea typeface="Calibri"/>
              </a:rPr>
              <a:t>Según la estructura de la matriz estequiométrica, el sistema puede encontrarse de 3 form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  <a:ea typeface="Calibri"/>
              </a:rPr>
              <a:t>Determinado, sobredeterminado o subde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1922400" y="344520"/>
            <a:ext cx="5457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nálisis de Flujos metabóli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25"/>
              <p:cNvSpPr txBox="1"/>
              <p:nvPr/>
            </p:nvSpPr>
            <p:spPr>
              <a:xfrm>
                <a:off x="2763720" y="3979800"/>
                <a:ext cx="3753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r 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6"/>
              <p:cNvSpPr txBox="1"/>
              <p:nvPr/>
            </p:nvSpPr>
            <p:spPr>
              <a:xfrm>
                <a:off x="3571920" y="2647800"/>
                <a:ext cx="1760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 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T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5"/>
              <p:cNvSpPr txBox="1"/>
              <p:nvPr/>
            </p:nvSpPr>
            <p:spPr>
              <a:xfrm>
                <a:off x="3525840" y="4797360"/>
                <a:ext cx="210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 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cuación de Balance Metabólico</a:t>
            </a: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685800" y="2057400"/>
            <a:ext cx="815328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           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5"/>
          <p:cNvSpPr/>
          <p:nvPr/>
        </p:nvSpPr>
        <p:spPr>
          <a:xfrm>
            <a:off x="685800" y="2209680"/>
            <a:ext cx="380880" cy="26672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1447920" y="2133720"/>
            <a:ext cx="5333760" cy="2743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7086600" y="2133720"/>
            <a:ext cx="457200" cy="26668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cuación de Balance Metabólic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685800" y="2057400"/>
            <a:ext cx="815328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1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3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5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           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5"/>
          <p:cNvSpPr/>
          <p:nvPr/>
        </p:nvSpPr>
        <p:spPr>
          <a:xfrm>
            <a:off x="7164360" y="2060640"/>
            <a:ext cx="380880" cy="26668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6"/>
          <p:cNvSpPr/>
          <p:nvPr/>
        </p:nvSpPr>
        <p:spPr>
          <a:xfrm>
            <a:off x="1447920" y="2133720"/>
            <a:ext cx="5333760" cy="2743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7956720" y="2133720"/>
            <a:ext cx="457200" cy="26668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43 Rectángulo"/>
          <p:cNvSpPr/>
          <p:nvPr/>
        </p:nvSpPr>
        <p:spPr>
          <a:xfrm>
            <a:off x="611280" y="3357720"/>
            <a:ext cx="748980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Sistema exactamente determinado (matriz no invertib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3 Rectángulo"/>
          <p:cNvSpPr/>
          <p:nvPr/>
        </p:nvSpPr>
        <p:spPr>
          <a:xfrm>
            <a:off x="755640" y="1197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  <a:ea typeface="Calibri"/>
              </a:rPr>
              <a:t>Según la estructura de la matriz estequiométrica, el sistema puede encontrarse de 3 form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  <a:ea typeface="Calibri"/>
              </a:rPr>
              <a:t>Determinado, sobredeterminado o subde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1922400" y="272880"/>
            <a:ext cx="5457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nálisis de Flujos metabóli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26"/>
              <p:cNvSpPr txBox="1"/>
              <p:nvPr/>
            </p:nvSpPr>
            <p:spPr>
              <a:xfrm>
                <a:off x="3727440" y="2676600"/>
                <a:ext cx="1447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S</m:t>
                    </m:r>
                    <m:r>
                      <m:t xml:space="preserve">⋅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27"/>
              <p:cNvSpPr txBox="1"/>
              <p:nvPr/>
            </p:nvSpPr>
            <p:spPr>
              <a:xfrm>
                <a:off x="2805120" y="4076640"/>
                <a:ext cx="30830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S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5"/>
              <p:cNvSpPr txBox="1"/>
              <p:nvPr/>
            </p:nvSpPr>
            <p:spPr>
              <a:xfrm>
                <a:off x="3540240" y="5157720"/>
                <a:ext cx="1858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 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43 Rectángulo"/>
          <p:cNvSpPr/>
          <p:nvPr/>
        </p:nvSpPr>
        <p:spPr>
          <a:xfrm>
            <a:off x="611280" y="3357720"/>
            <a:ext cx="74898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  <a:ea typeface="Calibri"/>
              </a:rPr>
              <a:t>Sistema exactamente determin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  <a:ea typeface="Calibri"/>
              </a:rPr>
              <a:t>Sistema sobredeterminado: Es necesario agregar información al sistema, medición de metabolitos extracelulares (vector b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3 Rectángulo"/>
          <p:cNvSpPr/>
          <p:nvPr/>
        </p:nvSpPr>
        <p:spPr>
          <a:xfrm>
            <a:off x="755640" y="1197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  <a:ea typeface="Calibri"/>
              </a:rPr>
              <a:t>Según la estructura de la matriz estequiométrica, el sistema puede encontrarse de 3 form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  <a:ea typeface="Calibri"/>
              </a:rPr>
              <a:t>Determinado, sobredeterminado o subde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922400" y="272880"/>
            <a:ext cx="5457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nálisis de Flujos metabóli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25"/>
              <p:cNvSpPr txBox="1"/>
              <p:nvPr/>
            </p:nvSpPr>
            <p:spPr>
              <a:xfrm>
                <a:off x="2014560" y="3860640"/>
                <a:ext cx="1514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 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6"/>
              <p:cNvSpPr txBox="1"/>
              <p:nvPr/>
            </p:nvSpPr>
            <p:spPr>
              <a:xfrm>
                <a:off x="3727440" y="2676600"/>
                <a:ext cx="14461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S</m:t>
                    </m:r>
                    <m:r>
                      <m:t xml:space="preserve">⋅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7"/>
              <p:cNvSpPr txBox="1"/>
              <p:nvPr/>
            </p:nvSpPr>
            <p:spPr>
              <a:xfrm>
                <a:off x="4768920" y="3780000"/>
                <a:ext cx="3082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S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166680" y="5273640"/>
            <a:ext cx="70693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7 incógnitas, 5 metabolitos en estado estacionari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2 grados de libertad, hay que medir 2 metabolit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-2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=  -3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2194920" y="26028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Ecuación de Balance Metabó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12" descr="Ejercicio 2"/>
          <p:cNvPicPr/>
          <p:nvPr/>
        </p:nvPicPr>
        <p:blipFill>
          <a:blip r:embed="rId1"/>
          <a:stretch/>
        </p:blipFill>
        <p:spPr>
          <a:xfrm>
            <a:off x="6576840" y="3284640"/>
            <a:ext cx="2567160" cy="3573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4" descr=""/>
          <p:cNvPicPr/>
          <p:nvPr/>
        </p:nvPicPr>
        <p:blipFill>
          <a:blip r:embed="rId2"/>
          <a:stretch/>
        </p:blipFill>
        <p:spPr>
          <a:xfrm>
            <a:off x="-396720" y="907920"/>
            <a:ext cx="7508880" cy="34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43 Rectángulo"/>
          <p:cNvSpPr/>
          <p:nvPr/>
        </p:nvSpPr>
        <p:spPr>
          <a:xfrm>
            <a:off x="754200" y="381168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  <a:ea typeface="Calibri"/>
              </a:rPr>
              <a:t>Sistema subdeterminado: Es necesario agregar restricciones, solución con </a:t>
            </a:r>
            <a:r>
              <a:rPr b="1" lang="es-CL" sz="2200" spc="-1" strike="noStrike">
                <a:solidFill>
                  <a:srgbClr val="000000"/>
                </a:solidFill>
                <a:latin typeface="Calibri"/>
                <a:ea typeface="Calibri"/>
              </a:rPr>
              <a:t>optimización lineal</a:t>
            </a:r>
            <a:r>
              <a:rPr b="0" lang="es-CL" sz="22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3 Rectángulo"/>
          <p:cNvSpPr/>
          <p:nvPr/>
        </p:nvSpPr>
        <p:spPr>
          <a:xfrm>
            <a:off x="755640" y="1197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  <a:ea typeface="Calibri"/>
              </a:rPr>
              <a:t>Según la estructura de la matriz estequiométrica, el sistema puede encontrarse de 3 form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  <a:ea typeface="Calibri"/>
              </a:rPr>
              <a:t>Determinado, sobredeterminado o subde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922400" y="272880"/>
            <a:ext cx="5457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nálisis de Flujos metabóli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26"/>
              <p:cNvSpPr txBox="1"/>
              <p:nvPr/>
            </p:nvSpPr>
            <p:spPr>
              <a:xfrm>
                <a:off x="3753000" y="2809800"/>
                <a:ext cx="14461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S</m:t>
                    </m:r>
                    <m:r>
                      <m:t xml:space="preserve">⋅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1851120" y="272880"/>
            <a:ext cx="54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nálisis de Flujos metaból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4 Rectángulo"/>
          <p:cNvSpPr/>
          <p:nvPr/>
        </p:nvSpPr>
        <p:spPr>
          <a:xfrm>
            <a:off x="1042920" y="11174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l Análisis de flujos metabólicos se puede definir como el cálculo y el análisis de la distribución de flujos de una vía metabolica de un sistema en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484360" y="2637000"/>
            <a:ext cx="4680000" cy="2371680"/>
          </a:xfrm>
          <a:prstGeom prst="rect">
            <a:avLst/>
          </a:prstGeom>
          <a:ln w="0">
            <a:noFill/>
          </a:ln>
        </p:spPr>
      </p:pic>
      <p:sp>
        <p:nvSpPr>
          <p:cNvPr id="49" name="5 CuadroTexto"/>
          <p:cNvSpPr/>
          <p:nvPr/>
        </p:nvSpPr>
        <p:spPr>
          <a:xfrm>
            <a:off x="1008000" y="5732640"/>
            <a:ext cx="75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  <a:ea typeface="Calibri"/>
              </a:rPr>
              <a:t>Esto puede ser representado en una matriz estequiométrica </a:t>
            </a:r>
            <a:r>
              <a:rPr b="1" lang="es-CL" sz="2000" spc="-1" strike="noStrike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  <a:ea typeface="Calibri"/>
              </a:rPr>
              <a:t> de </a:t>
            </a:r>
            <a:r>
              <a:rPr b="0" i="1" lang="es-CL" sz="2000" spc="-1" strike="noStrike">
                <a:solidFill>
                  <a:srgbClr val="000000"/>
                </a:solidFill>
                <a:latin typeface="Calibri"/>
                <a:ea typeface="Calibri"/>
              </a:rPr>
              <a:t>m 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  <a:ea typeface="Calibri"/>
              </a:rPr>
              <a:t>metabolitos (filas) y </a:t>
            </a:r>
            <a:r>
              <a:rPr b="0" i="1" lang="es-CL" sz="2000" spc="-1" strike="noStrike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  <a:ea typeface="Calibri"/>
              </a:rPr>
              <a:t> reacciones (columna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Object 5"/>
          <p:cNvGraphicFramePr/>
          <p:nvPr/>
        </p:nvGraphicFramePr>
        <p:xfrm>
          <a:off x="2011320" y="0"/>
          <a:ext cx="511956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1320" y="0"/>
                    <a:ext cx="5119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2168640" y="0"/>
          <a:ext cx="514512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8640" y="0"/>
                    <a:ext cx="5145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jemplo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4968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  <a:ea typeface="Calibri"/>
              </a:rPr>
              <a:t>Se asume estado pseudo-estacionario para los intermediarios B, D y NADH, luego son 3 restricciones en el sist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2700360" y="2860560"/>
            <a:ext cx="417528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1.  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3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1 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 -  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3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  -  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3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  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=  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2.  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3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 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 -  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3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  -  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3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5  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= 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3.  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3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   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-  2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3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   = 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Resolviendo para v2, v3 y v4 en términos de v1 y v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2411280" y="1557360"/>
            <a:ext cx="4248360" cy="31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1. 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3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3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2. 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3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=      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3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1      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-    2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3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3. 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3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=      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3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1      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-    3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3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580000" y="4292640"/>
            <a:ext cx="310356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User</cp:lastModifiedBy>
  <dcterms:modified xsi:type="dcterms:W3CDTF">2011-03-30T03:01:30Z</dcterms:modified>
  <cp:revision>26</cp:revision>
  <dc:subject/>
  <dc:title>Análisis de Flujos Metabólicos</dc:title>
</cp:coreProperties>
</file>