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71E-6094-4B4B-B62C-57E01FD7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EA2-85DB-402F-AD53-29EE7642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CA2-9A10-471B-8119-2B03B890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FFD-E5AF-4469-9462-0EEC6F2A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646-0BC2-4F43-AAC8-0F8255A1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683-6EF5-437A-8047-9F2B6F2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DE3-5D53-4532-9A99-93986FAF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352-DD56-4FB5-8B1D-E5D1637C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5E1-D3CA-4A41-8E54-C98277EC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15C-C80B-4B51-8C15-9935C0D7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86A-911A-4440-80BB-897D693B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2A1-D153-4694-B194-628E0B7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950D-E2AB-4D3C-9279-23A09E229DD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4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La resolución de este simple sistema se podría hacer mediante cálculos manuales, pero esto no es posible en todos los casos y no es recomendable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En vez de esto, se utiliza una aproximación matricial, en el cual las reacciones son tratadas utilizando álgebra line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755640" y="3573360"/>
            <a:ext cx="78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  <a:ea typeface="Calibri"/>
              </a:rPr>
              <a:t>Así, definimos 3 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Matriz estequiométrica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Vector de flujos en estado estacionario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Vector de flujos medibles 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triz de coeficientes estequiomé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32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84120" y="1781280"/>
            <a:ext cx="67820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.S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P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M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1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    0     0     0    1    0     0    0     0      0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2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-2     0     0    0    0     1    0     0      0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3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0    -1     0    0    0     1    0     0      0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 0     0    0    0     0    0     1      0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-1     0    0    0     0    0     0      1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 0     0    0    0     0    1     -1     0      1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 0    -1    0    1     0    0     0      0      0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0    0     0     0    0    0     0    0     0      -1    -1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J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   0     0     0    1    0     0    0     0      0      0 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2732040" y="2162160"/>
            <a:ext cx="4495680" cy="3505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jemplo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61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70"/>
          <p:cNvGrpSpPr/>
          <p:nvPr/>
        </p:nvGrpSpPr>
        <p:grpSpPr>
          <a:xfrm>
            <a:off x="838080" y="2057400"/>
            <a:ext cx="7848720" cy="4643640"/>
            <a:chOff x="838080" y="2057400"/>
            <a:chExt cx="7848720" cy="4643640"/>
          </a:xfrm>
        </p:grpSpPr>
        <p:sp>
          <p:nvSpPr>
            <p:cNvPr id="77" name="Text Box 60"/>
            <p:cNvSpPr/>
            <p:nvPr/>
          </p:nvSpPr>
          <p:spPr>
            <a:xfrm>
              <a:off x="838080" y="2057400"/>
              <a:ext cx="7848720" cy="46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ustrato 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tabolito Intracelular 1 (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r>
                <a:rPr b="1" lang="es-ES_tradnl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tabolito Intracelular 2 (B)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ducto 1 (P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4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etabolito Intracelular 3 (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5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	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800" spc="-1" strike="noStrike" baseline="-30000">
                  <a:solidFill>
                    <a:srgbClr val="000000"/>
                  </a:solidFill>
                  <a:latin typeface="Calibri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ducto 2 (P2)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ducto 3 (P3)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          </a:t>
              </a:r>
              <a:r>
                <a:rPr b="1" lang="es-E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62"/>
            <p:cNvSpPr/>
            <p:nvPr/>
          </p:nvSpPr>
          <p:spPr>
            <a:xfrm>
              <a:off x="1981080" y="3200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63"/>
            <p:cNvSpPr/>
            <p:nvPr/>
          </p:nvSpPr>
          <p:spPr>
            <a:xfrm>
              <a:off x="1981080" y="4038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64"/>
            <p:cNvSpPr/>
            <p:nvPr/>
          </p:nvSpPr>
          <p:spPr>
            <a:xfrm flipH="1">
              <a:off x="1632240" y="4853520"/>
              <a:ext cx="316800" cy="5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65"/>
            <p:cNvSpPr/>
            <p:nvPr/>
          </p:nvSpPr>
          <p:spPr>
            <a:xfrm>
              <a:off x="2895480" y="48769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66"/>
            <p:cNvSpPr/>
            <p:nvPr/>
          </p:nvSpPr>
          <p:spPr>
            <a:xfrm>
              <a:off x="419112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69"/>
          <p:cNvSpPr/>
          <p:nvPr/>
        </p:nvSpPr>
        <p:spPr>
          <a:xfrm>
            <a:off x="755640" y="1628640"/>
            <a:ext cx="763272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523880" y="1676520"/>
            <a:ext cx="594360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.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281952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281952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281952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28195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2819520" y="6400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9" descr="Ejercicio 1"/>
          <p:cNvPicPr/>
          <p:nvPr/>
        </p:nvPicPr>
        <p:blipFill>
          <a:blip r:embed="rId1"/>
          <a:stretch/>
        </p:blipFill>
        <p:spPr>
          <a:xfrm>
            <a:off x="6372360" y="2637000"/>
            <a:ext cx="2222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alance Estado Estacionario para Metabolitos Intracelula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395280" y="1571760"/>
            <a:ext cx="822960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: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: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-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3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-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3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+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: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5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-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0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5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+   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Ejercicio 1"/>
          <p:cNvPicPr/>
          <p:nvPr/>
        </p:nvPicPr>
        <p:blipFill>
          <a:blip r:embed="rId1"/>
          <a:stretch/>
        </p:blipFill>
        <p:spPr>
          <a:xfrm>
            <a:off x="6986520" y="3645000"/>
            <a:ext cx="21574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triz de Coeficientes estequiométricos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-612720" y="1484280"/>
            <a:ext cx="845820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971640" y="2637000"/>
            <a:ext cx="6324480" cy="3200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Ejercicio 1"/>
          <p:cNvPicPr/>
          <p:nvPr/>
        </p:nvPicPr>
        <p:blipFill>
          <a:blip r:embed="rId1"/>
          <a:stretch/>
        </p:blipFill>
        <p:spPr>
          <a:xfrm>
            <a:off x="7520040" y="4437000"/>
            <a:ext cx="1623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cuación de Balance Metabólico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09480" y="2362320"/>
            <a:ext cx="8305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      T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V : vector de flu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 : vector de flujos med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: matriz de coeficientes estequiomét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523880" y="2286000"/>
            <a:ext cx="304920" cy="1371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11280" y="155736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3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-1         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590400" y="1700280"/>
            <a:ext cx="38124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1332000" y="162864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7020000" y="148428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95280" y="5157720"/>
            <a:ext cx="70693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6 incógnitas, 3 metabolitos en estado estaciona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3 grados de libertad, hay que medir 3 metaboli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p1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 0.3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p2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0.5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2" descr="Ejercicio 1"/>
          <p:cNvPicPr/>
          <p:nvPr/>
        </p:nvPicPr>
        <p:blipFill>
          <a:blip r:embed="rId1"/>
          <a:stretch/>
        </p:blipFill>
        <p:spPr>
          <a:xfrm>
            <a:off x="7421400" y="4292640"/>
            <a:ext cx="1722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5800" y="205740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685800" y="2209680"/>
            <a:ext cx="380880" cy="2667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447920" y="213372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7086600" y="213372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85800" y="205740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7164360" y="2060640"/>
            <a:ext cx="38088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447920" y="213372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7956720" y="213372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  <a:ea typeface="Calibri"/>
              </a:rPr>
              <a:t>Flujos Metabó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El flujo metabólico se define como la tasa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 o velocidad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a la que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un sustr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 se convierte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en un producto ví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 reacciones y rutas metabólic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Sustrato – Metabolito Intermedio - Produ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ad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0" y="1628640"/>
            <a:ext cx="360036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826920" y="1700280"/>
            <a:ext cx="609840" cy="3733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700360" y="1700280"/>
            <a:ext cx="660240" cy="3886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356000" y="155736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ustrato 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t Int 1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 Int 2 (B)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ducto 1 (P1)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0.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et Int 3 (C)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ducto 2 (P2)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Producto 3 (P3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85928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4859280" y="2521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4859280" y="313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5940360" y="2997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 flipH="1">
            <a:off x="4859280" y="3716280"/>
            <a:ext cx="217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5219640" y="3716280"/>
            <a:ext cx="1152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jercicio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82"/>
          <p:cNvGrpSpPr/>
          <p:nvPr/>
        </p:nvGrpSpPr>
        <p:grpSpPr>
          <a:xfrm>
            <a:off x="2486880" y="836640"/>
            <a:ext cx="4101120" cy="5761080"/>
            <a:chOff x="2486880" y="836640"/>
            <a:chExt cx="4101120" cy="5761080"/>
          </a:xfrm>
        </p:grpSpPr>
        <p:sp>
          <p:nvSpPr>
            <p:cNvPr id="140" name="Text Box 5"/>
            <p:cNvSpPr/>
            <p:nvPr/>
          </p:nvSpPr>
          <p:spPr>
            <a:xfrm>
              <a:off x="2556000" y="836640"/>
              <a:ext cx="4032000" cy="576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5551560" y="1071720"/>
              <a:ext cx="3459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3246480" y="1071720"/>
              <a:ext cx="3459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4514760" y="2247840"/>
              <a:ext cx="344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3592440" y="3540240"/>
              <a:ext cx="346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5551560" y="3540240"/>
              <a:ext cx="345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2901960" y="4834080"/>
              <a:ext cx="344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4284720" y="4834080"/>
              <a:ext cx="344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3"/>
            <p:cNvSpPr/>
            <p:nvPr/>
          </p:nvSpPr>
          <p:spPr>
            <a:xfrm>
              <a:off x="2901960" y="6127920"/>
              <a:ext cx="34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H="1">
              <a:off x="3822840" y="2600280"/>
              <a:ext cx="57600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 flipH="1">
              <a:off x="3131640" y="3894120"/>
              <a:ext cx="46044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938760" y="3894120"/>
              <a:ext cx="46008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7"/>
            <p:cNvSpPr/>
            <p:nvPr/>
          </p:nvSpPr>
          <p:spPr>
            <a:xfrm>
              <a:off x="3068640" y="518652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8"/>
            <p:cNvSpPr/>
            <p:nvPr/>
          </p:nvSpPr>
          <p:spPr>
            <a:xfrm>
              <a:off x="4859280" y="2600280"/>
              <a:ext cx="69228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 flipH="1">
              <a:off x="4858920" y="1424160"/>
              <a:ext cx="69228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0"/>
            <p:cNvSpPr/>
            <p:nvPr/>
          </p:nvSpPr>
          <p:spPr>
            <a:xfrm>
              <a:off x="3592440" y="1424160"/>
              <a:ext cx="8064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4"/>
            <p:cNvSpPr/>
            <p:nvPr/>
          </p:nvSpPr>
          <p:spPr>
            <a:xfrm>
              <a:off x="3938760" y="1424160"/>
              <a:ext cx="230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2959200" y="1825560"/>
              <a:ext cx="46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Group 26"/>
            <p:cNvGrpSpPr/>
            <p:nvPr/>
          </p:nvGrpSpPr>
          <p:grpSpPr>
            <a:xfrm>
              <a:off x="3822840" y="1776240"/>
              <a:ext cx="166320" cy="706320"/>
              <a:chOff x="3822840" y="1776240"/>
              <a:chExt cx="166320" cy="706320"/>
            </a:xfrm>
          </p:grpSpPr>
          <p:sp>
            <p:nvSpPr>
              <p:cNvPr id="159" name="Freeform 27"/>
              <p:cNvSpPr/>
              <p:nvPr/>
            </p:nvSpPr>
            <p:spPr>
              <a:xfrm>
                <a:off x="3873960" y="1776240"/>
                <a:ext cx="115200" cy="5889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180" h="900">
                    <a:moveTo>
                      <a:pt x="0" y="0"/>
                    </a:moveTo>
                    <a:cubicBezTo>
                      <a:pt x="90" y="15"/>
                      <a:pt x="180" y="30"/>
                      <a:pt x="180" y="180"/>
                    </a:cubicBezTo>
                    <a:cubicBezTo>
                      <a:pt x="180" y="330"/>
                      <a:pt x="30" y="780"/>
                      <a:pt x="0" y="9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28"/>
              <p:cNvSpPr/>
              <p:nvPr/>
            </p:nvSpPr>
            <p:spPr>
              <a:xfrm flipH="1">
                <a:off x="3822840" y="2129400"/>
                <a:ext cx="115200" cy="35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Text Box 29"/>
            <p:cNvSpPr/>
            <p:nvPr/>
          </p:nvSpPr>
          <p:spPr>
            <a:xfrm>
              <a:off x="3478320" y="2444760"/>
              <a:ext cx="3729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5064120" y="1424160"/>
              <a:ext cx="2318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31"/>
            <p:cNvGrpSpPr/>
            <p:nvPr/>
          </p:nvGrpSpPr>
          <p:grpSpPr>
            <a:xfrm>
              <a:off x="5256360" y="1658880"/>
              <a:ext cx="614160" cy="483840"/>
              <a:chOff x="5256360" y="1658880"/>
              <a:chExt cx="614160" cy="483840"/>
            </a:xfrm>
          </p:grpSpPr>
          <p:sp>
            <p:nvSpPr>
              <p:cNvPr id="164" name="Freeform 32"/>
              <p:cNvSpPr/>
              <p:nvPr/>
            </p:nvSpPr>
            <p:spPr>
              <a:xfrm>
                <a:off x="5256360" y="1658880"/>
                <a:ext cx="614160" cy="47124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33"/>
              <p:cNvSpPr/>
              <p:nvPr/>
            </p:nvSpPr>
            <p:spPr>
              <a:xfrm>
                <a:off x="5524920" y="2012040"/>
                <a:ext cx="11484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34"/>
            <p:cNvSpPr/>
            <p:nvPr/>
          </p:nvSpPr>
          <p:spPr>
            <a:xfrm>
              <a:off x="5897520" y="1541520"/>
              <a:ext cx="46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5"/>
            <p:cNvSpPr/>
            <p:nvPr/>
          </p:nvSpPr>
          <p:spPr>
            <a:xfrm>
              <a:off x="5665680" y="2013120"/>
              <a:ext cx="576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6"/>
            <p:cNvSpPr/>
            <p:nvPr/>
          </p:nvSpPr>
          <p:spPr>
            <a:xfrm>
              <a:off x="4168800" y="3070080"/>
              <a:ext cx="230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37"/>
            <p:cNvSpPr/>
            <p:nvPr/>
          </p:nvSpPr>
          <p:spPr>
            <a:xfrm>
              <a:off x="3298680" y="3162240"/>
              <a:ext cx="46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41"/>
            <p:cNvSpPr/>
            <p:nvPr/>
          </p:nvSpPr>
          <p:spPr>
            <a:xfrm>
              <a:off x="5205240" y="2717640"/>
              <a:ext cx="230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42"/>
            <p:cNvGrpSpPr/>
            <p:nvPr/>
          </p:nvGrpSpPr>
          <p:grpSpPr>
            <a:xfrm>
              <a:off x="4693320" y="2849760"/>
              <a:ext cx="421920" cy="632160"/>
              <a:chOff x="4693320" y="2849760"/>
              <a:chExt cx="421920" cy="632160"/>
            </a:xfrm>
          </p:grpSpPr>
          <p:sp>
            <p:nvSpPr>
              <p:cNvPr id="172" name="Freeform 43"/>
              <p:cNvSpPr/>
              <p:nvPr/>
            </p:nvSpPr>
            <p:spPr>
              <a:xfrm rot="1342800">
                <a:off x="4892400" y="2849400"/>
                <a:ext cx="115200" cy="58752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587520"/>
                  <a:gd name="textAreaBottom" fmla="*/ 587880 h 587520"/>
                </a:gdLst>
                <a:ahLst/>
                <a:rect l="textAreaLeft" t="textAreaTop" r="textAreaRight" b="textAreaBottom"/>
                <a:pathLst>
                  <a:path w="180" h="900">
                    <a:moveTo>
                      <a:pt x="0" y="0"/>
                    </a:moveTo>
                    <a:cubicBezTo>
                      <a:pt x="90" y="15"/>
                      <a:pt x="180" y="30"/>
                      <a:pt x="180" y="180"/>
                    </a:cubicBezTo>
                    <a:cubicBezTo>
                      <a:pt x="180" y="330"/>
                      <a:pt x="30" y="780"/>
                      <a:pt x="0" y="9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4"/>
              <p:cNvSpPr/>
              <p:nvPr/>
            </p:nvSpPr>
            <p:spPr>
              <a:xfrm flipH="1">
                <a:off x="4693320" y="3200040"/>
                <a:ext cx="240480" cy="28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45"/>
            <p:cNvSpPr/>
            <p:nvPr/>
          </p:nvSpPr>
          <p:spPr>
            <a:xfrm>
              <a:off x="4591080" y="3462480"/>
              <a:ext cx="345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6"/>
            <p:cNvSpPr/>
            <p:nvPr/>
          </p:nvSpPr>
          <p:spPr>
            <a:xfrm>
              <a:off x="3478320" y="4246560"/>
              <a:ext cx="230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7"/>
            <p:cNvSpPr/>
            <p:nvPr/>
          </p:nvSpPr>
          <p:spPr>
            <a:xfrm>
              <a:off x="2849400" y="3789360"/>
              <a:ext cx="462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51"/>
            <p:cNvGrpSpPr/>
            <p:nvPr/>
          </p:nvGrpSpPr>
          <p:grpSpPr>
            <a:xfrm>
              <a:off x="3020760" y="4368600"/>
              <a:ext cx="300240" cy="315000"/>
              <a:chOff x="3020760" y="4368600"/>
              <a:chExt cx="300240" cy="315000"/>
            </a:xfrm>
          </p:grpSpPr>
          <p:sp>
            <p:nvSpPr>
              <p:cNvPr id="178" name="Freeform 52"/>
              <p:cNvSpPr/>
              <p:nvPr/>
            </p:nvSpPr>
            <p:spPr>
              <a:xfrm rot="1507800">
                <a:off x="3148560" y="4379040"/>
                <a:ext cx="115200" cy="2937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80" h="900">
                    <a:moveTo>
                      <a:pt x="0" y="0"/>
                    </a:moveTo>
                    <a:cubicBezTo>
                      <a:pt x="90" y="15"/>
                      <a:pt x="180" y="30"/>
                      <a:pt x="180" y="180"/>
                    </a:cubicBezTo>
                    <a:cubicBezTo>
                      <a:pt x="180" y="330"/>
                      <a:pt x="30" y="780"/>
                      <a:pt x="0" y="9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3"/>
              <p:cNvSpPr/>
              <p:nvPr/>
            </p:nvSpPr>
            <p:spPr>
              <a:xfrm flipH="1">
                <a:off x="3020760" y="4555440"/>
                <a:ext cx="17928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Text Box 54"/>
            <p:cNvSpPr/>
            <p:nvPr/>
          </p:nvSpPr>
          <p:spPr>
            <a:xfrm>
              <a:off x="2747880" y="4592520"/>
              <a:ext cx="38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55"/>
            <p:cNvSpPr/>
            <p:nvPr/>
          </p:nvSpPr>
          <p:spPr>
            <a:xfrm>
              <a:off x="3938760" y="4481640"/>
              <a:ext cx="230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4168800" y="4129200"/>
              <a:ext cx="614160" cy="482400"/>
              <a:chOff x="4168800" y="4129200"/>
              <a:chExt cx="614160" cy="48240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4168800" y="4129200"/>
                <a:ext cx="614160" cy="46944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469440"/>
                  <a:gd name="textAreaBottom" fmla="*/ 469800 h 4694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8"/>
              <p:cNvSpPr/>
              <p:nvPr/>
            </p:nvSpPr>
            <p:spPr>
              <a:xfrm>
                <a:off x="4437360" y="4481280"/>
                <a:ext cx="11484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Text Box 59"/>
            <p:cNvSpPr/>
            <p:nvPr/>
          </p:nvSpPr>
          <p:spPr>
            <a:xfrm>
              <a:off x="4629240" y="4481640"/>
              <a:ext cx="461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60"/>
            <p:cNvSpPr/>
            <p:nvPr/>
          </p:nvSpPr>
          <p:spPr>
            <a:xfrm>
              <a:off x="4745160" y="4011480"/>
              <a:ext cx="5760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1"/>
            <p:cNvSpPr/>
            <p:nvPr/>
          </p:nvSpPr>
          <p:spPr>
            <a:xfrm>
              <a:off x="2786040" y="5538960"/>
              <a:ext cx="2300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Group 62"/>
            <p:cNvGrpSpPr/>
            <p:nvPr/>
          </p:nvGrpSpPr>
          <p:grpSpPr>
            <a:xfrm>
              <a:off x="3054240" y="5421240"/>
              <a:ext cx="615960" cy="483840"/>
              <a:chOff x="3054240" y="5421240"/>
              <a:chExt cx="615960" cy="4838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3054240" y="5421240"/>
                <a:ext cx="615960" cy="47124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4"/>
              <p:cNvSpPr/>
              <p:nvPr/>
            </p:nvSpPr>
            <p:spPr>
              <a:xfrm>
                <a:off x="3323520" y="5774400"/>
                <a:ext cx="11520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Text Box 65"/>
            <p:cNvSpPr/>
            <p:nvPr/>
          </p:nvSpPr>
          <p:spPr>
            <a:xfrm>
              <a:off x="3478320" y="5775480"/>
              <a:ext cx="46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66"/>
            <p:cNvSpPr/>
            <p:nvPr/>
          </p:nvSpPr>
          <p:spPr>
            <a:xfrm>
              <a:off x="3708360" y="5303880"/>
              <a:ext cx="5763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70"/>
            <p:cNvSpPr/>
            <p:nvPr/>
          </p:nvSpPr>
          <p:spPr>
            <a:xfrm>
              <a:off x="2593800" y="5068800"/>
              <a:ext cx="46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72"/>
            <p:cNvSpPr/>
            <p:nvPr/>
          </p:nvSpPr>
          <p:spPr>
            <a:xfrm>
              <a:off x="3205800" y="21337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73"/>
            <p:cNvSpPr/>
            <p:nvPr/>
          </p:nvSpPr>
          <p:spPr>
            <a:xfrm>
              <a:off x="3494880" y="26924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74"/>
            <p:cNvSpPr/>
            <p:nvPr/>
          </p:nvSpPr>
          <p:spPr>
            <a:xfrm>
              <a:off x="2486880" y="422100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76"/>
            <p:cNvSpPr/>
            <p:nvPr/>
          </p:nvSpPr>
          <p:spPr>
            <a:xfrm rot="6864600">
              <a:off x="3276000" y="1665720"/>
              <a:ext cx="614160" cy="3938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0" h="720">
                  <a:moveTo>
                    <a:pt x="960" y="0"/>
                  </a:moveTo>
                  <a:cubicBezTo>
                    <a:pt x="540" y="30"/>
                    <a:pt x="120" y="60"/>
                    <a:pt x="60" y="180"/>
                  </a:cubicBezTo>
                  <a:cubicBezTo>
                    <a:pt x="0" y="300"/>
                    <a:pt x="510" y="630"/>
                    <a:pt x="60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78"/>
            <p:cNvSpPr/>
            <p:nvPr/>
          </p:nvSpPr>
          <p:spPr>
            <a:xfrm rot="12041400">
              <a:off x="3739680" y="2876400"/>
              <a:ext cx="287280" cy="525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960" h="720">
                  <a:moveTo>
                    <a:pt x="960" y="0"/>
                  </a:moveTo>
                  <a:cubicBezTo>
                    <a:pt x="540" y="30"/>
                    <a:pt x="120" y="60"/>
                    <a:pt x="60" y="180"/>
                  </a:cubicBezTo>
                  <a:cubicBezTo>
                    <a:pt x="0" y="300"/>
                    <a:pt x="510" y="630"/>
                    <a:pt x="60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79"/>
            <p:cNvSpPr/>
            <p:nvPr/>
          </p:nvSpPr>
          <p:spPr>
            <a:xfrm rot="11064600">
              <a:off x="2979360" y="3976200"/>
              <a:ext cx="431640" cy="454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960" h="720">
                  <a:moveTo>
                    <a:pt x="960" y="0"/>
                  </a:moveTo>
                  <a:cubicBezTo>
                    <a:pt x="540" y="30"/>
                    <a:pt x="120" y="60"/>
                    <a:pt x="60" y="180"/>
                  </a:cubicBezTo>
                  <a:cubicBezTo>
                    <a:pt x="0" y="300"/>
                    <a:pt x="510" y="630"/>
                    <a:pt x="60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80"/>
            <p:cNvSpPr/>
            <p:nvPr/>
          </p:nvSpPr>
          <p:spPr>
            <a:xfrm rot="10242000">
              <a:off x="2842560" y="5268600"/>
              <a:ext cx="207720" cy="60624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960" h="720">
                  <a:moveTo>
                    <a:pt x="960" y="0"/>
                  </a:moveTo>
                  <a:cubicBezTo>
                    <a:pt x="540" y="30"/>
                    <a:pt x="120" y="60"/>
                    <a:pt x="60" y="180"/>
                  </a:cubicBezTo>
                  <a:cubicBezTo>
                    <a:pt x="0" y="300"/>
                    <a:pt x="510" y="630"/>
                    <a:pt x="600" y="7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81"/>
            <p:cNvSpPr/>
            <p:nvPr/>
          </p:nvSpPr>
          <p:spPr>
            <a:xfrm>
              <a:off x="2486880" y="587700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539640" y="1268280"/>
            <a:ext cx="43434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A + ATP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C + CO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B + NAD</a:t>
            </a:r>
            <a:r>
              <a:rPr b="1" lang="es-ES" sz="2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C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D + A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C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E + CO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D + ATP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F + CO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D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G + NAD</a:t>
            </a:r>
            <a:r>
              <a:rPr b="1" lang="es-ES" sz="2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F + ATP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  H + NAD</a:t>
            </a:r>
            <a:r>
              <a:rPr b="1" lang="es-ES" sz="2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" descr="Ejercicio 2"/>
          <p:cNvPicPr/>
          <p:nvPr/>
        </p:nvPicPr>
        <p:blipFill>
          <a:blip r:embed="rId1"/>
          <a:stretch/>
        </p:blipFill>
        <p:spPr>
          <a:xfrm>
            <a:off x="5389560" y="1700280"/>
            <a:ext cx="34401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lance Estado Estacionario para Metabolitos Intracelula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79280" y="1484280"/>
            <a:ext cx="67834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= 0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D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=  0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F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=  0 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ATP: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3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s-ES_tradnl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:   -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Ejercicio 2"/>
          <p:cNvPicPr/>
          <p:nvPr/>
        </p:nvPicPr>
        <p:blipFill>
          <a:blip r:embed="rId1"/>
          <a:stretch/>
        </p:blipFill>
        <p:spPr>
          <a:xfrm>
            <a:off x="5802480" y="2205000"/>
            <a:ext cx="33415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atriz de Coeficientes estequiométricos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3" descr="Ejercicio 2"/>
          <p:cNvPicPr/>
          <p:nvPr/>
        </p:nvPicPr>
        <p:blipFill>
          <a:blip r:embed="rId1"/>
          <a:stretch/>
        </p:blipFill>
        <p:spPr>
          <a:xfrm>
            <a:off x="6991200" y="3860640"/>
            <a:ext cx="2152800" cy="299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97" descr=""/>
          <p:cNvPicPr/>
          <p:nvPr/>
        </p:nvPicPr>
        <p:blipFill>
          <a:blip r:embed="rId2"/>
          <a:stretch/>
        </p:blipFill>
        <p:spPr>
          <a:xfrm>
            <a:off x="0" y="890640"/>
            <a:ext cx="9756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09480" y="2362320"/>
            <a:ext cx="83059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=       T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V : vector de flu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 : vector de flujos med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: matriz de coeficientes estequiomét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523880" y="2286000"/>
            <a:ext cx="304920" cy="1371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66680" y="5273640"/>
            <a:ext cx="7069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7 incógnitas, 5 metabolitos en estado estaciona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2 grados de libertad, hay que medir 2 metaboli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2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 -3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194920" y="26028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cuación de Balance Meta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2" descr="Ejercicio 2"/>
          <p:cNvPicPr/>
          <p:nvPr/>
        </p:nvPicPr>
        <p:blipFill>
          <a:blip r:embed="rId1"/>
          <a:stretch/>
        </p:blipFill>
        <p:spPr>
          <a:xfrm>
            <a:off x="6576840" y="3284640"/>
            <a:ext cx="2567160" cy="3573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2"/>
          <a:stretch/>
        </p:blipFill>
        <p:spPr>
          <a:xfrm>
            <a:off x="-396720" y="907920"/>
            <a:ext cx="750888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95" descr=""/>
          <p:cNvPicPr/>
          <p:nvPr/>
        </p:nvPicPr>
        <p:blipFill>
          <a:blip r:embed="rId1"/>
          <a:stretch/>
        </p:blipFill>
        <p:spPr>
          <a:xfrm>
            <a:off x="-900000" y="1484280"/>
            <a:ext cx="97614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49" descr=""/>
          <p:cNvPicPr/>
          <p:nvPr/>
        </p:nvPicPr>
        <p:blipFill>
          <a:blip r:embed="rId1"/>
          <a:stretch/>
        </p:blipFill>
        <p:spPr>
          <a:xfrm>
            <a:off x="0" y="1866960"/>
            <a:ext cx="914400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ad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278"/>
          <p:cNvGrpSpPr/>
          <p:nvPr/>
        </p:nvGrpSpPr>
        <p:grpSpPr>
          <a:xfrm>
            <a:off x="4718880" y="907920"/>
            <a:ext cx="4101120" cy="5761080"/>
            <a:chOff x="4718880" y="907920"/>
            <a:chExt cx="4101120" cy="5761080"/>
          </a:xfrm>
        </p:grpSpPr>
        <p:sp>
          <p:nvSpPr>
            <p:cNvPr id="231" name="Text Box 109"/>
            <p:cNvSpPr/>
            <p:nvPr/>
          </p:nvSpPr>
          <p:spPr>
            <a:xfrm>
              <a:off x="6170400" y="1495440"/>
              <a:ext cx="230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15"/>
            <p:cNvSpPr/>
            <p:nvPr/>
          </p:nvSpPr>
          <p:spPr>
            <a:xfrm>
              <a:off x="7296120" y="1495440"/>
              <a:ext cx="2318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21"/>
            <p:cNvSpPr/>
            <p:nvPr/>
          </p:nvSpPr>
          <p:spPr>
            <a:xfrm>
              <a:off x="6400800" y="3141720"/>
              <a:ext cx="230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26"/>
            <p:cNvSpPr/>
            <p:nvPr/>
          </p:nvSpPr>
          <p:spPr>
            <a:xfrm>
              <a:off x="7437240" y="2789280"/>
              <a:ext cx="230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31"/>
            <p:cNvSpPr/>
            <p:nvPr/>
          </p:nvSpPr>
          <p:spPr>
            <a:xfrm>
              <a:off x="5709960" y="4317840"/>
              <a:ext cx="230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40"/>
            <p:cNvSpPr/>
            <p:nvPr/>
          </p:nvSpPr>
          <p:spPr>
            <a:xfrm>
              <a:off x="6170400" y="4552920"/>
              <a:ext cx="230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46"/>
            <p:cNvSpPr/>
            <p:nvPr/>
          </p:nvSpPr>
          <p:spPr>
            <a:xfrm>
              <a:off x="5018040" y="5610240"/>
              <a:ext cx="2300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222"/>
            <p:cNvGrpSpPr/>
            <p:nvPr/>
          </p:nvGrpSpPr>
          <p:grpSpPr>
            <a:xfrm>
              <a:off x="4718880" y="907920"/>
              <a:ext cx="4101120" cy="5761080"/>
              <a:chOff x="4718880" y="907920"/>
              <a:chExt cx="4101120" cy="5761080"/>
            </a:xfrm>
          </p:grpSpPr>
          <p:sp>
            <p:nvSpPr>
              <p:cNvPr id="239" name="Text Box 223"/>
              <p:cNvSpPr/>
              <p:nvPr/>
            </p:nvSpPr>
            <p:spPr>
              <a:xfrm>
                <a:off x="4788000" y="907920"/>
                <a:ext cx="4032000" cy="5761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24"/>
              <p:cNvSpPr/>
              <p:nvPr/>
            </p:nvSpPr>
            <p:spPr>
              <a:xfrm>
                <a:off x="7783560" y="1143000"/>
                <a:ext cx="34596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Text Box 225"/>
              <p:cNvSpPr/>
              <p:nvPr/>
            </p:nvSpPr>
            <p:spPr>
              <a:xfrm>
                <a:off x="5478480" y="1143000"/>
                <a:ext cx="34596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Text Box 226"/>
              <p:cNvSpPr/>
              <p:nvPr/>
            </p:nvSpPr>
            <p:spPr>
              <a:xfrm>
                <a:off x="6746760" y="2319120"/>
                <a:ext cx="3445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227"/>
              <p:cNvSpPr/>
              <p:nvPr/>
            </p:nvSpPr>
            <p:spPr>
              <a:xfrm>
                <a:off x="5824440" y="3611520"/>
                <a:ext cx="3463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228"/>
              <p:cNvSpPr/>
              <p:nvPr/>
            </p:nvSpPr>
            <p:spPr>
              <a:xfrm>
                <a:off x="7783560" y="3611520"/>
                <a:ext cx="34596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Text Box 229"/>
              <p:cNvSpPr/>
              <p:nvPr/>
            </p:nvSpPr>
            <p:spPr>
              <a:xfrm>
                <a:off x="5133960" y="4905360"/>
                <a:ext cx="3445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230"/>
              <p:cNvSpPr/>
              <p:nvPr/>
            </p:nvSpPr>
            <p:spPr>
              <a:xfrm>
                <a:off x="6516720" y="4905360"/>
                <a:ext cx="3445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231"/>
              <p:cNvSpPr/>
              <p:nvPr/>
            </p:nvSpPr>
            <p:spPr>
              <a:xfrm>
                <a:off x="5133960" y="6199200"/>
                <a:ext cx="3445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232"/>
              <p:cNvSpPr/>
              <p:nvPr/>
            </p:nvSpPr>
            <p:spPr>
              <a:xfrm flipH="1">
                <a:off x="6054840" y="2671560"/>
                <a:ext cx="57600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233"/>
              <p:cNvSpPr/>
              <p:nvPr/>
            </p:nvSpPr>
            <p:spPr>
              <a:xfrm flipH="1">
                <a:off x="5363640" y="3965400"/>
                <a:ext cx="46044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234"/>
              <p:cNvSpPr/>
              <p:nvPr/>
            </p:nvSpPr>
            <p:spPr>
              <a:xfrm>
                <a:off x="6170760" y="3965400"/>
                <a:ext cx="46008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235"/>
              <p:cNvSpPr/>
              <p:nvPr/>
            </p:nvSpPr>
            <p:spPr>
              <a:xfrm>
                <a:off x="5300640" y="5257800"/>
                <a:ext cx="0" cy="9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236"/>
              <p:cNvSpPr/>
              <p:nvPr/>
            </p:nvSpPr>
            <p:spPr>
              <a:xfrm>
                <a:off x="7091280" y="2671560"/>
                <a:ext cx="69228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237"/>
              <p:cNvSpPr/>
              <p:nvPr/>
            </p:nvSpPr>
            <p:spPr>
              <a:xfrm flipH="1">
                <a:off x="7090920" y="1495440"/>
                <a:ext cx="69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238"/>
              <p:cNvSpPr/>
              <p:nvPr/>
            </p:nvSpPr>
            <p:spPr>
              <a:xfrm>
                <a:off x="5824440" y="1495440"/>
                <a:ext cx="8064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239"/>
              <p:cNvSpPr/>
              <p:nvPr/>
            </p:nvSpPr>
            <p:spPr>
              <a:xfrm>
                <a:off x="5191200" y="1896840"/>
                <a:ext cx="46044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Group 240"/>
              <p:cNvGrpSpPr/>
              <p:nvPr/>
            </p:nvGrpSpPr>
            <p:grpSpPr>
              <a:xfrm>
                <a:off x="6054840" y="1847520"/>
                <a:ext cx="166320" cy="706320"/>
                <a:chOff x="6054840" y="1847520"/>
                <a:chExt cx="166320" cy="706320"/>
              </a:xfrm>
            </p:grpSpPr>
            <p:sp>
              <p:nvSpPr>
                <p:cNvPr id="257" name="Freeform 241"/>
                <p:cNvSpPr/>
                <p:nvPr/>
              </p:nvSpPr>
              <p:spPr>
                <a:xfrm>
                  <a:off x="6105960" y="1847520"/>
                  <a:ext cx="115200" cy="58896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180" h="900">
                      <a:moveTo>
                        <a:pt x="0" y="0"/>
                      </a:moveTo>
                      <a:cubicBezTo>
                        <a:pt x="90" y="15"/>
                        <a:pt x="180" y="30"/>
                        <a:pt x="180" y="180"/>
                      </a:cubicBezTo>
                      <a:cubicBezTo>
                        <a:pt x="180" y="330"/>
                        <a:pt x="30" y="780"/>
                        <a:pt x="0" y="9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242"/>
                <p:cNvSpPr/>
                <p:nvPr/>
              </p:nvSpPr>
              <p:spPr>
                <a:xfrm flipH="1">
                  <a:off x="6054840" y="2200680"/>
                  <a:ext cx="115200" cy="35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Text Box 243"/>
              <p:cNvSpPr/>
              <p:nvPr/>
            </p:nvSpPr>
            <p:spPr>
              <a:xfrm>
                <a:off x="5710320" y="2516040"/>
                <a:ext cx="37296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Group 244"/>
              <p:cNvGrpSpPr/>
              <p:nvPr/>
            </p:nvGrpSpPr>
            <p:grpSpPr>
              <a:xfrm>
                <a:off x="7488360" y="1730160"/>
                <a:ext cx="614160" cy="483840"/>
                <a:chOff x="7488360" y="1730160"/>
                <a:chExt cx="614160" cy="483840"/>
              </a:xfrm>
            </p:grpSpPr>
            <p:sp>
              <p:nvSpPr>
                <p:cNvPr id="261" name="Freeform 245"/>
                <p:cNvSpPr/>
                <p:nvPr/>
              </p:nvSpPr>
              <p:spPr>
                <a:xfrm>
                  <a:off x="7488360" y="1730160"/>
                  <a:ext cx="614160" cy="4712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960" h="720">
                      <a:moveTo>
                        <a:pt x="960" y="0"/>
                      </a:moveTo>
                      <a:cubicBezTo>
                        <a:pt x="540" y="30"/>
                        <a:pt x="120" y="60"/>
                        <a:pt x="60" y="180"/>
                      </a:cubicBezTo>
                      <a:cubicBezTo>
                        <a:pt x="0" y="300"/>
                        <a:pt x="510" y="630"/>
                        <a:pt x="600" y="7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246"/>
                <p:cNvSpPr/>
                <p:nvPr/>
              </p:nvSpPr>
              <p:spPr>
                <a:xfrm>
                  <a:off x="7756920" y="2083320"/>
                  <a:ext cx="114840" cy="13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247"/>
              <p:cNvSpPr/>
              <p:nvPr/>
            </p:nvSpPr>
            <p:spPr>
              <a:xfrm>
                <a:off x="8129520" y="1612800"/>
                <a:ext cx="46044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248"/>
              <p:cNvSpPr/>
              <p:nvPr/>
            </p:nvSpPr>
            <p:spPr>
              <a:xfrm>
                <a:off x="7897680" y="2084400"/>
                <a:ext cx="57636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249"/>
              <p:cNvSpPr/>
              <p:nvPr/>
            </p:nvSpPr>
            <p:spPr>
              <a:xfrm>
                <a:off x="5530680" y="3233520"/>
                <a:ext cx="46044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Group 250"/>
              <p:cNvGrpSpPr/>
              <p:nvPr/>
            </p:nvGrpSpPr>
            <p:grpSpPr>
              <a:xfrm>
                <a:off x="6925320" y="2921040"/>
                <a:ext cx="421920" cy="632160"/>
                <a:chOff x="6925320" y="2921040"/>
                <a:chExt cx="421920" cy="632160"/>
              </a:xfrm>
            </p:grpSpPr>
            <p:sp>
              <p:nvSpPr>
                <p:cNvPr id="267" name="Freeform 251"/>
                <p:cNvSpPr/>
                <p:nvPr/>
              </p:nvSpPr>
              <p:spPr>
                <a:xfrm rot="1342800">
                  <a:off x="7124400" y="2920680"/>
                  <a:ext cx="115200" cy="5875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587520"/>
                    <a:gd name="textAreaBottom" fmla="*/ 587880 h 587520"/>
                  </a:gdLst>
                  <a:ahLst/>
                  <a:rect l="textAreaLeft" t="textAreaTop" r="textAreaRight" b="textAreaBottom"/>
                  <a:pathLst>
                    <a:path w="180" h="900">
                      <a:moveTo>
                        <a:pt x="0" y="0"/>
                      </a:moveTo>
                      <a:cubicBezTo>
                        <a:pt x="90" y="15"/>
                        <a:pt x="180" y="30"/>
                        <a:pt x="180" y="180"/>
                      </a:cubicBezTo>
                      <a:cubicBezTo>
                        <a:pt x="180" y="330"/>
                        <a:pt x="30" y="780"/>
                        <a:pt x="0" y="9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252"/>
                <p:cNvSpPr/>
                <p:nvPr/>
              </p:nvSpPr>
              <p:spPr>
                <a:xfrm flipH="1">
                  <a:off x="6925320" y="3271320"/>
                  <a:ext cx="240480" cy="28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Text Box 253"/>
              <p:cNvSpPr/>
              <p:nvPr/>
            </p:nvSpPr>
            <p:spPr>
              <a:xfrm>
                <a:off x="6823080" y="3533760"/>
                <a:ext cx="34596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Text Box 254"/>
              <p:cNvSpPr/>
              <p:nvPr/>
            </p:nvSpPr>
            <p:spPr>
              <a:xfrm>
                <a:off x="5081400" y="3860640"/>
                <a:ext cx="46224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Group 255"/>
              <p:cNvGrpSpPr/>
              <p:nvPr/>
            </p:nvGrpSpPr>
            <p:grpSpPr>
              <a:xfrm>
                <a:off x="5252760" y="4439880"/>
                <a:ext cx="300240" cy="315000"/>
                <a:chOff x="5252760" y="4439880"/>
                <a:chExt cx="300240" cy="315000"/>
              </a:xfrm>
            </p:grpSpPr>
            <p:sp>
              <p:nvSpPr>
                <p:cNvPr id="272" name="Freeform 256"/>
                <p:cNvSpPr/>
                <p:nvPr/>
              </p:nvSpPr>
              <p:spPr>
                <a:xfrm rot="1507800">
                  <a:off x="5380560" y="4450320"/>
                  <a:ext cx="115200" cy="29376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180" h="900">
                      <a:moveTo>
                        <a:pt x="0" y="0"/>
                      </a:moveTo>
                      <a:cubicBezTo>
                        <a:pt x="90" y="15"/>
                        <a:pt x="180" y="30"/>
                        <a:pt x="180" y="180"/>
                      </a:cubicBezTo>
                      <a:cubicBezTo>
                        <a:pt x="180" y="330"/>
                        <a:pt x="30" y="780"/>
                        <a:pt x="0" y="9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57"/>
                <p:cNvSpPr/>
                <p:nvPr/>
              </p:nvSpPr>
              <p:spPr>
                <a:xfrm flipH="1">
                  <a:off x="5252760" y="4626720"/>
                  <a:ext cx="17928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Text Box 258"/>
              <p:cNvSpPr/>
              <p:nvPr/>
            </p:nvSpPr>
            <p:spPr>
              <a:xfrm>
                <a:off x="4979880" y="4663800"/>
                <a:ext cx="384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Group 259"/>
              <p:cNvGrpSpPr/>
              <p:nvPr/>
            </p:nvGrpSpPr>
            <p:grpSpPr>
              <a:xfrm>
                <a:off x="6400800" y="4200480"/>
                <a:ext cx="614160" cy="482400"/>
                <a:chOff x="6400800" y="4200480"/>
                <a:chExt cx="614160" cy="482400"/>
              </a:xfrm>
            </p:grpSpPr>
            <p:sp>
              <p:nvSpPr>
                <p:cNvPr id="276" name="Freeform 260"/>
                <p:cNvSpPr/>
                <p:nvPr/>
              </p:nvSpPr>
              <p:spPr>
                <a:xfrm>
                  <a:off x="6400800" y="4200480"/>
                  <a:ext cx="614160" cy="4694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469440"/>
                    <a:gd name="textAreaBottom" fmla="*/ 469800 h 469440"/>
                  </a:gdLst>
                  <a:ahLst/>
                  <a:rect l="textAreaLeft" t="textAreaTop" r="textAreaRight" b="textAreaBottom"/>
                  <a:pathLst>
                    <a:path w="960" h="720">
                      <a:moveTo>
                        <a:pt x="960" y="0"/>
                      </a:moveTo>
                      <a:cubicBezTo>
                        <a:pt x="540" y="30"/>
                        <a:pt x="120" y="60"/>
                        <a:pt x="60" y="180"/>
                      </a:cubicBezTo>
                      <a:cubicBezTo>
                        <a:pt x="0" y="300"/>
                        <a:pt x="510" y="630"/>
                        <a:pt x="600" y="7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261"/>
                <p:cNvSpPr/>
                <p:nvPr/>
              </p:nvSpPr>
              <p:spPr>
                <a:xfrm>
                  <a:off x="6669360" y="4552560"/>
                  <a:ext cx="114840" cy="13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Text Box 262"/>
              <p:cNvSpPr/>
              <p:nvPr/>
            </p:nvSpPr>
            <p:spPr>
              <a:xfrm>
                <a:off x="6861240" y="4552920"/>
                <a:ext cx="46188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263"/>
              <p:cNvSpPr/>
              <p:nvPr/>
            </p:nvSpPr>
            <p:spPr>
              <a:xfrm>
                <a:off x="6977160" y="4082760"/>
                <a:ext cx="57600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Group 264"/>
              <p:cNvGrpSpPr/>
              <p:nvPr/>
            </p:nvGrpSpPr>
            <p:grpSpPr>
              <a:xfrm>
                <a:off x="5286240" y="5492520"/>
                <a:ext cx="615960" cy="483840"/>
                <a:chOff x="5286240" y="5492520"/>
                <a:chExt cx="615960" cy="483840"/>
              </a:xfrm>
            </p:grpSpPr>
            <p:sp>
              <p:nvSpPr>
                <p:cNvPr id="281" name="Freeform 265"/>
                <p:cNvSpPr/>
                <p:nvPr/>
              </p:nvSpPr>
              <p:spPr>
                <a:xfrm>
                  <a:off x="5286240" y="5492520"/>
                  <a:ext cx="615960" cy="471240"/>
                </a:xfrm>
                <a:custGeom>
                  <a:avLst/>
                  <a:gdLst>
                    <a:gd name="textAreaLeft" fmla="*/ 0 w 615960"/>
                    <a:gd name="textAreaRight" fmla="*/ 616320 w 61596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960" h="720">
                      <a:moveTo>
                        <a:pt x="960" y="0"/>
                      </a:moveTo>
                      <a:cubicBezTo>
                        <a:pt x="540" y="30"/>
                        <a:pt x="120" y="60"/>
                        <a:pt x="60" y="180"/>
                      </a:cubicBezTo>
                      <a:cubicBezTo>
                        <a:pt x="0" y="300"/>
                        <a:pt x="510" y="630"/>
                        <a:pt x="600" y="7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266"/>
                <p:cNvSpPr/>
                <p:nvPr/>
              </p:nvSpPr>
              <p:spPr>
                <a:xfrm>
                  <a:off x="5555520" y="5845680"/>
                  <a:ext cx="115200" cy="13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267"/>
              <p:cNvSpPr/>
              <p:nvPr/>
            </p:nvSpPr>
            <p:spPr>
              <a:xfrm>
                <a:off x="5710320" y="5846760"/>
                <a:ext cx="460440" cy="23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268"/>
              <p:cNvSpPr/>
              <p:nvPr/>
            </p:nvSpPr>
            <p:spPr>
              <a:xfrm>
                <a:off x="5940360" y="5375160"/>
                <a:ext cx="57636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269"/>
              <p:cNvSpPr/>
              <p:nvPr/>
            </p:nvSpPr>
            <p:spPr>
              <a:xfrm>
                <a:off x="4825800" y="5140080"/>
                <a:ext cx="46044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270"/>
              <p:cNvSpPr/>
              <p:nvPr/>
            </p:nvSpPr>
            <p:spPr>
              <a:xfrm>
                <a:off x="5437800" y="220500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271"/>
              <p:cNvSpPr/>
              <p:nvPr/>
            </p:nvSpPr>
            <p:spPr>
              <a:xfrm>
                <a:off x="5726880" y="276372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72"/>
              <p:cNvSpPr/>
              <p:nvPr/>
            </p:nvSpPr>
            <p:spPr>
              <a:xfrm>
                <a:off x="4718880" y="429228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273"/>
              <p:cNvSpPr/>
              <p:nvPr/>
            </p:nvSpPr>
            <p:spPr>
              <a:xfrm rot="6864600">
                <a:off x="5508000" y="1737000"/>
                <a:ext cx="614160" cy="393840"/>
              </a:xfrm>
              <a:custGeom>
                <a:avLst/>
                <a:gdLst>
                  <a:gd name="textAreaLeft" fmla="*/ 0 w 614160"/>
                  <a:gd name="textAreaRight" fmla="*/ 614520 w 6141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274"/>
              <p:cNvSpPr/>
              <p:nvPr/>
            </p:nvSpPr>
            <p:spPr>
              <a:xfrm rot="12041400">
                <a:off x="5971680" y="2947680"/>
                <a:ext cx="287280" cy="5256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525600"/>
                  <a:gd name="textAreaBottom" fmla="*/ 525960 h 52560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275"/>
              <p:cNvSpPr/>
              <p:nvPr/>
            </p:nvSpPr>
            <p:spPr>
              <a:xfrm rot="11064600">
                <a:off x="5211360" y="4047480"/>
                <a:ext cx="431640" cy="45432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276"/>
              <p:cNvSpPr/>
              <p:nvPr/>
            </p:nvSpPr>
            <p:spPr>
              <a:xfrm rot="10242000">
                <a:off x="5074560" y="5339880"/>
                <a:ext cx="207720" cy="60624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960" h="720">
                    <a:moveTo>
                      <a:pt x="960" y="0"/>
                    </a:moveTo>
                    <a:cubicBezTo>
                      <a:pt x="540" y="30"/>
                      <a:pt x="120" y="60"/>
                      <a:pt x="60" y="180"/>
                    </a:cubicBezTo>
                    <a:cubicBezTo>
                      <a:pt x="0" y="300"/>
                      <a:pt x="510" y="630"/>
                      <a:pt x="600" y="7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277"/>
              <p:cNvSpPr/>
              <p:nvPr/>
            </p:nvSpPr>
            <p:spPr>
              <a:xfrm>
                <a:off x="4718880" y="594828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94" name="Picture 280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44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Método para determinar los flujos metaból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Utiliza modelos estequiométricos de las vías y balances de masa para metabolitos intracelu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Se miden los flujos de metabolitos extracelu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Se obtiene un mapa de flujos metabólicos que permite comparar distintas condiciones y encontrar posibles problemas en la v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43 Rectángulo"/>
          <p:cNvSpPr/>
          <p:nvPr/>
        </p:nvSpPr>
        <p:spPr>
          <a:xfrm>
            <a:off x="611280" y="335772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Sistema exactamente determina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3 Rectángulo"/>
          <p:cNvSpPr/>
          <p:nvPr/>
        </p:nvSpPr>
        <p:spPr>
          <a:xfrm>
            <a:off x="75564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Según la estructura de la matriz estequiométrica, el sistema puede encontrarse de 3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Determinado, sobredeterminado o sub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922400" y="344520"/>
            <a:ext cx="545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25"/>
              <p:cNvSpPr txBox="1"/>
              <p:nvPr/>
            </p:nvSpPr>
            <p:spPr>
              <a:xfrm>
                <a:off x="2763720" y="3979800"/>
                <a:ext cx="3753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6"/>
              <p:cNvSpPr txBox="1"/>
              <p:nvPr/>
            </p:nvSpPr>
            <p:spPr>
              <a:xfrm>
                <a:off x="3571920" y="2647800"/>
                <a:ext cx="1760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3525840" y="4797360"/>
                <a:ext cx="210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cuación de Balance Metabólico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85800" y="205740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685800" y="2209680"/>
            <a:ext cx="380880" cy="2667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1447920" y="213372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7086600" y="213372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ción de Balance Metaból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685800" y="2057400"/>
            <a:ext cx="815328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           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7164360" y="2060640"/>
            <a:ext cx="38088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1447920" y="2133720"/>
            <a:ext cx="5333760" cy="2743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7956720" y="2133720"/>
            <a:ext cx="457200" cy="2666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43 Rectángulo"/>
          <p:cNvSpPr/>
          <p:nvPr/>
        </p:nvSpPr>
        <p:spPr>
          <a:xfrm>
            <a:off x="611280" y="3357720"/>
            <a:ext cx="7489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Sistema exactamente determinado (matriz no inverti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3 Rectángulo"/>
          <p:cNvSpPr/>
          <p:nvPr/>
        </p:nvSpPr>
        <p:spPr>
          <a:xfrm>
            <a:off x="75564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Según la estructura de la matriz estequiométrica, el sistema puede encontrarse de 3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Determinado, sobredeterminado o sub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922400" y="272880"/>
            <a:ext cx="545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6"/>
              <p:cNvSpPr txBox="1"/>
              <p:nvPr/>
            </p:nvSpPr>
            <p:spPr>
              <a:xfrm>
                <a:off x="3727440" y="2676600"/>
                <a:ext cx="1447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2805120" y="4076640"/>
                <a:ext cx="30830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S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5"/>
              <p:cNvSpPr txBox="1"/>
              <p:nvPr/>
            </p:nvSpPr>
            <p:spPr>
              <a:xfrm>
                <a:off x="3540240" y="5157720"/>
                <a:ext cx="1858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43 Rectángulo"/>
          <p:cNvSpPr/>
          <p:nvPr/>
        </p:nvSpPr>
        <p:spPr>
          <a:xfrm>
            <a:off x="611280" y="3357720"/>
            <a:ext cx="7489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Sistema exactamente deter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Sistema sobredeterminado: Es necesario agregar información al sistema, medición de metabolitos extracelulares (vector b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Rectángulo"/>
          <p:cNvSpPr/>
          <p:nvPr/>
        </p:nvSpPr>
        <p:spPr>
          <a:xfrm>
            <a:off x="75564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Según la estructura de la matriz estequiométrica, el sistema puede encontrarse de 3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Determinado, sobredeterminado o sub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922400" y="272880"/>
            <a:ext cx="545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5"/>
              <p:cNvSpPr txBox="1"/>
              <p:nvPr/>
            </p:nvSpPr>
            <p:spPr>
              <a:xfrm>
                <a:off x="2014560" y="3860640"/>
                <a:ext cx="1514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6"/>
              <p:cNvSpPr txBox="1"/>
              <p:nvPr/>
            </p:nvSpPr>
            <p:spPr>
              <a:xfrm>
                <a:off x="3727440" y="2676600"/>
                <a:ext cx="1446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7"/>
              <p:cNvSpPr txBox="1"/>
              <p:nvPr/>
            </p:nvSpPr>
            <p:spPr>
              <a:xfrm>
                <a:off x="4768920" y="3780000"/>
                <a:ext cx="3082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S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66680" y="5273640"/>
            <a:ext cx="70693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7 incógnitas, 5 metabolitos en estado estaciona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2 grados de libertad, hay que medir 2 metaboli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2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=  -3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2194920" y="26028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Ecuación de Balance Meta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2" descr="Ejercicio 2"/>
          <p:cNvPicPr/>
          <p:nvPr/>
        </p:nvPicPr>
        <p:blipFill>
          <a:blip r:embed="rId1"/>
          <a:stretch/>
        </p:blipFill>
        <p:spPr>
          <a:xfrm>
            <a:off x="6576840" y="3284640"/>
            <a:ext cx="2567160" cy="3573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4" descr=""/>
          <p:cNvPicPr/>
          <p:nvPr/>
        </p:nvPicPr>
        <p:blipFill>
          <a:blip r:embed="rId2"/>
          <a:stretch/>
        </p:blipFill>
        <p:spPr>
          <a:xfrm>
            <a:off x="-396720" y="907920"/>
            <a:ext cx="750888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43 Rectángulo"/>
          <p:cNvSpPr/>
          <p:nvPr/>
        </p:nvSpPr>
        <p:spPr>
          <a:xfrm>
            <a:off x="754200" y="38116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Sistema subdeterminado: Es necesario agregar restricciones, solución con </a:t>
            </a:r>
            <a:r>
              <a:rPr b="1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optimización lineal</a:t>
            </a:r>
            <a:r>
              <a:rPr b="0" lang="es-CL" sz="2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Rectángulo"/>
          <p:cNvSpPr/>
          <p:nvPr/>
        </p:nvSpPr>
        <p:spPr>
          <a:xfrm>
            <a:off x="755640" y="1197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Según la estructura de la matriz estequiométrica, el sistema puede encontrarse de 3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alibri"/>
                <a:ea typeface="Calibri"/>
              </a:rPr>
              <a:t>Determinado, sobredeterminado o subde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922400" y="272880"/>
            <a:ext cx="545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6"/>
              <p:cNvSpPr txBox="1"/>
              <p:nvPr/>
            </p:nvSpPr>
            <p:spPr>
              <a:xfrm>
                <a:off x="3753000" y="2809800"/>
                <a:ext cx="1446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1851120" y="272880"/>
            <a:ext cx="54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álisis de Flujos metabó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4 Rectángulo"/>
          <p:cNvSpPr/>
          <p:nvPr/>
        </p:nvSpPr>
        <p:spPr>
          <a:xfrm>
            <a:off x="1042920" y="11174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l Análisis de flujos metabólicos se puede definir como el cálculo y el análisis de la distribución de flujos de una vía metabolica de un sistema en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4680000" cy="2371680"/>
          </a:xfrm>
          <a:prstGeom prst="rect">
            <a:avLst/>
          </a:prstGeom>
          <a:ln w="0">
            <a:noFill/>
          </a:ln>
        </p:spPr>
      </p:pic>
      <p:sp>
        <p:nvSpPr>
          <p:cNvPr id="49" name="5 CuadroTexto"/>
          <p:cNvSpPr/>
          <p:nvPr/>
        </p:nvSpPr>
        <p:spPr>
          <a:xfrm>
            <a:off x="1008000" y="573264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Esto puede ser representado en una matriz estequiométrica 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 de </a:t>
            </a:r>
            <a:r>
              <a:rPr b="0" i="1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metabolitos (filas) y </a:t>
            </a:r>
            <a:r>
              <a:rPr b="0" i="1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  <a:ea typeface="Calibri"/>
              </a:rPr>
              <a:t> reacciones (columna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011320" y="0"/>
          <a:ext cx="5119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1320" y="0"/>
                    <a:ext cx="5119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168640" y="0"/>
          <a:ext cx="5145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8640" y="0"/>
                    <a:ext cx="5145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968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  <a:ea typeface="Calibri"/>
              </a:rPr>
              <a:t>Se asume estado pseudo-estacionario para los intermediarios B, D y NADH, luego son 3 restricciones en el sist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700360" y="2860560"/>
            <a:ext cx="417528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-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 -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  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-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 -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 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 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2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= 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Resolviendo para v2, v3 y v4 en términos de v1 y v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411280" y="1557360"/>
            <a:ext cx="424836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    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    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  2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=     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     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  3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s-ES" sz="3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580000" y="4292640"/>
            <a:ext cx="31035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1-03-30T03:01:30Z</dcterms:modified>
  <cp:revision>26</cp:revision>
  <dc:subject/>
  <dc:title>Análisis de Flujos Metabólicos</dc:title>
</cp:coreProperties>
</file>