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6AD-301E-4D0B-A70C-081F5ADA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842-1ECC-460D-924C-06DAAA3C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D5C-DD86-423A-946C-C5215F38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D12-5248-4088-BAD9-B937269D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551-58B6-49A1-BA1E-D1B12A9F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EF2-7F04-41FF-9C1C-EF5234B9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C77-3924-4D57-8D56-AAD814C3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3A3-3287-4E8C-817E-99F8437F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C2B-D835-44C3-A4AF-0A1947C4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196-F957-4CB7-A74E-A14C5580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B06-6AD6-412D-A5EF-D3D6D696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CC6-EB9E-4EAC-89C3-766EE8E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23DE-361E-4A41-A44C-A3C6DC22BC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dición de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te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la secuencia de nucleótidos en el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dición por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sustitu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nucleó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dición por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inserción/dele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nucleó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962840" cy="493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3808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imes New Roman"/>
              </a:rPr>
              <a:t>Efecto de la edición por  sub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629400" cy="327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imes New Roman"/>
              </a:rPr>
              <a:t>Sustitución por desam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1120" y="380988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  <a:ea typeface="Osaka"/>
              </a:rPr>
              <a:t>Ci</a:t>
            </a:r>
            <a:r>
              <a:rPr b="1" lang="es-ES" sz="2400" spc="-1" strike="noStrike">
                <a:solidFill>
                  <a:srgbClr val="000099"/>
                </a:solidFill>
                <a:latin typeface="Times New Roman"/>
                <a:ea typeface="Osaka"/>
              </a:rPr>
              <a:t>tidin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  <a:ea typeface="Osaka"/>
              </a:rPr>
              <a:t>a</a:t>
            </a:r>
            <a:r>
              <a:rPr b="1" lang="es-ES" sz="2400" spc="-1" strike="noStrike">
                <a:solidFill>
                  <a:srgbClr val="000099"/>
                </a:solidFill>
                <a:latin typeface="Times New Roman"/>
                <a:ea typeface="Osaka"/>
              </a:rPr>
              <a:t> de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  <a:ea typeface="Osaka"/>
              </a:rPr>
              <a:t>s</a:t>
            </a:r>
            <a:r>
              <a:rPr b="1" lang="es-ES" sz="2400" spc="-1" strike="noStrike">
                <a:solidFill>
                  <a:srgbClr val="000099"/>
                </a:solidFill>
                <a:latin typeface="Times New Roman"/>
                <a:ea typeface="Osaka"/>
              </a:rPr>
              <a:t>aminas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  <a:ea typeface="Osak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029200"/>
            <a:ext cx="739620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También existen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Osaka"/>
              </a:rPr>
              <a:t> A</a:t>
            </a:r>
            <a:r>
              <a:rPr b="1" lang="es-ES" sz="2400" spc="-1" strike="noStrike">
                <a:solidFill>
                  <a:srgbClr val="ff3300"/>
                </a:solidFill>
                <a:latin typeface="Times New Roman"/>
                <a:ea typeface="Osaka"/>
              </a:rPr>
              <a:t>denosin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Osaka"/>
              </a:rPr>
              <a:t>a</a:t>
            </a:r>
            <a:r>
              <a:rPr b="1" lang="es-ES" sz="2400" spc="-1" strike="noStrike">
                <a:solidFill>
                  <a:srgbClr val="ff3300"/>
                </a:solidFill>
                <a:latin typeface="Times New Roman"/>
                <a:ea typeface="Osaka"/>
              </a:rPr>
              <a:t> de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Osaka"/>
              </a:rPr>
              <a:t>s</a:t>
            </a:r>
            <a:r>
              <a:rPr b="1" lang="es-ES" sz="2400" spc="-1" strike="noStrike">
                <a:solidFill>
                  <a:srgbClr val="ff3300"/>
                </a:solidFill>
                <a:latin typeface="Times New Roman"/>
                <a:ea typeface="Osaka"/>
              </a:rPr>
              <a:t>aminas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Osaka"/>
              </a:rPr>
              <a:t>a</a:t>
            </a:r>
            <a:r>
              <a:rPr b="1" lang="es-ES" sz="2400" spc="-1" strike="noStrike">
                <a:solidFill>
                  <a:srgbClr val="ff3300"/>
                </a:solidFill>
                <a:latin typeface="Times New Roman"/>
                <a:ea typeface="Osaka"/>
              </a:rPr>
              <a:t>s,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que conv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e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e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 Adenosina a inosi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 (I)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que el 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iboso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duce como un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G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Así, un codón CAG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Gln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puede se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conve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id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a CGG 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Ar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244000" cy="503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dición por sustitución del pre-mRNA del gen de la apolipoproteína B en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5943600"/>
            <a:ext cx="34290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Times New Roman"/>
              </a:rPr>
              <a:t>Función: absorción de lípidos en el int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7280"/>
            <a:ext cx="39625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Times New Roman"/>
              </a:rPr>
              <a:t>Es secretada desde el hígado y transporta colesterol en la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977160" cy="5410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304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ción por inserción/deleción de nucleótidos en RNA mitocondrial de Trypano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dición por inserción/deleción de nucleót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ualmente en mRNA transcritos desde el genoma mitocondrial (kinetoplastos) de protozo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alteraciones so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s por moléculas de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RNA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 guía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se aparean con el RNA blanco (que va a ser editado)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RNAs gu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ienen secuencias que son complementarias a la región que rodea el sitio que va a ser edi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RNA guí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irven como templado para la adi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o rem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uc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RNA blan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 un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RNA gu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cada RNA o región de RNA que va a ser edi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9:56:33Z</dcterms:created>
  <dc:creator>Ing Quimica</dc:creator>
  <dc:description/>
  <dc:language>en-US</dc:language>
  <cp:lastModifiedBy>Oriana</cp:lastModifiedBy>
  <dcterms:modified xsi:type="dcterms:W3CDTF">2011-03-31T02:29:13Z</dcterms:modified>
  <cp:revision>1</cp:revision>
  <dc:subject/>
  <dc:title>Edición de RNA</dc:title>
</cp:coreProperties>
</file>