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0AC-F8DE-42A5-B5DA-C20CBD90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99F-1177-4530-A990-BD33193B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624-6E4C-4ACA-97A7-35734C3C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82C-ED11-4495-9C69-A11447C3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59E-6EC1-4127-ABA1-D6B796F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768-6EEA-49C5-A5B9-A39E7EFE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BE8-DF16-4F84-9314-2B2E3A81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696-6D42-43AC-A703-1CBAFCC2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1AE-619B-4913-BC1B-A2523D64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1B3-1FFF-4107-B87B-D0E9E41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1E4-1AAD-4B00-8BD5-610FF74E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0FD-C2BE-4C32-B4BD-AE6012A0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595E-B5D1-439E-B7E3-F37370A7FA6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omepages.strath.ac.uk/~dfs99109/BB211/Plasmidnotes.html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V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eniería gené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ecto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medio para transferir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ón genética entre organism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ura la replicación (amplificación) y aislamiento del fragmento clon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632720" cy="4624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es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e inser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5035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ctores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e reempla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24280" y="3048120"/>
            <a:ext cx="1905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143000"/>
          <a:ext cx="38102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43000"/>
                    <a:ext cx="3810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acteriófago lambda como vector de cl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64000" y="1628640"/>
          <a:ext cx="3362400" cy="482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1628640"/>
                    <a:ext cx="33624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308720" y="1052640"/>
            <a:ext cx="1676520" cy="73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Osaka"/>
              </a:rPr>
              <a:t>Extracto con proteínas para empaquetar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5734080"/>
            <a:ext cx="2895840" cy="580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Virus completo, se usa para infectar bacterias hués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413000"/>
            <a:ext cx="198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Concatémeros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89000"/>
          <a:ext cx="5668920" cy="42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566892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11640" y="3090960"/>
            <a:ext cx="40323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3048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Cosmidios: Plasmidio con los extremos </a:t>
            </a:r>
            <a:r>
              <a:rPr b="1" i="1" lang="es-ES_tradnl" sz="2800" spc="-1" strike="noStrike">
                <a:solidFill>
                  <a:srgbClr val="cc0000"/>
                </a:solidFill>
                <a:latin typeface="Arial"/>
              </a:rPr>
              <a:t>cos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 de </a:t>
            </a:r>
            <a:r>
              <a:rPr b="1" lang="es-ES_tradnl" sz="28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: clonamiento de fragmentos de 35-45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635280" y="241200"/>
          <a:ext cx="3408480" cy="66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41200"/>
                    <a:ext cx="34084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Cromosomas artificiales de bacterias: B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Cs son similares a plasm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ienen un Ori y los genes para las proteínas que se unen al origen, necesarias para re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derivados de un gran plasmidio natural, el facto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jo nº de copias (1-2 copias/c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es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149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276720" y="0"/>
          <a:ext cx="4903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0"/>
                    <a:ext cx="4903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1066680"/>
            <a:ext cx="33526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ectores de clonamiento en lev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"/>
            <a:ext cx="2666880" cy="119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Integran por recombinación con el genoma de la leva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Una copia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057400"/>
            <a:ext cx="266688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Replicación episomal, autóno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1- 40  copias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3962520"/>
            <a:ext cx="26668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Replicación autóno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Hasta 100 copias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5299200"/>
            <a:ext cx="266688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Se comportan como minicromoso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1 copia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8394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AC: cromosoma artificial de lev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59280" y="260280"/>
          <a:ext cx="479736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60280"/>
                    <a:ext cx="479736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ropiedades de un vector de cl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2666880"/>
            <a:ext cx="2362320" cy="35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q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, pero suficientemente grande como para transportar el gen de interés en forma esta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la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errado) 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nos susceptible a degrad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rcador de selec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tios únicos para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igen de replicación compatible con el hués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4925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Vectores bacter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Plasmidi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 (clonar hasta 10 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Bacteriófagos y derivad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(clonar hasta 30 k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cteriófag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NA en la partícula viral es lineal, doble hebra, aprox 48 kb. Al infectar bacterias se circulari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smidi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lasmidio con extremos cos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asta 45k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Cromosoma Artificial de Bacter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C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vector basado en un plasmidio de fertilidad F. Para clonar en bacterias, generalment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Bajo número de copias, estable (clonar hasta 350.000 p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96080" y="343080"/>
            <a:ext cx="5388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mas alternativos de vector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907920"/>
          <a:ext cx="5761080" cy="4686480"/>
        </p:xfrm>
        <a:graphic>
          <a:graphicData uri="http://schemas.openxmlformats.org/drawingml/2006/table">
            <a:tbl>
              <a:tblPr/>
              <a:tblGrid>
                <a:gridCol w="2881440"/>
                <a:gridCol w="287964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roximate maximum length of DNA that can be cloned into ve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cto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ned DNA (k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"/>
                        </a:rPr>
                        <a:t>Plas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lambda </a:t>
                      </a: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ph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Cos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187534"/>
                          </a:solidFill>
                          <a:latin typeface="Comic Sans MS"/>
                        </a:rPr>
                        <a:t>P1 phag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BAC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bacterial artificial chromoso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YAC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yeast artificial chromo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800" y="4717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os vectores de bacterias famo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05200" cy="253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9880" y="3371760"/>
            <a:ext cx="4572000" cy="254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8006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Plasmidios artificiales, creados a partir de regiones de plasmidi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lección de clones recombinantes por inactivación de la resistencia a antibiótic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14800" y="2435400"/>
            <a:ext cx="4724280" cy="407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86236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1219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Osaka"/>
              </a:rPr>
              <a:t>2. Replica Plating para identificación de recombin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Osaka"/>
              </a:rPr>
              <a:t>1. Clonamiento por inserción inact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lección de clones recombinantes por Test de complementación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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477120" cy="4599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400800" y="5495760"/>
            <a:ext cx="28576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417760" cy="525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05520" y="1998720"/>
            <a:ext cx="3429000" cy="218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1371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Osaka"/>
              </a:rPr>
              <a:t>Resultados po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poder usar el sistema de selección por complementación alfa el genoma de la E. coli huésped debe contener el alelo delta M15lacZ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62520" y="3886200"/>
            <a:ext cx="34290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69228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0:44:35Z</dcterms:created>
  <dc:creator>Oriana</dc:creator>
  <dc:description/>
  <dc:language>en-US</dc:language>
  <cp:lastModifiedBy>Ing Quimica</cp:lastModifiedBy>
  <dcterms:modified xsi:type="dcterms:W3CDTF">2011-05-02T19:46:39Z</dcterms:modified>
  <cp:revision>15</cp:revision>
  <dc:subject/>
  <dc:title>DNA polimerasa Taq </dc:title>
</cp:coreProperties>
</file>