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040-39D8-4D2D-ACD3-FDEB4108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DA7-2FFB-4AFA-8042-C905AD58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97C-8790-4324-AB2B-13570566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B0F1-23D7-4401-A3D1-28C88C05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BB10-1747-44CB-89B4-E00BBDEB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B637-5A71-4860-895D-E92BC5BC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3B77-CB68-4998-AB19-03BE48B0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FC43-2C6C-407D-B5F4-22B85033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4858-8BF6-41C4-B1C6-38DB708F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41C0-8467-4088-AE40-EE607F3C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F109-E70C-4BAB-AE76-1FC5974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098-12FF-440F-AA8D-522078B8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5EA2-B2DC-4FBD-9E96-526338AC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16D-7C44-42D0-8A3A-D78AD94E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FFEB-6DE2-40D4-9398-44EC8D6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2CC3-0808-41AB-B20E-AE408E66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9892-12DA-48F3-9445-5C207534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8939F-4EE5-40C6-8B29-A335540E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5C76-BB4E-4790-9162-BF12570D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A0A19-5327-4DBF-A227-7F0A519A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15C9F-D67D-484A-8829-64D4308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C742-D318-45BB-94EE-516064B6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39F-DFBA-41CE-B9DB-0F2E5525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0EAF-B0B2-413C-A2BF-8D58245B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99EF-A01C-4F00-82F8-7D457F78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4CF4-730E-4147-BA5B-B3440EB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A7CE4-5FEE-494C-B8C2-3B197D9B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048C-F787-4F40-A24B-7904D56B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0E981-C76D-464B-89A6-339BDECF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2B25-12DE-40A8-B1CA-1BF18987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FD73-6A48-4967-B5F1-33546378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480E-E583-4A79-AD86-1C6BA198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A3BD4-AC34-4CCA-8CF2-4BFBF95F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156-7C29-4FDC-A7A3-35498AE2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F317-3EE3-4FA7-8783-B01D23FA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87ECD-F4FB-451F-9B8B-00C8F401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0402D-2E04-4BF9-9265-D2422CFC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61D4F-E157-4083-8AD9-ABD75A96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0BA21-2383-4421-9523-8F9B8A0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1872-CFA3-4CB7-9698-8B3432C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5C21F-CAC7-4763-A327-563C068B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E7831-33B7-471B-8AB1-572E3FE0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3408-5BA8-4631-8513-626D140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7A196-1C3F-42FC-ACBA-07E5A5F1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F5B-8DCF-499E-9D63-5F12CE9B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0AAA0-1DBF-4AF1-B11B-6C9A751E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006D1-DC61-40B0-ABED-395DE19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6D57-155A-4EC1-916C-57F17C3B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BD095-F6F2-4676-8067-024554E9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68B5-D76D-441D-BEA6-21A38DB7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CB8AD-0783-48F1-A044-44FF712B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0ECA-7DAD-43A9-905F-DBAF029B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56DD8-7F04-4A70-8F75-7E28C472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76734-B1B0-4BCA-AB95-EB981AA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5A8D-735E-462B-A07E-AF4DBBFB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6B6-ED50-41A6-AAAC-9121517D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5034-004F-437A-B2C8-257D3B87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1E7-F9E9-43F6-8D2B-A4A0C22D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168F-F189-4D17-B9B9-FF713D5D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FEF-CBEA-4F86-89A5-A680FC3F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C751-03C3-4257-A69A-6717C0F2E703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10 Rectángulo redondeado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11 Rectángulo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12 Rectángulo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14 Rectángulo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D001-E015-4452-BCB2-91109F0FE796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10 Rectángulo redondeado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10 Rectángulo redondeado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11 Rectángulo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12 Rectángulo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14 Rectángulo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0A5E-EC7B-42FD-8295-C42CA32516FC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9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10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78A-26B7-4300-BF71-95E8522294D0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8 Rectángulo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7 Rectángulo redondeado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9 Rectángulo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10 Rectángulo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11 Rectángulo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libr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68D6-02FB-4F3E-961A-E996B3384C82}" type="slidenum">
              <a:rPr b="0" lang="es-E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85920" y="3357360"/>
            <a:ext cx="6400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Aparato visual de escurrimiento de fluid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4f4b4b"/>
                </a:solidFill>
                <a:latin typeface="Calibri"/>
              </a:rPr>
              <a:t>Placa orificio y Venturíme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IQ4801 -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Laboratorio de Ingeniería Química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Calibri"/>
              </a:rPr>
              <a:t>Experiencia 3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4 CuadroTexto"/>
          <p:cNvSpPr/>
          <p:nvPr/>
        </p:nvSpPr>
        <p:spPr>
          <a:xfrm>
            <a:off x="6588000" y="4929120"/>
            <a:ext cx="241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ofes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Jorge Cas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aúl Qui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uxiliar Exp. 3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odrigo Var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a) Aparato visual de escurrimiento de fluidos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144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Observar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alibri"/>
              </a:rPr>
              <a:t>visualmente</a:t>
            </a: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 los distintos regímenes de flujo que puede presentar un fluido (laminar, turbulento, transición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Comprobar y entender la relación entre el número de Reynolds y el régimen en el que se encuentr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67080" y="3000240"/>
            <a:ext cx="388620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990720" y="642960"/>
            <a:ext cx="2350800" cy="55627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>
            <a:off x="5086440" y="1076400"/>
            <a:ext cx="2200320" cy="92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96464"/>
                </a:solidFill>
                <a:latin typeface="Calibri"/>
              </a:rPr>
              <a:t>b) Placa Orificio y Venturímetro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Objetiv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1.- Conocer distintos métodos de medición de caud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2.- Reconocer cómo confeccionar una curva de calibració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162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3.- Caracterizar placa orificio y venturímetro, encontrando su coeficiente de descarga en función del número de Reynol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297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696464"/>
                </a:solidFill>
                <a:latin typeface="Calibri"/>
              </a:rPr>
              <a:t>Curva de Calibración de un Rotámetr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1563480" cy="4375080"/>
          </a:xfrm>
          <a:prstGeom prst="rect">
            <a:avLst/>
          </a:prstGeom>
          <a:ln w="0">
            <a:noFill/>
          </a:ln>
        </p:spPr>
      </p:pic>
      <p:pic>
        <p:nvPicPr>
          <p:cNvPr id="241" name="6 Gráfico" descr=""/>
          <p:cNvPicPr/>
          <p:nvPr/>
        </p:nvPicPr>
        <p:blipFill>
          <a:blip r:embed="rId2"/>
          <a:stretch/>
        </p:blipFill>
        <p:spPr>
          <a:xfrm>
            <a:off x="3297240" y="1566720"/>
            <a:ext cx="53402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0" descr=""/>
          <p:cNvPicPr/>
          <p:nvPr/>
        </p:nvPicPr>
        <p:blipFill>
          <a:blip r:embed="rId1"/>
          <a:stretch/>
        </p:blipFill>
        <p:spPr>
          <a:xfrm>
            <a:off x="4572000" y="2565360"/>
            <a:ext cx="3089160" cy="3300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"/>
          <p:cNvPicPr/>
          <p:nvPr/>
        </p:nvPicPr>
        <p:blipFill>
          <a:blip r:embed="rId2"/>
          <a:stretch/>
        </p:blipFill>
        <p:spPr>
          <a:xfrm>
            <a:off x="1438200" y="2421000"/>
            <a:ext cx="2413080" cy="34956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1547640" y="595008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 Placa Or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59280" y="59245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Venturí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3"/>
          <a:stretch/>
        </p:blipFill>
        <p:spPr>
          <a:xfrm>
            <a:off x="2771640" y="404640"/>
            <a:ext cx="3314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96464"/>
                </a:solidFill>
                <a:latin typeface="Calibri"/>
              </a:rPr>
              <a:t>Ejemplo: Placa Orificio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619280" y="1447920"/>
            <a:ext cx="563400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20:50:16Z</dcterms:created>
  <dc:creator>Quimica</dc:creator>
  <dc:description/>
  <dc:language>en-US</dc:language>
  <cp:lastModifiedBy>Rodrigo</cp:lastModifiedBy>
  <dcterms:modified xsi:type="dcterms:W3CDTF">2010-08-17T20:17:51Z</dcterms:modified>
  <cp:revision>10</cp:revision>
  <dc:subject/>
  <dc:title>Presentación de PowerPoint</dc:title>
</cp:coreProperties>
</file>