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3FC-289E-4132-80AF-7E135A60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FF2-8E16-4A16-ACC7-036D5F5D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162-C44A-45E8-9F76-038DA46A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603-5D1B-4AFB-B74C-889D5150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2985-45AD-4123-9468-508CE75C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5684-93FF-4AD6-A55C-51B29CE6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8CD9-64F6-41B5-8B7D-4A47E1BD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23C9-0495-4E48-8695-ACC437F1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8007-FDDA-43F9-83ED-F490DD7B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D801-D4C4-421D-BC7A-D6784FA2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190C-29EB-4789-8FAD-82D58BEA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2AB-76E3-4FF4-B185-94A86701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CD2E-830F-453D-A4ED-50CAEBC9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470F-27C3-471C-B91C-27F8110E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60D8-287F-42FA-AC01-EDBC0F84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1922-7261-43AF-9211-63F8CE11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3109-EDF1-4BA1-B197-E353940A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E1B35-776A-4741-BB38-652E28A4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6BF61-9DC5-4250-8F40-365F031B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99ADA-5BAC-40AB-974A-C1ABB867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186E8-40CD-49F9-A7A0-579A08BE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42CC6-E46B-4603-841B-534A305F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C0A-7FFF-4351-86EE-85E129FB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985FE-987D-4B8F-AAC4-9A09DD7A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D90B0-7222-4A2A-AA0F-AB71CAC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B2FB4-02C7-4C2D-A1D8-570F58A1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2C6C9-EAB6-4A47-9A81-B1166EB5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E2C1C-E54D-4EFD-853C-EFB7082D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AE54B-A5AF-4BB1-9FF5-C5AFD37B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FBDFB-35E8-4412-A75B-34D8E2BA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A910-EF49-443A-AD54-710049F9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25F47-3DB7-462A-8334-6828B80C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36F96-C0B9-438A-B695-7285D189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B4B-19A1-4175-BADF-4B6272D1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347BC-D1B6-462F-A3ED-A6F0287A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9C76-446C-4D9A-8B5D-51BE3F1B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53C41-D58D-458C-8FCD-F4F63A10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29201-C16E-49F0-9245-99131201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5311-AF3C-4501-ABD9-C0F77FC6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76FA-424F-40B6-9179-C1A27D0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8299-C4AA-4038-9F56-29F9D633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DB36-74CE-4D1D-8F86-8E96F5B7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EBA2-3F3C-4662-98A8-CDAF1DBA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417-4CE8-48E3-82BB-675EDA69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5F0-AF4B-4BBB-8D66-A40AEF6C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C19-1626-49C0-BDAA-10814B5C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9FD-BFEF-4709-8D3E-743BE80D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1BB-264F-48E4-BA64-6300D994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0C25-9C21-488A-B2AC-43A4E70C3846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C034-7A58-4C05-80F5-EE219003C299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6BBF-75DE-40AA-8470-3B0147B5A19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D08A-4ADE-4D6D-871A-5B801DE0403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Motobomba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825804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Experiencia N°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Francisco Contreras 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17 /8/20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3 Imagen" descr="Logo_FCFM.jpg"/>
          <p:cNvPicPr/>
          <p:nvPr/>
        </p:nvPicPr>
        <p:blipFill>
          <a:blip r:embed="rId1"/>
          <a:stretch/>
        </p:blipFill>
        <p:spPr>
          <a:xfrm>
            <a:off x="123840" y="227160"/>
            <a:ext cx="1447920" cy="928440"/>
          </a:xfrm>
          <a:prstGeom prst="rect">
            <a:avLst/>
          </a:prstGeom>
          <a:ln w="0">
            <a:noFill/>
          </a:ln>
        </p:spPr>
      </p:pic>
      <p:sp>
        <p:nvSpPr>
          <p:cNvPr id="217" name="4 CuadroTexto"/>
          <p:cNvSpPr/>
          <p:nvPr/>
        </p:nvSpPr>
        <p:spPr>
          <a:xfrm>
            <a:off x="1417680" y="142920"/>
            <a:ext cx="532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Departamento de Ingeniería Química y Biotecnologí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IQ4801 – Laboratorio de la Ingeniería Química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Introduc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Operación fundamental en toda planta Quí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Función es entregar potencia a fluido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Tipos de Bomb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Desplazamiento Positivo: pistón, peristáltica, etc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Turbomáquinas: </a:t>
            </a:r>
            <a:r>
              <a:rPr b="1" lang="es-CL" sz="2200" spc="-1" strike="noStrike" u="sng">
                <a:solidFill>
                  <a:srgbClr val="009dd9"/>
                </a:solidFill>
                <a:uFillTx/>
                <a:latin typeface="Georgia"/>
              </a:rPr>
              <a:t>centrífugas</a:t>
            </a: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l funcionamiento se describe a través de sus curvas características entregadas por fabricant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Bomba Centrífug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357800" y="1857240"/>
            <a:ext cx="4357440" cy="3581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sapiensman.com/ESDictionary/imagenes/bomba%20centrifuga.jpg"/>
          <p:cNvPicPr/>
          <p:nvPr/>
        </p:nvPicPr>
        <p:blipFill>
          <a:blip r:embed="rId2"/>
          <a:stretch/>
        </p:blipFill>
        <p:spPr>
          <a:xfrm>
            <a:off x="571680" y="2000160"/>
            <a:ext cx="33573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antidade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Altura de Ele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Potencia Efectiv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1828800" cy="866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91000" cy="4478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12" descr=""/>
          <p:cNvPicPr/>
          <p:nvPr/>
        </p:nvPicPr>
        <p:blipFill>
          <a:blip r:embed="rId3"/>
          <a:stretch/>
        </p:blipFill>
        <p:spPr>
          <a:xfrm>
            <a:off x="3851280" y="5300640"/>
            <a:ext cx="952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Objetivo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499760"/>
            <a:ext cx="8115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Determinar curvas característic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Altura de elevación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Pot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Efici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Comparar resultados teóricos con experimental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ncontrar curvas características de una bomba con distinta velocidad utilizando coeficientes de semejanza diná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urvas Característica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8" name="Picture 2" descr="http://www.gouldspumps.com/download_files/pump_fundamentals/sect_a8_fig05.gif"/>
          <p:cNvPicPr/>
          <p:nvPr/>
        </p:nvPicPr>
        <p:blipFill>
          <a:blip r:embed="rId1"/>
          <a:stretch/>
        </p:blipFill>
        <p:spPr>
          <a:xfrm>
            <a:off x="1415880" y="1916280"/>
            <a:ext cx="6210360" cy="3241440"/>
          </a:xfrm>
          <a:prstGeom prst="rect">
            <a:avLst/>
          </a:prstGeom>
          <a:ln w="0">
            <a:noFill/>
          </a:ln>
        </p:spPr>
      </p:pic>
      <p:sp>
        <p:nvSpPr>
          <p:cNvPr id="239" name="8 CuadroTexto"/>
          <p:cNvSpPr/>
          <p:nvPr/>
        </p:nvSpPr>
        <p:spPr>
          <a:xfrm>
            <a:off x="2068920" y="5373720"/>
            <a:ext cx="48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HEAD: Altura de Elevació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B.H.P.: “</a:t>
            </a:r>
            <a:r>
              <a:rPr b="0" i="1" lang="es-CL" sz="1600" spc="-1" strike="noStrike">
                <a:solidFill>
                  <a:srgbClr val="000000"/>
                </a:solidFill>
                <a:latin typeface="Georgia"/>
              </a:rPr>
              <a:t>Break Horsepower</a:t>
            </a: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” Potencia Consumid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EFF: Eficienci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Trebuchet MS"/>
              </a:rPr>
              <a:t>Coeficientes de Semejanza Dinámica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889520" y="1844640"/>
            <a:ext cx="1266840" cy="857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962600" y="2990880"/>
            <a:ext cx="1071360" cy="797040"/>
          </a:xfrm>
          <a:prstGeom prst="rect">
            <a:avLst/>
          </a:prstGeom>
          <a:ln w="0">
            <a:noFill/>
          </a:ln>
        </p:spPr>
      </p:pic>
      <p:sp>
        <p:nvSpPr>
          <p:cNvPr id="243" name="5 CuadroTexto"/>
          <p:cNvSpPr/>
          <p:nvPr/>
        </p:nvSpPr>
        <p:spPr>
          <a:xfrm>
            <a:off x="1945080" y="1982880"/>
            <a:ext cx="25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Carga o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Manométrico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6 Rectángulo"/>
          <p:cNvSpPr/>
          <p:nvPr/>
        </p:nvSpPr>
        <p:spPr>
          <a:xfrm>
            <a:off x="1954440" y="320688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Flujo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7 Rectángulo"/>
          <p:cNvSpPr/>
          <p:nvPr/>
        </p:nvSpPr>
        <p:spPr>
          <a:xfrm>
            <a:off x="2013120" y="4430880"/>
            <a:ext cx="27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Potenci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(Efectiva o Consumida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3"/>
          <a:stretch/>
        </p:blipFill>
        <p:spPr>
          <a:xfrm>
            <a:off x="4962600" y="4437000"/>
            <a:ext cx="11509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21:26:10Z</dcterms:created>
  <dc:creator>Pancho</dc:creator>
  <dc:description/>
  <dc:language>en-US</dc:language>
  <cp:lastModifiedBy>Pancho</cp:lastModifiedBy>
  <dcterms:modified xsi:type="dcterms:W3CDTF">2010-08-17T15:22:00Z</dcterms:modified>
  <cp:revision>16</cp:revision>
  <dc:subject/>
  <dc:title>Motobomba</dc:title>
</cp:coreProperties>
</file>