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F8F6-E28A-41DD-8EB7-E6CE45144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BC86-C30C-47F8-9AA4-55A3A6099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CF24-7321-438F-AA67-7CD4E1D2B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754A-76B0-464A-8C15-0441B2162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E9C89-8791-47B8-8372-86B17E969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E467A-8BEB-479A-9D3D-1B1FC5A4E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99BD4-D0F2-4585-B519-890CB4BA0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5DFAF-2803-4A95-8DFC-9DC5A5638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2DE25-2031-4AC8-8D15-17F34C95C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C39EF-0656-4E25-B4D3-DBCC4811E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600F8-6115-4FDC-988C-A79DEFA1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A094-D987-4D75-99F4-0B33B4B1F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20181-C9CD-4B32-AE20-E09168BA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F4C07-6EA8-48B7-A95C-3E442635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851CC-75AC-4174-84E1-06964A01F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304EF-CC2D-4EEA-8EDA-812E5C9F0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A73D4-AC3F-4BDE-903F-AE10AB85D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388AC5-25EB-4E35-B81D-3BC6C0FA3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A8E62C-9DB7-4498-B735-15EBE36F9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60F1D6-A380-4F50-BFC0-13BD7D33B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E42729-7775-4474-A7D7-741C65C1F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97F6E5-0BF4-46AB-B921-228A9B0D7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EE62-0470-4A86-98F3-028A28A17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FA096D-4CA4-4609-9AC3-753896264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70861F-39E4-4E77-AB12-2F325872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E4C6ED-587B-40E8-A47E-48A4A9DD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75396A-9B44-4F9A-B404-5D46643B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21580F-52B0-4AFD-B79C-FD633E9CA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AF501D-900F-4D7D-ADC2-F2B117815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AF60B9-7F5C-4E75-B97B-D5E0B5263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19C57-B74B-438B-AC0F-36D947E9C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F0371-614C-4214-ADB1-26B4267B9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ED163-B0AA-468E-BF99-6715E580B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BD95-2B6F-4A71-8914-72A274E19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6023F-4341-4976-AD12-4AAFF6AB1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5848D-B424-4A89-9AA3-E1EF2379A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16025-3FFE-4812-88B2-CCCC33D28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308C1-BE7A-4D30-B9D2-7D15441E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D0C86-9AED-4526-BE0A-4E4707F0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A63E7-4A24-40C2-BE07-478943CB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D799B-3278-44FA-83C3-2DA1E7DD1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0D943-2FAA-415C-8A9E-D7EC8B0F5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53A3B-2D81-4F8A-B2FC-1A8F0CBD7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FE99-DB72-4F21-B2C5-F0A0F919C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1B8D-7C2B-4252-A754-556B4B0D0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E894-2C66-471A-BD57-28F01ED5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3ED9-C430-46E3-BE6F-0E3404A7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7A91-5C19-482A-BEB7-A8A05D29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27 Rectángulo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28 Rectángulo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29 Rectángulo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30 Rectángulo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31 Rectángulo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32 Rectángulo redondeado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33 Rectángulo redondeado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34 Rectángulo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35 Rectángulo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36 Rectángulo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37 Rectángulo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38 Rectángulo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39 Rectángulo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800" spc="-1" strike="noStrike">
                <a:solidFill>
                  <a:srgbClr val="009dd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9dd9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F286A-820F-4796-A8C4-340F9EB7298C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19 Rectángulo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20 Rectángulo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23 Rectángulo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24 Rectángulo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009dd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25 Rectángulo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26 Rectángulo redondeado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40 Rectángulo redondeado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41 Rectángulo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42 Rectángulo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43 Rectángulo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44 Rectángulo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800" spc="-1" strike="noStrike">
                <a:solidFill>
                  <a:srgbClr val="009dd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9dd9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C34B2-BE3A-42C2-8B8C-4BC4F9F342C5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27 Rectángulo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28 Rectángulo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29 Rectángulo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30 Rectángulo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31 Rectángulo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32 Rectángulo redondeado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33 Rectángulo redondeado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34 Rectángulo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35 Rectángulo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36 Rectángulo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37 Rectángulo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38 Rectángulo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39 Rectángulo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800" spc="-1" strike="noStrike">
                <a:solidFill>
                  <a:srgbClr val="009dd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9dd9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30831-9998-4242-B49B-3CB748DF77E2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27 Rectángulo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28 Rectángulo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29 Rectángulo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30 Rectángulo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31 Rectángulo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32 Rectángulo redondeado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33 Rectángulo redondeado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34 Rectángulo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35 Rectángulo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36 Rectángulo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37 Rectángulo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38 Rectángulo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39 Rectángulo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800" spc="-1" strike="noStrike">
                <a:solidFill>
                  <a:srgbClr val="009dd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9dd9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6E1A9-AC2A-4023-B9A2-95735E56E09D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rebuchet MS"/>
              </a:rPr>
              <a:t>Motobomba</a:t>
            </a:r>
            <a:endParaRPr b="0" lang="en-US" sz="44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6840" y="3900600"/>
            <a:ext cx="8258040" cy="25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4617b"/>
                </a:solidFill>
                <a:latin typeface="Georgia"/>
              </a:rPr>
              <a:t>Experiencia N°2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4617b"/>
                </a:solidFill>
                <a:latin typeface="Georgia"/>
              </a:rPr>
              <a:t>Francisco Contreras C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4617b"/>
                </a:solidFill>
                <a:latin typeface="Georgia"/>
              </a:rPr>
              <a:t>17 /8/2010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6" name="3 Imagen" descr="Logo_FCFM.jpg"/>
          <p:cNvPicPr/>
          <p:nvPr/>
        </p:nvPicPr>
        <p:blipFill>
          <a:blip r:embed="rId1"/>
          <a:stretch/>
        </p:blipFill>
        <p:spPr>
          <a:xfrm>
            <a:off x="123840" y="227160"/>
            <a:ext cx="1447920" cy="928440"/>
          </a:xfrm>
          <a:prstGeom prst="rect">
            <a:avLst/>
          </a:prstGeom>
          <a:ln w="0">
            <a:noFill/>
          </a:ln>
        </p:spPr>
      </p:pic>
      <p:sp>
        <p:nvSpPr>
          <p:cNvPr id="217" name="4 CuadroTexto"/>
          <p:cNvSpPr/>
          <p:nvPr/>
        </p:nvSpPr>
        <p:spPr>
          <a:xfrm>
            <a:off x="1417680" y="142920"/>
            <a:ext cx="5324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Georgia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Georgia"/>
              </a:rPr>
              <a:t>Facultad de Ciencias Físicas y Matemática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Georgia"/>
              </a:rPr>
              <a:t>Departamento de Ingeniería Química y Biotecnología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Georgia"/>
              </a:rPr>
              <a:t>IQ4801 – Laboratorio de la Ingeniería Química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Trebuchet MS"/>
              </a:rPr>
              <a:t>Introducción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500120"/>
            <a:ext cx="822960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eorgia"/>
              </a:rPr>
              <a:t>Operación fundamental en toda planta Química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eorgia"/>
              </a:rPr>
              <a:t>Función es entregar potencia a fluido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eorgia"/>
              </a:rPr>
              <a:t>Tipos de Bomba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9dd9"/>
                </a:solidFill>
                <a:latin typeface="Georgia"/>
              </a:rPr>
              <a:t>Desplazamiento Positivo: pistón, peristáltica, etc.</a:t>
            </a:r>
            <a:endParaRPr b="0" lang="en-US" sz="2200" spc="-1" strike="noStrike">
              <a:solidFill>
                <a:srgbClr val="009dd9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9dd9"/>
                </a:solidFill>
                <a:latin typeface="Georgia"/>
              </a:rPr>
              <a:t>Turbomáquinas: </a:t>
            </a:r>
            <a:r>
              <a:rPr b="1" lang="es-CL" sz="2200" spc="-1" strike="noStrike" u="sng">
                <a:solidFill>
                  <a:srgbClr val="009dd9"/>
                </a:solidFill>
                <a:uFillTx/>
                <a:latin typeface="Georgia"/>
              </a:rPr>
              <a:t>centrífugas</a:t>
            </a:r>
            <a:r>
              <a:rPr b="0" lang="es-CL" sz="2200" spc="-1" strike="noStrike">
                <a:solidFill>
                  <a:srgbClr val="009dd9"/>
                </a:solidFill>
                <a:latin typeface="Georgia"/>
              </a:rPr>
              <a:t>.</a:t>
            </a:r>
            <a:endParaRPr b="0" lang="en-US" sz="2200" spc="-1" strike="noStrike">
              <a:solidFill>
                <a:srgbClr val="009dd9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eorgia"/>
              </a:rPr>
              <a:t>El funcionamiento se describe a través de sus curvas características entregadas por fabricante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Trebuchet MS"/>
              </a:rPr>
              <a:t>Bomba Centrífuga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21" name="Picture 3" descr=""/>
          <p:cNvPicPr/>
          <p:nvPr/>
        </p:nvPicPr>
        <p:blipFill>
          <a:blip r:embed="rId1"/>
          <a:stretch/>
        </p:blipFill>
        <p:spPr>
          <a:xfrm>
            <a:off x="4357800" y="1857240"/>
            <a:ext cx="4357440" cy="35816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http://www.sapiensman.com/ESDictionary/imagenes/bomba%20centrifuga.jpg"/>
          <p:cNvPicPr/>
          <p:nvPr/>
        </p:nvPicPr>
        <p:blipFill>
          <a:blip r:embed="rId2"/>
          <a:stretch/>
        </p:blipFill>
        <p:spPr>
          <a:xfrm>
            <a:off x="571680" y="2000160"/>
            <a:ext cx="3357360" cy="33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6332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Trebuchet MS"/>
              </a:rPr>
              <a:t>Cantidades relevantes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77300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eorgia"/>
              </a:rPr>
              <a:t>Altura de Elevació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eorgia"/>
              </a:rPr>
              <a:t>Potencia Efectiv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eorgia"/>
              </a:rPr>
              <a:t>Eficienci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11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8" name="Picture 6" descr=""/>
          <p:cNvPicPr/>
          <p:nvPr/>
        </p:nvPicPr>
        <p:blipFill>
          <a:blip r:embed="rId1"/>
          <a:stretch/>
        </p:blipFill>
        <p:spPr>
          <a:xfrm>
            <a:off x="3419640" y="2349360"/>
            <a:ext cx="1828800" cy="86688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8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1" name="Picture 9" descr=""/>
          <p:cNvPicPr/>
          <p:nvPr/>
        </p:nvPicPr>
        <p:blipFill>
          <a:blip r:embed="rId2"/>
          <a:stretch/>
        </p:blipFill>
        <p:spPr>
          <a:xfrm>
            <a:off x="3492360" y="4149720"/>
            <a:ext cx="1791000" cy="44784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11"/>
          <p:cNvSpPr/>
          <p:nvPr/>
        </p:nvSpPr>
        <p:spPr>
          <a:xfrm>
            <a:off x="0" y="9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4" name="Picture 12" descr=""/>
          <p:cNvPicPr/>
          <p:nvPr/>
        </p:nvPicPr>
        <p:blipFill>
          <a:blip r:embed="rId3"/>
          <a:stretch/>
        </p:blipFill>
        <p:spPr>
          <a:xfrm>
            <a:off x="3851280" y="5300640"/>
            <a:ext cx="95256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Trebuchet MS"/>
              </a:rPr>
              <a:t>Objetivos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6840" y="1499760"/>
            <a:ext cx="8115480" cy="44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eorgia"/>
              </a:rPr>
              <a:t>Determinar curvas característica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dd9"/>
                </a:solidFill>
                <a:latin typeface="Georgia"/>
              </a:rPr>
              <a:t>Altura de elevación vs. Caudal.</a:t>
            </a:r>
            <a:endParaRPr b="0" lang="en-US" sz="2400" spc="-1" strike="noStrike">
              <a:solidFill>
                <a:srgbClr val="009dd9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dd9"/>
                </a:solidFill>
                <a:latin typeface="Georgia"/>
              </a:rPr>
              <a:t>Potencia vs. Caudal.</a:t>
            </a:r>
            <a:endParaRPr b="0" lang="en-US" sz="2400" spc="-1" strike="noStrike">
              <a:solidFill>
                <a:srgbClr val="009dd9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dd9"/>
                </a:solidFill>
                <a:latin typeface="Georgia"/>
              </a:rPr>
              <a:t>Eficiencia vs. Caudal.</a:t>
            </a:r>
            <a:endParaRPr b="0" lang="en-US" sz="2400" spc="-1" strike="noStrike">
              <a:solidFill>
                <a:srgbClr val="009dd9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eorgia"/>
              </a:rPr>
              <a:t>Comparar resultados teóricos con experimentale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eorgia"/>
              </a:rPr>
              <a:t>Encontrar curvas características de una bomba con distinta velocidad utilizando coeficientes de semejanza dinámica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Trebuchet MS"/>
              </a:rPr>
              <a:t>Curvas Características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38" name="Picture 2" descr="http://www.gouldspumps.com/download_files/pump_fundamentals/sect_a8_fig05.gif"/>
          <p:cNvPicPr/>
          <p:nvPr/>
        </p:nvPicPr>
        <p:blipFill>
          <a:blip r:embed="rId1"/>
          <a:stretch/>
        </p:blipFill>
        <p:spPr>
          <a:xfrm>
            <a:off x="1415880" y="1916280"/>
            <a:ext cx="6210360" cy="3241440"/>
          </a:xfrm>
          <a:prstGeom prst="rect">
            <a:avLst/>
          </a:prstGeom>
          <a:ln w="0">
            <a:noFill/>
          </a:ln>
        </p:spPr>
      </p:pic>
      <p:sp>
        <p:nvSpPr>
          <p:cNvPr id="239" name="8 CuadroTexto"/>
          <p:cNvSpPr/>
          <p:nvPr/>
        </p:nvSpPr>
        <p:spPr>
          <a:xfrm>
            <a:off x="2068920" y="5373720"/>
            <a:ext cx="483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Georgia"/>
              </a:rPr>
              <a:t>HEAD: Altura de Elevación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Georgia"/>
              </a:rPr>
              <a:t>B.H.P.: “</a:t>
            </a:r>
            <a:r>
              <a:rPr b="0" i="1" lang="es-CL" sz="1600" spc="-1" strike="noStrike">
                <a:solidFill>
                  <a:srgbClr val="000000"/>
                </a:solidFill>
                <a:latin typeface="Georgia"/>
              </a:rPr>
              <a:t>Break Horsepower</a:t>
            </a:r>
            <a:r>
              <a:rPr b="0" lang="es-CL" sz="1600" spc="-1" strike="noStrike">
                <a:solidFill>
                  <a:srgbClr val="000000"/>
                </a:solidFill>
                <a:latin typeface="Georgia"/>
              </a:rPr>
              <a:t>” Potencia Consumida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Georgia"/>
              </a:rPr>
              <a:t>EFF: Eficiencia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6332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4617b"/>
                </a:solidFill>
                <a:latin typeface="Trebuchet MS"/>
              </a:rPr>
              <a:t>Coeficientes de Semejanza Dinámica</a:t>
            </a:r>
            <a:endParaRPr b="0" lang="en-US" sz="36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4889520" y="1844640"/>
            <a:ext cx="1266840" cy="8571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"/>
          <p:cNvPicPr/>
          <p:nvPr/>
        </p:nvPicPr>
        <p:blipFill>
          <a:blip r:embed="rId2"/>
          <a:stretch/>
        </p:blipFill>
        <p:spPr>
          <a:xfrm>
            <a:off x="4962600" y="2990880"/>
            <a:ext cx="1071360" cy="797040"/>
          </a:xfrm>
          <a:prstGeom prst="rect">
            <a:avLst/>
          </a:prstGeom>
          <a:ln w="0">
            <a:noFill/>
          </a:ln>
        </p:spPr>
      </p:pic>
      <p:sp>
        <p:nvSpPr>
          <p:cNvPr id="243" name="5 CuadroTexto"/>
          <p:cNvSpPr/>
          <p:nvPr/>
        </p:nvSpPr>
        <p:spPr>
          <a:xfrm>
            <a:off x="1945080" y="1982880"/>
            <a:ext cx="258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eorgia"/>
              </a:rPr>
              <a:t>Coeficiente de Carga o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eorgia"/>
              </a:rPr>
              <a:t>Manométrico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6 Rectángulo"/>
          <p:cNvSpPr/>
          <p:nvPr/>
        </p:nvSpPr>
        <p:spPr>
          <a:xfrm>
            <a:off x="1954440" y="3206880"/>
            <a:ext cx="23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eorgia"/>
              </a:rPr>
              <a:t>Coeficiente de Flujo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7 Rectángulo"/>
          <p:cNvSpPr/>
          <p:nvPr/>
        </p:nvSpPr>
        <p:spPr>
          <a:xfrm>
            <a:off x="2013120" y="4430880"/>
            <a:ext cx="270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eorgia"/>
              </a:rPr>
              <a:t>Coeficiente de Potencia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eorgia"/>
              </a:rPr>
              <a:t>(Efectiva o Consumida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0" y="10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3"/>
          <a:stretch/>
        </p:blipFill>
        <p:spPr>
          <a:xfrm>
            <a:off x="4962600" y="4437000"/>
            <a:ext cx="1150920" cy="6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8T21:26:10Z</dcterms:created>
  <dc:creator>Pancho</dc:creator>
  <dc:description/>
  <dc:language>en-US</dc:language>
  <cp:lastModifiedBy>Pancho</cp:lastModifiedBy>
  <dcterms:modified xsi:type="dcterms:W3CDTF">2010-08-17T15:22:00Z</dcterms:modified>
  <cp:revision>16</cp:revision>
  <dc:subject/>
  <dc:title>Motobomba</dc:title>
</cp:coreProperties>
</file>