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2BD3-D566-48F9-A7AD-619D5131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3BFF-B547-4505-8D47-120FE537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BB64-046A-4804-8406-38E7AD24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9501-A3C5-4306-944D-57AE88EE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CBC6-1454-4E22-A042-3D67613E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426F-041F-4631-89B8-D6303EAA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08F5-017B-4346-9032-860AE051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DE65-929F-4474-9D99-6FFB0F44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5F53-B8C6-47BC-B9D8-5612D77C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C50B-50B9-4D61-B2C6-840894DC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9482-EA36-4598-AB5D-05EA2567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C685-E4E1-4E87-ABD4-A5201D27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65BB-EDF0-4F1A-BB47-B86E80C3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4EC9-524F-4E82-BEF5-3B00656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50EE-6A9A-4B0D-B56B-53471AC4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4B20-39E0-46D6-92F3-C8E518C1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17DB-ED95-484A-9E6C-B7DC929F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754A-6CF2-404D-8CE2-49CB35EB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71A7-B8F7-47DF-882A-2E778F57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42AE-AA59-4B0A-AC90-980E3B47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E538-9110-49B1-ABD1-D4CA49C1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508A-07D4-4205-9797-9B978B3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54C8-3907-4DDE-B137-F4858046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A749-B25F-4401-BC57-CE98544A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FE8A-C2CA-4FD4-A6D3-CCD8FC7815C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445D-6C7D-4E7B-9B48-73CE00889A5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2363400"/>
            <a:ext cx="554364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Garamond"/>
              </a:rPr>
              <a:t>Escurrimiento de Flui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Laboratorio de Ingeniería Quím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IQ480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Experiencia Nº 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15960"/>
            <a:ext cx="82296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>
              <a:lnSpc>
                <a:spcPct val="80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Analizar el comportamiento de un fluido al escurrir por un sistema de cañerías provisto de singularidade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just">
              <a:lnSpc>
                <a:spcPct val="80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Determinar las pérdidas de carga debido a las singularidades y a la fricció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just">
              <a:lnSpc>
                <a:spcPct val="80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Comparar el comportamiento de diferentes válvulas en el sistem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395280" y="333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Garamond"/>
              </a:rPr>
              <a:t>Esquema del Equ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553440" cy="5295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3"/>
          <p:cNvSpPr/>
          <p:nvPr/>
        </p:nvSpPr>
        <p:spPr>
          <a:xfrm>
            <a:off x="6443640" y="357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ontracción br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6588000" y="24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xpansión br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300720" y="1484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odo 9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396720" y="148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iraje corto 9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181080" y="443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iraje largo 9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6588000" y="522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Unión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3132000" y="615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álvula de 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0"/>
          <p:cNvSpPr/>
          <p:nvPr/>
        </p:nvSpPr>
        <p:spPr>
          <a:xfrm>
            <a:off x="133200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1"/>
          <p:cNvSpPr/>
          <p:nvPr/>
        </p:nvSpPr>
        <p:spPr>
          <a:xfrm>
            <a:off x="1258920" y="1844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 flipH="1">
            <a:off x="5364000" y="18446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 flipH="1">
            <a:off x="5364000" y="2781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 flipH="1">
            <a:off x="5364000" y="3933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 flipH="1">
            <a:off x="5435640" y="5589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rnou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60560" y="2955960"/>
            <a:ext cx="374328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∆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 =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4572000" y="350028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5329080" y="3468600"/>
            <a:ext cx="5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329080" y="3397320"/>
            <a:ext cx="10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43560" y="339732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ρ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43560" y="461160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ρ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329080" y="4683240"/>
            <a:ext cx="10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5400720" y="475452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4614840" y="475452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498600" y="207504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uacion de Bernou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s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érdida de carga debido a una singula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274920" y="3062160"/>
            <a:ext cx="2449440" cy="1016280"/>
            <a:chOff x="3274920" y="3062160"/>
            <a:chExt cx="2449440" cy="1016280"/>
          </a:xfrm>
        </p:grpSpPr>
        <p:sp>
          <p:nvSpPr>
            <p:cNvPr id="139" name="Text Box 4"/>
            <p:cNvSpPr/>
            <p:nvPr/>
          </p:nvSpPr>
          <p:spPr>
            <a:xfrm>
              <a:off x="3274920" y="3206520"/>
              <a:ext cx="1582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= K</a:t>
              </a:r>
              <a:r>
                <a:rPr b="0" lang="es-E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"/>
            <p:cNvSpPr/>
            <p:nvPr/>
          </p:nvSpPr>
          <p:spPr>
            <a:xfrm>
              <a:off x="4788000" y="30621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4788000" y="3497040"/>
              <a:ext cx="93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2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7"/>
            <p:cNvSpPr/>
            <p:nvPr/>
          </p:nvSpPr>
          <p:spPr>
            <a:xfrm>
              <a:off x="4788000" y="357012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0"/>
          <p:cNvSpPr/>
          <p:nvPr/>
        </p:nvSpPr>
        <p:spPr>
          <a:xfrm>
            <a:off x="814320" y="5600880"/>
            <a:ext cx="822960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nde 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po de singu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867280" y="2997360"/>
          <a:ext cx="2578320" cy="2143080"/>
        </p:xfrm>
        <a:graphic>
          <a:graphicData uri="http://schemas.openxmlformats.org/drawingml/2006/table">
            <a:tbl>
              <a:tblPr/>
              <a:tblGrid>
                <a:gridCol w="1903680"/>
                <a:gridCol w="674640"/>
              </a:tblGrid>
              <a:tr h="266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gularid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on Rec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o 90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aje corto 90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aje largo 90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álvula de b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álvula de glo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álvula de compu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5572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érdida de carga debido a la fri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3274920" y="2357280"/>
            <a:ext cx="3054240" cy="1081440"/>
            <a:chOff x="3274920" y="2357280"/>
            <a:chExt cx="3054240" cy="1081440"/>
          </a:xfrm>
        </p:grpSpPr>
        <p:sp>
          <p:nvSpPr>
            <p:cNvPr id="147" name="Text Box 4"/>
            <p:cNvSpPr/>
            <p:nvPr/>
          </p:nvSpPr>
          <p:spPr>
            <a:xfrm>
              <a:off x="3274920" y="2601720"/>
              <a:ext cx="1761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" sz="32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= f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"/>
            <p:cNvSpPr/>
            <p:nvPr/>
          </p:nvSpPr>
          <p:spPr>
            <a:xfrm>
              <a:off x="5286960" y="2357280"/>
              <a:ext cx="8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"/>
            <p:cNvSpPr/>
            <p:nvPr/>
          </p:nvSpPr>
          <p:spPr>
            <a:xfrm>
              <a:off x="5286960" y="2857320"/>
              <a:ext cx="104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2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5214600" y="292896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0"/>
          <p:cNvSpPr/>
          <p:nvPr/>
        </p:nvSpPr>
        <p:spPr>
          <a:xfrm>
            <a:off x="673200" y="4573440"/>
            <a:ext cx="82296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nde f es el coeficiente de fricción (ecuación de Dar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4572000" y="29289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43280" y="2428920"/>
            <a:ext cx="8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43280" y="2857680"/>
            <a:ext cx="8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04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6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distintos flujos de agua, se calcularán las pérdidas de carga debido a la fricción y a las singularidades presentes en 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un mismo flujo se calculará la pérdida de carga de 3 diferentes válv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3:20:02Z</dcterms:created>
  <dc:creator>Roberto Vera Muñoz</dc:creator>
  <dc:description/>
  <dc:language>en-US</dc:language>
  <cp:lastModifiedBy>Osvaldo</cp:lastModifiedBy>
  <dcterms:modified xsi:type="dcterms:W3CDTF">2010-08-17T00:20:18Z</dcterms:modified>
  <cp:revision>26</cp:revision>
  <dc:subject/>
  <dc:title>Descarga de Fluidos</dc:title>
</cp:coreProperties>
</file>