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37DE4-4357-4E6E-8660-A5D4229B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7AD7-C126-4050-B35A-222A51DC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E9101-1DDB-45BF-A31C-639A4FF6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9A67-2BF6-4A7B-B61E-9450D35A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59F4-F856-4D4F-86BD-6DD29A8F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9058-BDCC-4FB6-A633-3BD83440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F065-EE6F-4DA6-AC8A-8FC3110E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7DF9-373F-485C-86D4-E4A54C9E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E3E0-3D6A-47CE-AADD-671A7162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9DD8-97D0-4E9C-8727-212B36E0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F63A-ABE2-42CC-9792-6D1A52CC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ABBD-5129-4D6C-8B71-3826E21E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21EA-4993-4E65-89F0-9EDEC810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2E2E-93FE-4A20-BF6F-DF365F1B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1AEB-C35B-4C27-AA77-AFBB4D93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0477-6F2C-40DB-9728-3352C73F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9D53-CF70-42B1-8061-0BE78C9B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6996-2389-459A-AEDB-AB5463EA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E6651-33C2-4875-96A6-FEB21C2C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191E1-46E0-41DB-A47D-0007C302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8D4EC-4313-4F10-9C04-C872CE17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58659-3436-49F2-B2E4-9F5E5654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083A-B92A-497E-80B1-F812BF45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1FA0B-0D03-4B64-AF73-6F9D55D4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2888-D983-4A2D-A191-F6E6B3AD6B7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5B54-49AB-42E5-B096-01E10FF48C6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000" y="2363400"/>
            <a:ext cx="554364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ffffff"/>
                </a:solidFill>
                <a:latin typeface="Garamond"/>
              </a:rPr>
              <a:t>Escurrimiento de Fluid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Garamond"/>
              </a:rPr>
              <a:t>Laboratorio de Ingeniería Quím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Garamond"/>
              </a:rPr>
              <a:t>IQ480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Garamond"/>
              </a:rPr>
              <a:t>Experiencia Nº 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15960"/>
            <a:ext cx="822960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just">
              <a:lnSpc>
                <a:spcPct val="80000"/>
              </a:lnSpc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Garamond"/>
              </a:rPr>
              <a:t>Analizar el comportamiento de un fluido al escurrir por un sistema de cañerías provisto de singularidade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just">
              <a:lnSpc>
                <a:spcPct val="80000"/>
              </a:lnSpc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Garamond"/>
              </a:rPr>
              <a:t>Determinar las pérdidas de carga debido a las singularidades y a la fricción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just">
              <a:lnSpc>
                <a:spcPct val="80000"/>
              </a:lnSpc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Garamond"/>
              </a:rPr>
              <a:t>Comparar el comportamiento de diferentes válvulas en el sistem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395280" y="333360"/>
            <a:ext cx="532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Garamond"/>
              </a:rPr>
              <a:t>Esquema del Equ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2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6553440" cy="5295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3"/>
          <p:cNvSpPr/>
          <p:nvPr/>
        </p:nvSpPr>
        <p:spPr>
          <a:xfrm>
            <a:off x="6443640" y="3573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Contracción bru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6588000" y="242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xpansión bru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300720" y="1484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Codo 9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396720" y="148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Viraje corto 9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181080" y="4437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Viraje largo 9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6588000" y="5229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Unión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3132000" y="6157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Válvula de 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0"/>
          <p:cNvSpPr/>
          <p:nvPr/>
        </p:nvSpPr>
        <p:spPr>
          <a:xfrm>
            <a:off x="133200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1"/>
          <p:cNvSpPr/>
          <p:nvPr/>
        </p:nvSpPr>
        <p:spPr>
          <a:xfrm>
            <a:off x="1258920" y="184464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2"/>
          <p:cNvSpPr/>
          <p:nvPr/>
        </p:nvSpPr>
        <p:spPr>
          <a:xfrm flipH="1">
            <a:off x="5364000" y="184464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3"/>
          <p:cNvSpPr/>
          <p:nvPr/>
        </p:nvSpPr>
        <p:spPr>
          <a:xfrm flipH="1">
            <a:off x="5364000" y="278136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4"/>
          <p:cNvSpPr/>
          <p:nvPr/>
        </p:nvSpPr>
        <p:spPr>
          <a:xfrm flipH="1">
            <a:off x="5364000" y="39337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5"/>
          <p:cNvSpPr/>
          <p:nvPr/>
        </p:nvSpPr>
        <p:spPr>
          <a:xfrm flipH="1">
            <a:off x="5435640" y="55897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ernou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860560" y="2955960"/>
            <a:ext cx="374328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∆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 =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4572000" y="350028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5329080" y="3468600"/>
            <a:ext cx="5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5329080" y="3397320"/>
            <a:ext cx="10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43560" y="339732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ρ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543560" y="461160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ρ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329080" y="4683240"/>
            <a:ext cx="10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5400720" y="475452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4614840" y="475452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498600" y="207504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uacion de Bernou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érdidas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érdida de carga debido a una singularid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274920" y="3062160"/>
            <a:ext cx="2449440" cy="1016280"/>
            <a:chOff x="3274920" y="3062160"/>
            <a:chExt cx="2449440" cy="1016280"/>
          </a:xfrm>
        </p:grpSpPr>
        <p:sp>
          <p:nvSpPr>
            <p:cNvPr id="139" name="Text Box 4"/>
            <p:cNvSpPr/>
            <p:nvPr/>
          </p:nvSpPr>
          <p:spPr>
            <a:xfrm>
              <a:off x="3274920" y="3206520"/>
              <a:ext cx="1582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" sz="3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= K</a:t>
              </a:r>
              <a:r>
                <a:rPr b="0" lang="es-ES" sz="3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"/>
            <p:cNvSpPr/>
            <p:nvPr/>
          </p:nvSpPr>
          <p:spPr>
            <a:xfrm>
              <a:off x="4788000" y="30621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4788000" y="3497040"/>
              <a:ext cx="93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2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7"/>
            <p:cNvSpPr/>
            <p:nvPr/>
          </p:nvSpPr>
          <p:spPr>
            <a:xfrm>
              <a:off x="4788000" y="357012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0"/>
          <p:cNvSpPr/>
          <p:nvPr/>
        </p:nvSpPr>
        <p:spPr>
          <a:xfrm>
            <a:off x="814320" y="5600880"/>
            <a:ext cx="822960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nde 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pende del tipo de singul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867280" y="2997360"/>
          <a:ext cx="2578320" cy="2143080"/>
        </p:xfrm>
        <a:graphic>
          <a:graphicData uri="http://schemas.openxmlformats.org/drawingml/2006/table">
            <a:tbl>
              <a:tblPr/>
              <a:tblGrid>
                <a:gridCol w="1903680"/>
                <a:gridCol w="674640"/>
              </a:tblGrid>
              <a:tr h="266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gularid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on Rec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o 90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aje corto 90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aje largo 90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álvula de b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álvula de glo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álvula de compue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5572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érdida de carga debido a la fri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9"/>
          <p:cNvGrpSpPr/>
          <p:nvPr/>
        </p:nvGrpSpPr>
        <p:grpSpPr>
          <a:xfrm>
            <a:off x="3274920" y="2357280"/>
            <a:ext cx="3054240" cy="1081440"/>
            <a:chOff x="3274920" y="2357280"/>
            <a:chExt cx="3054240" cy="1081440"/>
          </a:xfrm>
        </p:grpSpPr>
        <p:sp>
          <p:nvSpPr>
            <p:cNvPr id="147" name="Text Box 4"/>
            <p:cNvSpPr/>
            <p:nvPr/>
          </p:nvSpPr>
          <p:spPr>
            <a:xfrm>
              <a:off x="3274920" y="2601720"/>
              <a:ext cx="1761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" sz="32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= f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5"/>
            <p:cNvSpPr/>
            <p:nvPr/>
          </p:nvSpPr>
          <p:spPr>
            <a:xfrm>
              <a:off x="5286960" y="2357280"/>
              <a:ext cx="88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"/>
            <p:cNvSpPr/>
            <p:nvPr/>
          </p:nvSpPr>
          <p:spPr>
            <a:xfrm>
              <a:off x="5286960" y="2857320"/>
              <a:ext cx="104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2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5214600" y="2928960"/>
              <a:ext cx="64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0"/>
          <p:cNvSpPr/>
          <p:nvPr/>
        </p:nvSpPr>
        <p:spPr>
          <a:xfrm>
            <a:off x="673200" y="4573440"/>
            <a:ext cx="82296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nde f es el coeficiente de fricción (ecuación de Dar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4572000" y="292896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643280" y="2428920"/>
            <a:ext cx="8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643280" y="2857680"/>
            <a:ext cx="8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04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6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distintos flujos de agua, se calcularán las pérdidas de carga debido a la fricción y a las singularidades presentes en el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un mismo flujo se calculará la pérdida de carga de 3 diferentes válvu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23:20:02Z</dcterms:created>
  <dc:creator>Roberto Vera Muñoz</dc:creator>
  <dc:description/>
  <dc:language>en-US</dc:language>
  <cp:lastModifiedBy>Osvaldo</cp:lastModifiedBy>
  <dcterms:modified xsi:type="dcterms:W3CDTF">2010-08-17T00:20:18Z</dcterms:modified>
  <cp:revision>26</cp:revision>
  <dc:subject/>
  <dc:title>Descarga de Fluidos</dc:title>
</cp:coreProperties>
</file>