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E316-75A5-4B6C-A42D-227B4E55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EAA-4D69-4833-BA3C-E7533695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DDE-7651-4241-96A9-B3804FBF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06BB-771B-4017-A4E9-51A865E1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0D9A-EAA6-4113-AFA2-2C804CCD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010E-1860-4F51-A2E3-9207DFCE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66AC-38CD-4BCB-BE44-82E1B41C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2975-5E15-415F-B29C-46E2E3E8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E950-2811-477B-A6FF-10198260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4FB7-AAA8-4F3B-9CC9-5D3C66E3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5BB2-C064-47B6-B770-6597D829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0F7-C0C2-4A84-9A68-ADA80B67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F679-3ADE-4CB9-97FA-6DB6F3EB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3692-8F5E-44B6-BFE8-C5E76C35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93E7-867A-49F6-877E-F6DDC444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5075-C447-49E1-9207-B6B19D6E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DCDD-8E50-4F82-B338-AC9865C5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13B22-4321-4521-8367-5FDD865E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F86E3-4830-43D3-B3BC-B0D54DCB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E9DB-74E4-4FDD-BE00-D1A66C9D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CDD39-DC19-4277-924F-56AF6D90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03A4F-6DC5-4795-B589-727E22B3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4CB2-1A3F-473D-B480-8091DE98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7119-31CA-4647-8ACC-C3F0F30A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2E463-F25F-4127-AB60-2DD2CB87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08C2-3407-4F0F-9CDE-DB7FC37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29896-6186-4C7B-8D29-1343689F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0771-1303-453F-B805-8B40736A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AD078-0B47-4A6E-9F51-0CB4F95F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10821-5A71-45D3-B598-8891504D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61B78-129C-4BC2-A6B7-CDAA0B46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27AF1-D395-4D18-8E43-0AB66C83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3E83F-A1B6-4262-A37B-6CF3DD79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F42-D86A-4C90-9A2C-35045711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01C55-1920-4BC2-AF9E-138DF482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F5F5C-D172-4600-B104-3862EF4F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DA5EA-D32A-47CA-9174-6AB823DC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73C80-8244-4F92-BF74-96C05149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D5C42-E062-4D8C-B500-3ACF4DDA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02AEB-BAA5-4678-8E52-EAE50383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D39E8-FF5A-4863-9292-FFB894BC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3A128-92B0-4598-B1B6-020C9757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84F05-8531-475D-8DA7-8AF8B2C0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DA1C1-EF65-412F-895A-126D97CC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972-C3DF-497B-B8E2-887863D8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DA13-A348-44AD-9F13-1D58FE8A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C095B-6967-430F-ADC8-5D8CD903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6B12F-EDB6-4075-B76E-BA6652FD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EE4D1-2886-462D-97A9-00854FD8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CD5ED-477C-4642-AC44-0D64F79B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C8296-9124-4F54-951F-8FBB3149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5F6D4-8F0A-4A70-AE27-E46D065A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6D6A1-863A-4C63-8DA1-59186B66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0CFF2-0B63-4397-A65E-9D94BABC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0CC67-1CB5-41D8-B010-E2B06F3A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282-EFBE-442E-886E-A54BFA94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D4FEB-902B-4772-AC90-66FC8855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58F-87B9-4FC0-AACD-2A0F346D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F91-A414-4738-BDCE-50B06FD0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3CE-008A-49E1-AA23-D021FCC4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21A9-EA3F-4506-9CF6-93960311B0D9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54FE-443E-40DE-A9F8-574E2FDE5EB3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4FF2-A626-43F4-9335-ECEEA1F77F26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05D5-2593-41FF-AB22-19C3388DE789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F42D-DC91-48A1-9A6E-642941C77D74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85920" y="3357360"/>
            <a:ext cx="6400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Aparato visual de escurrimiento de fluid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Placa orificio y Venturímet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IQ4801 -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Laboratorio de Ingeniería Química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Experiencia 3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4 CuadroTexto"/>
          <p:cNvSpPr/>
          <p:nvPr/>
        </p:nvSpPr>
        <p:spPr>
          <a:xfrm>
            <a:off x="6588000" y="4929120"/>
            <a:ext cx="24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fes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Jorge Casti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aúl Quij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xiliar Exp. 3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odrigo Var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96464"/>
                </a:solidFill>
                <a:latin typeface="Calibri"/>
              </a:rPr>
              <a:t>a) Aparato visual de escurrimiento de fluidos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1.- Observar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alibri"/>
              </a:rPr>
              <a:t>visualmente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los distintos regímenes de flujo que puede presentar un fluido (laminar, turbulento, transición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2.- Comprobar y entender la relación entre el número de Reynolds y el régimen en el que se encuentr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67080" y="3000240"/>
            <a:ext cx="3886200" cy="26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990720" y="642960"/>
            <a:ext cx="2350800" cy="5562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086440" y="1076400"/>
            <a:ext cx="2200320" cy="92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96464"/>
                </a:solidFill>
                <a:latin typeface="Calibri"/>
              </a:rPr>
              <a:t>b) Placa Orificio y Venturímetro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1.- Conocer distintos métodos de medición de caud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2.- Reconocer cómo confeccionar una curva de calibrac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3.- Caracterizar placa orificio y venturímetro, encontrando su coeficiente de descarga en función del número de Reynol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2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696464"/>
                </a:solidFill>
                <a:latin typeface="Calibri"/>
              </a:rPr>
              <a:t>Curva de Calibración de un Rotámetro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1563480" cy="4375080"/>
          </a:xfrm>
          <a:prstGeom prst="rect">
            <a:avLst/>
          </a:prstGeom>
          <a:ln w="0">
            <a:noFill/>
          </a:ln>
        </p:spPr>
      </p:pic>
      <p:pic>
        <p:nvPicPr>
          <p:cNvPr id="241" name="6 Gráfico" descr=""/>
          <p:cNvPicPr/>
          <p:nvPr/>
        </p:nvPicPr>
        <p:blipFill>
          <a:blip r:embed="rId2"/>
          <a:stretch/>
        </p:blipFill>
        <p:spPr>
          <a:xfrm>
            <a:off x="3297240" y="1566720"/>
            <a:ext cx="5340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0" descr=""/>
          <p:cNvPicPr/>
          <p:nvPr/>
        </p:nvPicPr>
        <p:blipFill>
          <a:blip r:embed="rId1"/>
          <a:stretch/>
        </p:blipFill>
        <p:spPr>
          <a:xfrm>
            <a:off x="4572000" y="2565360"/>
            <a:ext cx="3089160" cy="3300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"/>
          <p:cNvPicPr/>
          <p:nvPr/>
        </p:nvPicPr>
        <p:blipFill>
          <a:blip r:embed="rId2"/>
          <a:stretch/>
        </p:blipFill>
        <p:spPr>
          <a:xfrm>
            <a:off x="1438200" y="2421000"/>
            <a:ext cx="2413080" cy="34956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1547640" y="595008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 Placa Orif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59280" y="59245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 Venturí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2771640" y="404640"/>
            <a:ext cx="331488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Calibri"/>
              </a:rPr>
              <a:t>Ejemplo: Placa Orificio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619280" y="1447920"/>
            <a:ext cx="563400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20:50:16Z</dcterms:created>
  <dc:creator>Quimica</dc:creator>
  <dc:description/>
  <dc:language>en-US</dc:language>
  <cp:lastModifiedBy>Rodrigo</cp:lastModifiedBy>
  <dcterms:modified xsi:type="dcterms:W3CDTF">2010-08-17T20:17:51Z</dcterms:modified>
  <cp:revision>10</cp:revision>
  <dc:subject/>
  <dc:title>Presentación de PowerPoint</dc:title>
</cp:coreProperties>
</file>