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2EC8-0C4C-4036-B932-E2CECC51F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90E6-32A0-4363-8410-5E002C39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1AED-5421-4997-8273-9AC54AB48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C93D-62BF-469B-BBA9-2E1B4131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980A-6D7B-4D0C-B30D-4487342CF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CDA8-82EF-442E-8CBD-3C29196C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CDD7-D7E8-49E7-8D10-D1FA5D58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2B52-D1FA-49F5-AABE-B44EFF5B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4F86-02BE-44D3-9117-0DC85F74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D907-B3F5-4ECA-B711-E0E8B47C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2D75-BF85-4F83-A12E-2FDD73C8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6F70-B48E-4325-ACF4-196401A1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A1B0-43AC-475A-BA85-3F3495FF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30E4-CC25-428A-8BF8-E87D7D40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190D-EC07-4A6E-9910-4BAAF1A8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FBB7-8129-46F5-874A-078EFF786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4413-263A-472C-99E4-A37626357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493DC-C532-4931-8B5C-1033384C5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AEF97-60DA-4B2E-A463-14932427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99C39-B34D-465A-9429-6E2A1352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F116A-9D0D-4E8C-9DF4-419721CB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29641-7F64-4D94-815B-7AE4E0C7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2730-93FE-4C20-830A-FBEB9F14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FF7F5-CD7A-4086-AC53-74586852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B53DD-7FED-49A5-8672-132C285C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833B1-316D-496E-BB97-C36D5DB3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35E71-E851-4619-9AAD-880376AD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699B0-7177-4068-9B0D-10EAA39A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1434D-143A-4662-90FA-36AEA1ECB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EABA4-A0F6-4BF8-9B33-0344BB631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95F70-A741-4C91-9D46-D3DCA852E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18218-3264-4B60-A6C9-D62A4A79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99DC4-975D-4846-B8E6-8987B7D8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1A40-0DED-4ED4-BA89-D83C8A7B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47C7D-C97B-4810-9628-DD26A33A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7DE63-A850-46E1-A3EF-8C8EF5C3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F5DB9-E366-458A-9C3F-46B70E3C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C95A4-76C9-4B14-9E6F-B80B6A47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ED978-0B60-46AC-B93C-6F0D563E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54A33-60B0-4E9A-BBA4-2302CEC8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15C78-C751-4C49-9A62-66D72812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E1489-A296-4ED2-B303-08F6AB725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43140-1EF2-429C-9CD3-0F9B9DBD0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5D585-7F7E-47E5-8519-0B1DD72DB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A943-9D3C-45FD-B919-1B71DDD3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4F40A-8833-42BC-87BA-18FBF64C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22D37-C634-4229-87D7-E7B1DF13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01BF5-A3C6-4D14-A8F4-2A411B58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C8C2D-C332-4CA2-B9F9-4F29AE79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4D3F3-655B-4DC0-B725-8C31D7BE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7EB50-66D7-4C9A-8BB5-25052A55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D21E9-CF6F-424C-9697-B4785054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37DE9-331A-4795-AE1C-686F57F4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A4A3F-1661-4180-8FAC-6F42DF6E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A300F-F9CD-45C5-AA0F-32B51E51D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085B-5ED1-4E91-9F50-575EDA12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777B2-40A5-4F1C-809B-FC92A9E09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69A0-D169-4AB9-A116-79AB199C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938D-842C-4F82-AACE-E3096862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3B9B-CED7-4D5D-A167-2E740270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C527-BBA0-422B-91D4-1A5E16138096}" type="slidenum">
              <a:rPr b="0" lang="es-E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10 Rectángulo redondeado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12 Rectángulo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14 Rectángulo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FE06-ED91-4DF3-8941-27AB2A259BD5}" type="slidenum">
              <a:rPr b="0" lang="es-E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10 Rectángulo redondeado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10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11 Rectángulo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12 Rectángulo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14 Rectángulo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15D4-F43E-438A-8A68-CD54E681FD43}" type="slidenum">
              <a:rPr b="0" lang="es-E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10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6C11-DBD9-43DA-8BF4-EC6B33EAFB46}" type="slidenum">
              <a:rPr b="0" lang="es-E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9 Rectángulo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10 Rectángulo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11 Rectángulo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6FC5-078D-42F5-957F-25A5355EF58D}" type="slidenum">
              <a:rPr b="0" lang="es-E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85920" y="3357360"/>
            <a:ext cx="64008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f4b4b"/>
                </a:solidFill>
                <a:latin typeface="Calibri"/>
              </a:rPr>
              <a:t>Aparato visual de escurrimiento de fluid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f4b4b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4f4b4b"/>
                </a:solidFill>
                <a:latin typeface="Calibri"/>
              </a:rPr>
              <a:t>Placa orificio y Venturímetr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IQ4801 -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Laboratorio de Ingeniería Química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Experiencia 3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0" name="4 CuadroTexto"/>
          <p:cNvSpPr/>
          <p:nvPr/>
        </p:nvSpPr>
        <p:spPr>
          <a:xfrm>
            <a:off x="6588000" y="4929120"/>
            <a:ext cx="24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fesor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Jorge Casti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aúl Quij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uxiliar Exp. 3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odrigo Var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96464"/>
                </a:solidFill>
                <a:latin typeface="Calibri"/>
              </a:rPr>
              <a:t>a) Aparato visual de escurrimiento de fluidos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914400" y="17859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Objetivo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162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1.- Observar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alibri"/>
              </a:rPr>
              <a:t>visualmente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 los distintos regímenes de flujo que puede presentar un fluido (laminar, turbulento, transición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162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2.- Comprobar y entender la relación entre el número de Reynolds y el régimen en el que se encuentr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4267080" y="3000240"/>
            <a:ext cx="3886200" cy="268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990720" y="642960"/>
            <a:ext cx="2350800" cy="556272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3"/>
          <a:stretch/>
        </p:blipFill>
        <p:spPr>
          <a:xfrm>
            <a:off x="5086440" y="1076400"/>
            <a:ext cx="2200320" cy="923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96464"/>
                </a:solidFill>
                <a:latin typeface="Calibri"/>
              </a:rPr>
              <a:t>b) Placa Orificio y Venturímetro.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Objetivo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162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1.- Conocer distintos métodos de medición de cauda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162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2.- Reconocer cómo confeccionar una curva de calibració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162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3.- Caracterizar placa orificio y venturímetro, encontrando su coeficiente de descarga en función del número de Reynold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297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696464"/>
                </a:solidFill>
                <a:latin typeface="Calibri"/>
              </a:rPr>
              <a:t>Curva de Calibración de un Rotámetro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1563480" cy="4375080"/>
          </a:xfrm>
          <a:prstGeom prst="rect">
            <a:avLst/>
          </a:prstGeom>
          <a:ln w="0">
            <a:noFill/>
          </a:ln>
        </p:spPr>
      </p:pic>
      <p:pic>
        <p:nvPicPr>
          <p:cNvPr id="241" name="6 Gráfico" descr=""/>
          <p:cNvPicPr/>
          <p:nvPr/>
        </p:nvPicPr>
        <p:blipFill>
          <a:blip r:embed="rId2"/>
          <a:stretch/>
        </p:blipFill>
        <p:spPr>
          <a:xfrm>
            <a:off x="3297240" y="1566720"/>
            <a:ext cx="534024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10" descr=""/>
          <p:cNvPicPr/>
          <p:nvPr/>
        </p:nvPicPr>
        <p:blipFill>
          <a:blip r:embed="rId1"/>
          <a:stretch/>
        </p:blipFill>
        <p:spPr>
          <a:xfrm>
            <a:off x="4572000" y="2565360"/>
            <a:ext cx="3089160" cy="3300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"/>
          <p:cNvPicPr/>
          <p:nvPr/>
        </p:nvPicPr>
        <p:blipFill>
          <a:blip r:embed="rId2"/>
          <a:stretch/>
        </p:blipFill>
        <p:spPr>
          <a:xfrm>
            <a:off x="1438200" y="2421000"/>
            <a:ext cx="2413080" cy="34956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5"/>
          <p:cNvSpPr/>
          <p:nvPr/>
        </p:nvSpPr>
        <p:spPr>
          <a:xfrm>
            <a:off x="1547640" y="595008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) Placa Orif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4859280" y="59245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) Venturíme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11" descr=""/>
          <p:cNvPicPr/>
          <p:nvPr/>
        </p:nvPicPr>
        <p:blipFill>
          <a:blip r:embed="rId3"/>
          <a:stretch/>
        </p:blipFill>
        <p:spPr>
          <a:xfrm>
            <a:off x="2771640" y="404640"/>
            <a:ext cx="3314880" cy="19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96464"/>
                </a:solidFill>
                <a:latin typeface="Calibri"/>
              </a:rPr>
              <a:t>Ejemplo: Placa Orificio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1619280" y="1447920"/>
            <a:ext cx="5634000" cy="52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1T20:50:16Z</dcterms:created>
  <dc:creator>Quimica</dc:creator>
  <dc:description/>
  <dc:language>en-US</dc:language>
  <cp:lastModifiedBy>Rodrigo</cp:lastModifiedBy>
  <dcterms:modified xsi:type="dcterms:W3CDTF">2010-08-17T20:17:51Z</dcterms:modified>
  <cp:revision>10</cp:revision>
  <dc:subject/>
  <dc:title>Presentación de PowerPoint</dc:title>
</cp:coreProperties>
</file>