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Img"/>
          </p:nvPr>
        </p:nvSpPr>
        <p:spPr>
          <a:xfrm>
            <a:off x="10922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9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0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7906-735E-4F5A-83CA-5C6CA8150C8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82FE-A450-4EF2-9E41-0A2E1B4C502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A561-6EAE-4E31-8465-B8A87E7D421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1DF9-058D-4345-96DE-46290DA4A1C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F443-B37A-4B1B-ADF6-9453CC79287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8344-530E-4482-9008-84847E24630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7E67-D129-4609-8EE5-A3235139009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D402-7D69-488C-A02F-6AD289B5D33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102A-C688-4EDD-9D4F-CCAFF61CD7E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D17D-4740-44C2-9259-CBEE7A9CF20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525E-40C0-4A9F-9E97-07AF31E43DD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3055-5F7E-4F3A-98F8-4EAC811A0C8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FE52-0B83-4025-B76A-CECDD8A46AF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B789-1E74-401C-B14A-B73D6E38C74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8790-F4DB-4517-8120-405B969F680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A19E-28B2-49D6-AFBB-F8949CBDB62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BBC8-3F93-4F42-9654-12F3FC5C16A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21A2-055B-4A17-9EE9-A781483DDC1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09EF-1A17-49C3-AF00-D19752C70CC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6314-3C49-4A4B-99C5-6183172893A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0FB9-B440-4ECD-9110-E901A1F561C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D310-C724-49CD-8B09-617B581B709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3A95-ED43-46B7-B367-7E94C783896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EB9A-BF93-45B5-B6F5-B8C5A5B30BF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1222-F348-4BCA-B583-4DCFD5EE6C6D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2491-24C2-4DC8-869B-8AFC68C5DE2F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E2D8-40D8-49F5-9E8E-13D50DEF2DD7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4BDF-3D86-4B99-B8E5-A24F80939CAB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2101-BFA6-463E-9BC3-4B15B3E296BF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191E-BA69-4E5E-9894-26E38419C9D4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D048-70A7-47C3-A7E8-17A291CBE5C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2E9B-05C7-422F-A47D-6283DDA65B5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FCD9-AE67-4AC5-B21D-DB3903B0463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B432-C9AB-47D1-9D02-C05932F1133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4BFD-FE1C-44A1-B91E-6BC40899B88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61D3-CEC2-4432-AC77-A32B477E868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ABD3-CB63-47C5-827D-FEBECFAD5D2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DE1B-2150-473F-93B1-47BB45DD265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3CAF-5E9E-4495-A1EF-A89263E4426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EEA3-FB22-41CE-B432-8A053A57FB1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D877-A1CB-43F4-82A5-71CF951A5E7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0EE9-7253-4944-ABEF-8582F280960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2D6D-682C-4AC1-A339-86ADDB756B9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C993-9E31-4E52-92C2-39DE0DDE259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41AC-8E5F-4CAC-B30D-E4952F219E2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ADA3-EB7A-410A-91E7-7159E25D759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DF21-0627-4DF5-A2AF-612E9C88348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7120-7797-4EE2-B123-DC0D60DA777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DC2D-F6FD-45EC-88DC-4900D97895A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8CD0-3E60-4876-B1FB-B86DB60A6BC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AD63-B9B9-4295-B92B-91036CD5043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EE635-039F-48AD-817C-A85B0E379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1B30B-C7CD-48B6-8EE8-0E38A4C0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CE68F-3CDC-4FD8-ABD4-BC6737D7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F84D1-504D-445A-B67C-CB59BD6B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70A2A-FE6C-4225-B0B1-84A3171D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AFBC2-748D-408A-BF86-87F479C9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355BA1-364D-46D6-9248-CD5C76BA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BAD0A-77B1-4545-A701-0F5070B8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8938E-A61D-446B-9FAA-0427A9B2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7D63C-D60E-4AA6-AE7B-1B6458F8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B5E07-3901-479E-BC09-D858AFFE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E451F-CB59-49C0-8521-689023AF2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D1B1C0-304B-497F-92E3-2C356EFD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230C44-2710-4B26-B31A-97099361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B2CACF-7D5D-49DF-AC88-69FB53CE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5F1FB8-0FA7-4E48-8740-12496BF0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4D0CE1-802B-4CAD-9BA8-6C308B24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20131E-0E6F-4F20-B26E-F6FF25FD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25DB93-8C07-45B6-B599-9EFF5E19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56897D-5CDC-424B-9D4F-EF9213E8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F2E389-1830-4BFC-83B3-DDF16AFC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F128FA-DFE4-4FAC-B4D4-5ACDA778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69A233-5FF2-4439-AC86-6F623143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DA2260-9E6B-4594-9B9C-5F859188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4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12" descr=""/>
          <p:cNvPicPr/>
          <p:nvPr/>
        </p:nvPicPr>
        <p:blipFill>
          <a:blip r:embed="rId3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4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8EF1-56A7-41F3-856D-7CDEA50434A6}" type="slidenum">
              <a:rPr b="0" lang="en-GB" sz="4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http://www.wharton.upenn.edu/research/webi.html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producto y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2"/>
          <a:stretch/>
        </p:blipFill>
        <p:spPr>
          <a:xfrm>
            <a:off x="2214720" y="1676520"/>
            <a:ext cx="442908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Preguntas sobre produc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quiebre/necesidad/dolor del cliente resuelve mi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Está claro totalmente para mi y para el cliente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Lo pidió él o se me ocurre que le interes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valor le agrega el producto al cli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Hay otros productos similares o sustitut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es son los productos competidor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 es la propuesta de valor del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Preguntas sobre el clien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Quiénes son los stakeholder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s o individuos que razonablemente pueda esperarse que se vean afectados de forma significativa por las actividades, productos y/o servicios de una organ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on los interesados directos e indirectos de una empresa que teniendo algún tipo de interés en las operaciones empresarias, le brindan su apoyo y ante los cuales la organización es responsable, tales como los accionistas, proveedores, clientes, etc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4200" y="533160"/>
            <a:ext cx="8001000" cy="83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ntonces ¿Quiénes son los cliente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42600" y="1642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Todos quienes reciban valor agregado por el producto (bien o servicio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directos (que paga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indirectos (reciben los benefici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Hasta el cliente de mi cliente de mi cliente………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Si tengo contento al cliente de mi cliente, tengo contento a mi cli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¿Son todos los stakeholder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8088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Otra visión de un modelo de negoci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1" name="Object 3"/>
          <p:cNvGraphicFramePr/>
          <p:nvPr/>
        </p:nvGraphicFramePr>
        <p:xfrm>
          <a:off x="533520" y="1509840"/>
          <a:ext cx="7772400" cy="457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509840"/>
                    <a:ext cx="777240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305560" cy="6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l modelo de negocios tiene una visión económica y técnica del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914400" y="1752480"/>
          <a:ext cx="7176960" cy="426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752480"/>
                    <a:ext cx="71769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La cadena de valor y la propuesta de val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3" descr="porter"/>
          <p:cNvPicPr/>
          <p:nvPr/>
        </p:nvPicPr>
        <p:blipFill>
          <a:blip r:embed="rId2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3" descr="value"/>
          <p:cNvPicPr/>
          <p:nvPr/>
        </p:nvPicPr>
        <p:blipFill>
          <a:blip r:embed="rId2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227160" y="1531800"/>
            <a:ext cx="8916480" cy="4255200"/>
            <a:chOff x="227160" y="1531800"/>
            <a:chExt cx="8916480" cy="4255200"/>
          </a:xfrm>
        </p:grpSpPr>
        <p:sp>
          <p:nvSpPr>
            <p:cNvPr id="251" name="Line 3"/>
            <p:cNvSpPr/>
            <p:nvPr/>
          </p:nvSpPr>
          <p:spPr>
            <a:xfrm>
              <a:off x="980640" y="376200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Freeform 4"/>
            <p:cNvSpPr/>
            <p:nvPr/>
          </p:nvSpPr>
          <p:spPr>
            <a:xfrm>
              <a:off x="1391040" y="2524680"/>
              <a:ext cx="1682640" cy="2728800"/>
            </a:xfrm>
            <a:prstGeom prst="pie">
              <a:avLst/>
            </a:pr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Freeform 5"/>
            <p:cNvSpPr/>
            <p:nvPr/>
          </p:nvSpPr>
          <p:spPr>
            <a:xfrm>
              <a:off x="3075120" y="3506040"/>
              <a:ext cx="191880" cy="497160"/>
            </a:xfrm>
            <a:prstGeom prst="pie">
              <a:avLst/>
            </a:pr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Freeform 6"/>
            <p:cNvSpPr/>
            <p:nvPr/>
          </p:nvSpPr>
          <p:spPr>
            <a:xfrm>
              <a:off x="3075120" y="4958640"/>
              <a:ext cx="191880" cy="497160"/>
            </a:xfrm>
            <a:prstGeom prst="pie">
              <a:avLst/>
            </a:pr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Freeform 7"/>
            <p:cNvSpPr/>
            <p:nvPr/>
          </p:nvSpPr>
          <p:spPr>
            <a:xfrm>
              <a:off x="3075120" y="2268720"/>
              <a:ext cx="191880" cy="497160"/>
            </a:xfrm>
            <a:prstGeom prst="pie">
              <a:avLst/>
            </a:pr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AutoShape 10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AutoShape 11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AutoShape 12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AutoShape 13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14"/>
            <p:cNvSpPr/>
            <p:nvPr/>
          </p:nvSpPr>
          <p:spPr>
            <a:xfrm>
              <a:off x="699840" y="1600560"/>
              <a:ext cx="3512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veles en la creación de val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15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s-E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16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7"/>
            <p:cNvSpPr/>
            <p:nvPr/>
          </p:nvSpPr>
          <p:spPr>
            <a:xfrm>
              <a:off x="3598920" y="2615760"/>
              <a:ext cx="569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Rectangle 18"/>
            <p:cNvSpPr/>
            <p:nvPr/>
          </p:nvSpPr>
          <p:spPr>
            <a:xfrm>
              <a:off x="3255840" y="3810600"/>
              <a:ext cx="11062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Rectangle 19"/>
            <p:cNvSpPr/>
            <p:nvPr/>
          </p:nvSpPr>
          <p:spPr>
            <a:xfrm>
              <a:off x="3289320" y="3953160"/>
              <a:ext cx="913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enta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Rectangle 20"/>
            <p:cNvSpPr/>
            <p:nvPr/>
          </p:nvSpPr>
          <p:spPr>
            <a:xfrm>
              <a:off x="3367440" y="3391560"/>
              <a:ext cx="8092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Rectangle 21"/>
            <p:cNvSpPr/>
            <p:nvPr/>
          </p:nvSpPr>
          <p:spPr>
            <a:xfrm>
              <a:off x="4647960" y="202572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Rectangle 22"/>
            <p:cNvSpPr/>
            <p:nvPr/>
          </p:nvSpPr>
          <p:spPr>
            <a:xfrm>
              <a:off x="4726080" y="2055600"/>
              <a:ext cx="20689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Rectangle 23"/>
            <p:cNvSpPr/>
            <p:nvPr/>
          </p:nvSpPr>
          <p:spPr>
            <a:xfrm>
              <a:off x="6996600" y="205560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Rectangle 24"/>
            <p:cNvSpPr/>
            <p:nvPr/>
          </p:nvSpPr>
          <p:spPr>
            <a:xfrm>
              <a:off x="4726080" y="2507040"/>
              <a:ext cx="18820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Rectangle 25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Rectangle 26"/>
            <p:cNvSpPr/>
            <p:nvPr/>
          </p:nvSpPr>
          <p:spPr>
            <a:xfrm>
              <a:off x="4726080" y="3796200"/>
              <a:ext cx="24040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Rectangle 27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Rectangle 28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Rectangle 29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Rectangle 30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31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Rectangle 32"/>
            <p:cNvSpPr/>
            <p:nvPr/>
          </p:nvSpPr>
          <p:spPr>
            <a:xfrm>
              <a:off x="5382000" y="1531800"/>
              <a:ext cx="2710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Rectangle 33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Rectangle 34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AutoShape 35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" name="AutoShape 36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Rectangle 37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" name="Rectangle 38"/>
            <p:cNvSpPr/>
            <p:nvPr/>
          </p:nvSpPr>
          <p:spPr>
            <a:xfrm>
              <a:off x="3353400" y="5237640"/>
              <a:ext cx="9705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tivos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j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" name="Rectangle 39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" name="Rectangle 40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" name="Rectangle 41"/>
            <p:cNvSpPr/>
            <p:nvPr/>
          </p:nvSpPr>
          <p:spPr>
            <a:xfrm>
              <a:off x="1635480" y="3277080"/>
              <a:ext cx="110772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90" name="Group 42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291" name="Line 43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2" name="Line 44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3" name="Arc 45"/>
            <p:cNvSpPr/>
            <p:nvPr/>
          </p:nvSpPr>
          <p:spPr>
            <a:xfrm>
              <a:off x="1854000" y="3716280"/>
              <a:ext cx="815400" cy="431280"/>
            </a:xfrm>
            <a:prstGeom prst="pie">
              <a:avLst/>
            </a:prstGeom>
            <a:noFill/>
            <a:ln w="38160">
              <a:solidFill>
                <a:srgbClr val="ddddd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" name="Rectangle 46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" name="Rectangle 47"/>
            <p:cNvSpPr/>
            <p:nvPr/>
          </p:nvSpPr>
          <p:spPr>
            <a:xfrm>
              <a:off x="1596960" y="4647960"/>
              <a:ext cx="124344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" name="Rectangle 48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" name="Rectangle 49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" name="Rectangle 50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9" name="Rectangle 51"/>
            <p:cNvSpPr/>
            <p:nvPr/>
          </p:nvSpPr>
          <p:spPr>
            <a:xfrm>
              <a:off x="1767960" y="534744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" name="Rectangle 52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" name="Rectangle 53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Rectangle 54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AutoShape 55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04" name="Group 56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305" name="Line 57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6" name="Line 58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07" name="Arc 59"/>
            <p:cNvSpPr/>
            <p:nvPr/>
          </p:nvSpPr>
          <p:spPr>
            <a:xfrm flipV="1">
              <a:off x="1833480" y="2526120"/>
              <a:ext cx="816840" cy="343440"/>
            </a:xfrm>
            <a:prstGeom prst="pie">
              <a:avLst/>
            </a:prstGeom>
            <a:noFill/>
            <a:ln w="38160">
              <a:solidFill>
                <a:srgbClr val="ddddd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Rectangle 60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Line 61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Line 62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Line 63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Line 65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Line 66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ext Box 67"/>
          <p:cNvSpPr/>
          <p:nvPr/>
        </p:nvSpPr>
        <p:spPr>
          <a:xfrm>
            <a:off x="1752480" y="5867280"/>
            <a:ext cx="573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Rectangle 68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Rectangle 69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adena de valor 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(activ. Primaria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2"/>
          <a:stretch/>
        </p:blipFill>
        <p:spPr>
          <a:xfrm>
            <a:off x="1527120" y="1560600"/>
            <a:ext cx="6016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Roadmap para evaluar un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3 Marcador de contenido" descr=""/>
          <p:cNvPicPr/>
          <p:nvPr/>
        </p:nvPicPr>
        <p:blipFill>
          <a:blip r:embed="rId2"/>
          <a:stretch/>
        </p:blipFill>
        <p:spPr>
          <a:xfrm>
            <a:off x="554040" y="1852560"/>
            <a:ext cx="80359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"/>
          <p:cNvPicPr/>
          <p:nvPr/>
        </p:nvPicPr>
        <p:blipFill>
          <a:blip r:embed="rId2"/>
          <a:stretch/>
        </p:blipFill>
        <p:spPr>
          <a:xfrm>
            <a:off x="1143000" y="1614600"/>
            <a:ext cx="6797520" cy="47862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Matriz de valor agreg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Valor agregado por actividad/cl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1295280" y="1652760"/>
            <a:ext cx="609768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: Matriz de agregación de val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" name="3 Marcador de contenido" descr=""/>
          <p:cNvPicPr/>
          <p:nvPr/>
        </p:nvPicPr>
        <p:blipFill>
          <a:blip r:embed="rId2"/>
          <a:stretch/>
        </p:blipFill>
        <p:spPr>
          <a:xfrm>
            <a:off x="1471680" y="1762200"/>
            <a:ext cx="6191280" cy="4248000"/>
          </a:xfrm>
          <a:prstGeom prst="rect">
            <a:avLst/>
          </a:prstGeom>
          <a:ln w="0">
            <a:noFill/>
          </a:ln>
        </p:spPr>
      </p:pic>
      <p:sp>
        <p:nvSpPr>
          <p:cNvPr id="326" name="4 CuadroTexto"/>
          <p:cNvSpPr/>
          <p:nvPr/>
        </p:nvSpPr>
        <p:spPr>
          <a:xfrm rot="16200000">
            <a:off x="555480" y="350028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takehold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Cadena de valor negocio postal certific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2"/>
          <a:stretch/>
        </p:blipFill>
        <p:spPr>
          <a:xfrm>
            <a:off x="1982880" y="1428840"/>
            <a:ext cx="65898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Cadena de valor negocio impresión variab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2"/>
          <a:stretch/>
        </p:blipFill>
        <p:spPr>
          <a:xfrm>
            <a:off x="2238480" y="1752480"/>
            <a:ext cx="4657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99680" y="1714680"/>
            <a:ext cx="80010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Valor= Beneficios-Costos(incluye riesg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s un análisis y revisión cuantitativos de los beneficios, costos y valor que una organización puede darle a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l cli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os soc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os emple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os aliados estraté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os provee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Otro ejemplo de la matriz agregación de valor en la cadena de los stakeho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" name="Picture 4" descr=""/>
          <p:cNvPicPr/>
          <p:nvPr/>
        </p:nvPicPr>
        <p:blipFill>
          <a:blip r:embed="rId2"/>
          <a:stretch/>
        </p:blipFill>
        <p:spPr>
          <a:xfrm>
            <a:off x="1366920" y="1924200"/>
            <a:ext cx="64008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.: Índice de interés del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6" name="Picture 1" descr=""/>
          <p:cNvPicPr/>
          <p:nvPr/>
        </p:nvPicPr>
        <p:blipFill>
          <a:blip r:embed="rId2"/>
          <a:stretch/>
        </p:blipFill>
        <p:spPr>
          <a:xfrm>
            <a:off x="1052640" y="2157480"/>
            <a:ext cx="7029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0000"/>
                </a:solidFill>
                <a:latin typeface="Verdana"/>
              </a:rPr>
              <a:t>Definiendo una estrateg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755640" y="1916280"/>
            <a:ext cx="6624720" cy="3312720"/>
            <a:chOff x="755640" y="1916280"/>
            <a:chExt cx="6624720" cy="3312720"/>
          </a:xfrm>
        </p:grpSpPr>
        <p:sp>
          <p:nvSpPr>
            <p:cNvPr id="339" name="Line 4"/>
            <p:cNvSpPr/>
            <p:nvPr/>
          </p:nvSpPr>
          <p:spPr>
            <a:xfrm>
              <a:off x="755640" y="522432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0" name="Line 5"/>
            <p:cNvSpPr/>
            <p:nvPr/>
          </p:nvSpPr>
          <p:spPr>
            <a:xfrm>
              <a:off x="755640" y="313740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1" name="Line 6"/>
            <p:cNvSpPr/>
            <p:nvPr/>
          </p:nvSpPr>
          <p:spPr>
            <a:xfrm>
              <a:off x="755640" y="418104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2" name="AutoShape 7"/>
            <p:cNvSpPr/>
            <p:nvPr/>
          </p:nvSpPr>
          <p:spPr>
            <a:xfrm>
              <a:off x="2481480" y="1928880"/>
              <a:ext cx="4524480" cy="3300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cc99ff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e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AutoShape 8"/>
            <p:cNvSpPr/>
            <p:nvPr/>
          </p:nvSpPr>
          <p:spPr>
            <a:xfrm>
              <a:off x="3192480" y="1916280"/>
              <a:ext cx="3088440" cy="2260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3b2c1"/>
                </a:gs>
                <a:gs pos="100000">
                  <a:srgbClr val="e0e5ea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odel and Business Plan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4" name="AutoShape 9"/>
            <p:cNvSpPr/>
            <p:nvPr/>
          </p:nvSpPr>
          <p:spPr>
            <a:xfrm>
              <a:off x="3902760" y="1916280"/>
              <a:ext cx="1675080" cy="1221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99"/>
                </a:gs>
                <a:gs pos="100000">
                  <a:srgbClr val="ffeed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Text Box 10"/>
            <p:cNvSpPr/>
            <p:nvPr/>
          </p:nvSpPr>
          <p:spPr>
            <a:xfrm>
              <a:off x="1064520" y="2526840"/>
              <a:ext cx="159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nning 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1060200" y="3366360"/>
              <a:ext cx="168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chitectural 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Text Box 12"/>
            <p:cNvSpPr/>
            <p:nvPr/>
          </p:nvSpPr>
          <p:spPr>
            <a:xfrm>
              <a:off x="1063440" y="4282560"/>
              <a:ext cx="173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Line 13"/>
            <p:cNvSpPr/>
            <p:nvPr/>
          </p:nvSpPr>
          <p:spPr>
            <a:xfrm>
              <a:off x="1060200" y="2323440"/>
              <a:ext cx="0" cy="290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efiniendo una Estrategia de Negocio (business strateg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ónde situar los modelos de negocios en la arquitectura de negoci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1428840" y="1714680"/>
            <a:ext cx="656568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Picture 6" descr="C:\Documents and Settings\cmfkw\Desktop\ppt\bs3.gif"/>
          <p:cNvPicPr/>
          <p:nvPr/>
        </p:nvPicPr>
        <p:blipFill>
          <a:blip r:embed="rId2"/>
          <a:stretch/>
        </p:blipFill>
        <p:spPr>
          <a:xfrm>
            <a:off x="798480" y="1670040"/>
            <a:ext cx="765972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Competitive Advantag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something which gives the organisation some advantage over its riv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Cost advantag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A strategy to seek out and secure a cost advantag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f some kind - lower average costs, lower labour costs,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Market Dominanc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chieved through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nal grow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cquisitions – mergers and takeov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New product development:</a:t>
            </a:r>
            <a:r>
              <a:rPr b="1" lang="en-GB" sz="3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 keep ahead of rivals and set the 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Contraction/Expansion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cus on what you are good at (core competencies) or seek to expand into a range of market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Price Leadership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through dominating the industry – others follow your price le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Global</a:t>
            </a: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seeking to expand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lobal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Reengineering</a:t>
            </a: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thinking outside the box – looking at news ways of doing things to leverage the organisation’s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ternal business level strategies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Downsizin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selling off unwanted parts of the business – similar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o cont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Delayering</a:t>
            </a:r>
            <a:r>
              <a:rPr b="1" lang="en-GB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flattening the management structure, removing bureaucracy, speed up decision ma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Restructurin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complete re-think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f the way the business is organi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ta from sales, profit, etc. used to evaluate the progress and success of the strategy and to inform of changes to the strategy in the light of that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Picture 13" descr="http://www.sxc.hu/pic/m/m/ma/mad7986/108543_8247.jpg"/>
          <p:cNvPicPr/>
          <p:nvPr/>
        </p:nvPicPr>
        <p:blipFill>
          <a:blip r:embed="rId3"/>
          <a:stretch/>
        </p:blipFill>
        <p:spPr>
          <a:xfrm>
            <a:off x="4724280" y="2057400"/>
            <a:ext cx="3810240" cy="28494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4"/>
          <p:cNvSpPr/>
          <p:nvPr/>
        </p:nvSpPr>
        <p:spPr>
          <a:xfrm>
            <a:off x="4724280" y="4952880"/>
            <a:ext cx="381024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Information from a wide variety of source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an help to measure and inform the impact and direction of the strateg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opyright: Mad7986, http://www.sxc.hu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Que es el Plan de Negocio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definición detallada de cómo el Modelo de Negocios se llevara a cabo de acuerdo a una estrategia en un determinado horizo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xpresión cuantitativa de cómo se llevará a cabo el modelo de negocios siguiendo una estrateg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tenido del Plan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6628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 INDUSTRIA , LA EMPRESA, y EL ENTORN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ELO DE NEGOCIO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ÁLISIS E INVESTIGACIÓN DE MERCA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 DEL NEGOCI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N DE MARKE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N DE VENT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N DE DISEÑO Y IMPLEMENT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N DE OPER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QUIPO DE GEST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GRAMACIÓN GLOB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IESGOS CRÍTICOS, PROBLEMAS Y SUPUES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N FINANCIER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PUES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EXO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escripción del concepto de negocio y los negocios de la empre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oportunidad y la estrategia de nego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l mercado objetivo y proyec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s ventajas competitiv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l equip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propues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La Industria, la Empresa, sus Productos y el Entorn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indust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empresa y su concep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ductos y Serv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s de penetración y crecimiento de mercado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5694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96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con client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álisis e Investigación de Merc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amaño y tendencias de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mpetencia y competi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rción de mercado y ven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 estrategia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del negocio y crecimi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spectos Económicos del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gresos y márgenes operacion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tilidades y horizonte d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 fijos y variab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dicadores de puntos de quiebre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Marke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 global de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e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ácticas de ven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líticas de servicios y garantí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moción y Public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istribució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t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d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ómo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ónde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Quién va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Que incentivos vamos a dar a vendedores y cliente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Diseño e Implantación del produc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Hitos y tare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Riesgos y dificulta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Mejoras de producto y nuevos produc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Ope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iclo de ope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oc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fraestructura e optimiz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lanes y estrateg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 y regulatorio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quipo de Gest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rgan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ersonal cla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mpens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invers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Gratific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Directorio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shareholders, derechos y restri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nsultores y otros servicio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gramación Glob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xplicitar como se programarán las actividades asociadas a los programas de inversión y de oper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Financier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501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stados de Resultado y Balances actu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stados de Resultado Proforma (esperado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Balance Profor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Flujo de Caja Profor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ndicadores de evaluación (Van, TIR, Payback, etc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nálisis de sensibilidad y puntos de quieb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ontrol de Cost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Hechos esenciale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puesta para financiami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Financiamiento dese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Ofer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apit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so de los fon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Retorno para los inversionis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iesgos, problemas y supuestos crít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los riesgos, problemas y otras contingencias que puedan ocurrir y como administrarlos (que hacer para mitigar esos riesgos antes que se produzcan o cuando se produzcan- planificación por contingencia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340668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211140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6"/>
          <p:cNvSpPr/>
          <p:nvPr/>
        </p:nvSpPr>
        <p:spPr>
          <a:xfrm flipV="1">
            <a:off x="2187720" y="4343040"/>
            <a:ext cx="152388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7"/>
          <p:cNvSpPr/>
          <p:nvPr/>
        </p:nvSpPr>
        <p:spPr>
          <a:xfrm flipH="1">
            <a:off x="5311440" y="2819520"/>
            <a:ext cx="121932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8"/>
          <p:cNvSpPr/>
          <p:nvPr/>
        </p:nvSpPr>
        <p:spPr>
          <a:xfrm flipH="1" flipV="1">
            <a:off x="5388120" y="4191120"/>
            <a:ext cx="129528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85416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669240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669492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80424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6026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198108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68580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6"/>
          <p:cNvSpPr/>
          <p:nvPr/>
        </p:nvSpPr>
        <p:spPr>
          <a:xfrm flipV="1">
            <a:off x="762120" y="4266720"/>
            <a:ext cx="152388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7"/>
          <p:cNvSpPr/>
          <p:nvPr/>
        </p:nvSpPr>
        <p:spPr>
          <a:xfrm flipH="1">
            <a:off x="3885840" y="2743200"/>
            <a:ext cx="121932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8"/>
          <p:cNvSpPr/>
          <p:nvPr/>
        </p:nvSpPr>
        <p:spPr>
          <a:xfrm flipH="1" flipV="1">
            <a:off x="3809520" y="4267080"/>
            <a:ext cx="114300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42856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497520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504252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59148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38988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670716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728244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Line 16"/>
          <p:cNvSpPr/>
          <p:nvPr/>
        </p:nvSpPr>
        <p:spPr>
          <a:xfrm flipV="1">
            <a:off x="7773840" y="27432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738252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Line 18"/>
          <p:cNvSpPr/>
          <p:nvPr/>
        </p:nvSpPr>
        <p:spPr>
          <a:xfrm flipV="1">
            <a:off x="564048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396396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Line 20"/>
          <p:cNvSpPr/>
          <p:nvPr/>
        </p:nvSpPr>
        <p:spPr>
          <a:xfrm flipV="1">
            <a:off x="7773840" y="213372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743184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522972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Line 23"/>
          <p:cNvSpPr/>
          <p:nvPr/>
        </p:nvSpPr>
        <p:spPr>
          <a:xfrm flipV="1">
            <a:off x="564048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24"/>
          <p:cNvSpPr/>
          <p:nvPr/>
        </p:nvSpPr>
        <p:spPr>
          <a:xfrm>
            <a:off x="464976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Line 25"/>
          <p:cNvSpPr/>
          <p:nvPr/>
        </p:nvSpPr>
        <p:spPr>
          <a:xfrm flipV="1">
            <a:off x="564048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Line 26"/>
          <p:cNvSpPr/>
          <p:nvPr/>
        </p:nvSpPr>
        <p:spPr>
          <a:xfrm flipV="1">
            <a:off x="564048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Line 27"/>
          <p:cNvSpPr/>
          <p:nvPr/>
        </p:nvSpPr>
        <p:spPr>
          <a:xfrm flipV="1">
            <a:off x="564048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531396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Line 29"/>
          <p:cNvSpPr/>
          <p:nvPr/>
        </p:nvSpPr>
        <p:spPr>
          <a:xfrm flipV="1">
            <a:off x="564048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415188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Line 31"/>
          <p:cNvSpPr/>
          <p:nvPr/>
        </p:nvSpPr>
        <p:spPr>
          <a:xfrm>
            <a:off x="426888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24936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Oval 33"/>
          <p:cNvSpPr/>
          <p:nvPr/>
        </p:nvSpPr>
        <p:spPr>
          <a:xfrm>
            <a:off x="0" y="1197000"/>
            <a:ext cx="8964720" cy="5111640"/>
          </a:xfrm>
          <a:prstGeom prst="ellipse">
            <a:avLst/>
          </a:prstGeom>
          <a:solidFill>
            <a:srgbClr val="edf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7428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Oval 4"/>
          <p:cNvSpPr/>
          <p:nvPr/>
        </p:nvSpPr>
        <p:spPr>
          <a:xfrm>
            <a:off x="204624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75096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Line 6"/>
          <p:cNvSpPr/>
          <p:nvPr/>
        </p:nvSpPr>
        <p:spPr>
          <a:xfrm flipV="1">
            <a:off x="82692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Line 7"/>
          <p:cNvSpPr/>
          <p:nvPr/>
        </p:nvSpPr>
        <p:spPr>
          <a:xfrm flipH="1">
            <a:off x="39625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Line 8"/>
          <p:cNvSpPr/>
          <p:nvPr/>
        </p:nvSpPr>
        <p:spPr>
          <a:xfrm flipH="1" flipV="1">
            <a:off x="4038120" y="403848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249372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65664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45468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Line 31"/>
          <p:cNvSpPr/>
          <p:nvPr/>
        </p:nvSpPr>
        <p:spPr>
          <a:xfrm>
            <a:off x="4343400" y="259092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32"/>
          <p:cNvSpPr/>
          <p:nvPr/>
        </p:nvSpPr>
        <p:spPr>
          <a:xfrm>
            <a:off x="354168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 Box 34"/>
          <p:cNvSpPr/>
          <p:nvPr/>
        </p:nvSpPr>
        <p:spPr>
          <a:xfrm rot="20437200">
            <a:off x="7237440" y="3859920"/>
            <a:ext cx="16207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NTOR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modelo plantea 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66640" y="1752480"/>
            <a:ext cx="8291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Qué ………… producto serán mi fo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l …………será el nicho de merc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Dónde ......lo vender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Quién ……..lo producir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Porqué….….nadie lo ha hech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ómo ………lo promover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ndo…….está dispuesto a pag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nto…….necesito de invers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 …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....y erróneamente los ingenieros creemos que tenemos de antemano las respuestas (la verda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SzPct val="10289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9:43:56Z</dcterms:created>
  <dc:creator>toshiba</dc:creator>
  <dc:description/>
  <dc:language>en-US</dc:language>
  <cp:lastModifiedBy>Luis Zaviezo</cp:lastModifiedBy>
  <dcterms:modified xsi:type="dcterms:W3CDTF">2009-11-18T20:04:38Z</dcterms:modified>
  <cp:revision>29</cp:revision>
  <dc:subject/>
  <dc:title>Modelo de Negocios</dc:title>
</cp:coreProperties>
</file>