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Img"/>
          </p:nvPr>
        </p:nvSpPr>
        <p:spPr>
          <a:xfrm>
            <a:off x="109224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9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10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37FC-BC7B-44CF-878E-57410A9D0E9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B0EF-50C2-4439-85B7-06CC31D509F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FC4D-550A-41B8-B625-B7E02AFD924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1409-63CC-418F-84AF-7EEA52EC21C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3CFA-71D0-4CA2-B1F0-6088ACFD4BE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DE20-57D6-4AFE-9B13-188809BADBE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C6AD-59B9-4EF7-9B85-D56308D6E27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0BE1-78AC-4FDC-8668-AD8A1DF4DFB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A912-EDCF-433A-B8DA-146057179C5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30F4-0064-4854-8A1F-93C64C15850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31EC-3FC6-4320-8A8E-E23CD69428F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5D06-A797-41E3-B06D-BB5A8E469CE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8F7D-EFB5-4955-A160-7A5CAC07130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8DD6-53F4-4271-8D6C-40386B49BD8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3F49-2706-45EB-9D02-FE50D01B241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D885-ECDB-46EE-A050-6764921FAF2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D7DB-10A5-4D52-9B34-E5AE2973250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0D84-1444-4A53-89AE-EDDAAFD9A10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90AF-5CA7-4914-9A2E-A93132E7A2E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9743-7F43-421B-887F-9C2D9307E70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109B-06CB-4913-859B-9FB7A858056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45D5-2519-4C49-85AA-26BD6A27AAB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F8AD-AC3E-48C0-926C-2B48B02E795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FFD4-1110-4254-A542-A78A6456FDC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B617-E341-4B72-B0DA-B3F897288EC1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44EE-EF1A-4CA8-9429-E511F8B25FC8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7B4D-F0EE-4575-942C-46D0398D08D8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B2C1-70E1-42A0-A0EF-3353C960CFE7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1CE5-347D-4ED7-8A92-FE3572F06C4F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716C-83A5-4E0D-83E1-248BD6480BBE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321A-AD05-4BE6-9948-92A866B4925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B370-5EDC-43F6-A617-5068A98732C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AB76-28C4-4608-915D-1662B7F9805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4960-00E2-4944-8DCF-91D03633EA2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F437-7C9A-42A8-9FCC-AC623632A9D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9C0F-51C7-4184-B5BC-6DC640268AB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98D9-D8CF-4BE8-8CF1-8DF5471D0EB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628B-B0C5-4B37-B8C7-4C2E3C79540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F3F0-CA72-4C3A-B1CF-30CC4695B34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4166-41F9-4F32-92D7-D4004DA0805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D149-03E4-48CB-AC47-B7F881A48DD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1783-0C1B-4DE3-991A-9C732A33FE8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6B27-0BE8-4344-AC12-F75205E86CF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2915-541F-498B-A5DA-BAEC753BB48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2C7D-F7DF-465F-85E0-1187D352673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4E2E-1E5F-4890-B032-A5F4ED18652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758E-9308-4AED-8EB0-A57FFB8B38A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0826-35C7-4383-9261-80A66AD413C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8173-7322-4513-93B7-F207B8B3947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CD4F-CE47-49BC-A77C-023D6EB900E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6C60-410A-4A8C-88FB-6A59CADFC48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6C863-1013-4F5E-9C1D-6F8C669E8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CE8FB-9C7F-4571-85CA-E616F030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01071-9EB0-47ED-B6CB-56A76E8C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8E5DAF-9C52-4C2D-9CB6-78BEDEEB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D1B9F-3393-4642-9F4C-6AC5D96D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C68A8-F39A-4CBB-9413-E03BFD23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45A22-260C-49F9-81E7-E374FDD0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D8DCE-E9FC-4AC5-8E15-64D96256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B7F30-8EDD-44FE-8887-73E671BF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798AF-8FAC-4B4C-994C-5D1DD131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74A00-067E-494C-9761-E92193B8F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DEBD6-28A4-4F55-9BA0-49A2E61F1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30B83C-6193-4C88-A16E-B739A8F93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9A6257-B21D-4DA8-9D2B-14EA1084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F09A75-9349-4F4A-939F-DE4873BA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1CB404-719D-45B1-9593-F76A08C9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81280C-E1AF-4339-B49C-909DCCD9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7524D1-4675-4A18-8367-1F6EEB23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236725-A91D-4C4F-AB14-FC13518D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60E0AD-2D46-411D-B4AA-FEF4F063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761E7C-52D4-41F3-9BE1-E4E35332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947D0B-464C-4BA0-AA39-02EB2E0A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DFD537-EAE9-41DA-9018-4CC3F657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D1348E-28D2-4915-9B81-8DF3C600B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4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12" descr=""/>
          <p:cNvPicPr/>
          <p:nvPr/>
        </p:nvPicPr>
        <p:blipFill>
          <a:blip r:embed="rId3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4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E14E-82B0-4F70-8223-123E1C48CF6B}" type="slidenum">
              <a:rPr b="0" lang="en-GB" sz="4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http://www.wharton.upenn.edu/research/webi.html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Del Modelo de Negocios al Plan de Negoci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producto y el cli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2"/>
          <a:stretch/>
        </p:blipFill>
        <p:spPr>
          <a:xfrm>
            <a:off x="2214720" y="1676520"/>
            <a:ext cx="442908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Preguntas sobre produc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quiebre/necesidad/dolor del cliente resuelve mi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Está claro totalmente para mi y para el cliente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Lo pidió él o se me ocurre que le interes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valor le agrega el producto al cli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Hay otros productos similares o sustitut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es son los productos competidor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 es la propuesta de valor del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Preguntas sobre el clien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Quiénes son los stakeholder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rupos o individuos que razonablemente pueda esperarse que se vean afectados de forma significativa por las actividades, productos y/o servicios de una organ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on los interesados directos e indirectos de una empresa que teniendo algún tipo de interés en las operaciones empresarias, le brindan su apoyo y ante los cuales la organización es responsable, tales como los accionistas, proveedores, clientes, etc.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4200" y="533160"/>
            <a:ext cx="8001000" cy="83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ntonces ¿Quiénes son los cliente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42600" y="16426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Todos quienes reciban valor agregado por el producto (bien o servicio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directos (que paga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indirectos (reciben los benefici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Hasta el cliente de mi cliente de mi cliente………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Si tengo contento al cliente de mi cliente, tengo contento a mi clien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¿Son todos los stakeholder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200" y="380880"/>
            <a:ext cx="8001000" cy="83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Otra visión de un modelo de negoci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1" name="Object 3"/>
          <p:cNvGraphicFramePr/>
          <p:nvPr/>
        </p:nvGraphicFramePr>
        <p:xfrm>
          <a:off x="533520" y="1509840"/>
          <a:ext cx="7772400" cy="457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509840"/>
                    <a:ext cx="7772400" cy="45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305560" cy="68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El modelo de negocios tiene una visión económica y técnica del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914400" y="1752480"/>
          <a:ext cx="7176960" cy="426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752480"/>
                    <a:ext cx="71769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La cadena de valor y la propuesta de val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3" descr="porter"/>
          <p:cNvPicPr/>
          <p:nvPr/>
        </p:nvPicPr>
        <p:blipFill>
          <a:blip r:embed="rId2"/>
          <a:stretch/>
        </p:blipFill>
        <p:spPr>
          <a:xfrm>
            <a:off x="838080" y="1905120"/>
            <a:ext cx="77439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alor agregado para el consumidor fi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3" descr="value"/>
          <p:cNvPicPr/>
          <p:nvPr/>
        </p:nvPicPr>
        <p:blipFill>
          <a:blip r:embed="rId2"/>
          <a:srcRect l="2884" t="14300" r="961" b="3463"/>
          <a:stretch/>
        </p:blipFill>
        <p:spPr>
          <a:xfrm>
            <a:off x="838080" y="243828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227160" y="1531800"/>
            <a:ext cx="8916480" cy="4255200"/>
            <a:chOff x="227160" y="1531800"/>
            <a:chExt cx="8916480" cy="4255200"/>
          </a:xfrm>
        </p:grpSpPr>
        <p:sp>
          <p:nvSpPr>
            <p:cNvPr id="251" name="Line 3"/>
            <p:cNvSpPr/>
            <p:nvPr/>
          </p:nvSpPr>
          <p:spPr>
            <a:xfrm>
              <a:off x="980640" y="3762000"/>
              <a:ext cx="20926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Freeform 4"/>
            <p:cNvSpPr/>
            <p:nvPr/>
          </p:nvSpPr>
          <p:spPr>
            <a:xfrm>
              <a:off x="1391040" y="2524680"/>
              <a:ext cx="1682640" cy="2728800"/>
            </a:xfrm>
            <a:prstGeom prst="pie">
              <a:avLst/>
            </a:pr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Freeform 5"/>
            <p:cNvSpPr/>
            <p:nvPr/>
          </p:nvSpPr>
          <p:spPr>
            <a:xfrm>
              <a:off x="3075120" y="3506040"/>
              <a:ext cx="191880" cy="497160"/>
            </a:xfrm>
            <a:prstGeom prst="pie">
              <a:avLst/>
            </a:pr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Freeform 6"/>
            <p:cNvSpPr/>
            <p:nvPr/>
          </p:nvSpPr>
          <p:spPr>
            <a:xfrm>
              <a:off x="3075120" y="4958640"/>
              <a:ext cx="191880" cy="497160"/>
            </a:xfrm>
            <a:prstGeom prst="pie">
              <a:avLst/>
            </a:pr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Freeform 7"/>
            <p:cNvSpPr/>
            <p:nvPr/>
          </p:nvSpPr>
          <p:spPr>
            <a:xfrm>
              <a:off x="3075120" y="2268720"/>
              <a:ext cx="191880" cy="497160"/>
            </a:xfrm>
            <a:prstGeom prst="pie">
              <a:avLst/>
            </a:pr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1590480" y="326772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Rectangle 9"/>
            <p:cNvSpPr/>
            <p:nvPr/>
          </p:nvSpPr>
          <p:spPr>
            <a:xfrm>
              <a:off x="1590480" y="200376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AutoShape 10"/>
            <p:cNvSpPr/>
            <p:nvPr/>
          </p:nvSpPr>
          <p:spPr>
            <a:xfrm>
              <a:off x="3255840" y="2064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AutoShape 11"/>
            <p:cNvSpPr/>
            <p:nvPr/>
          </p:nvSpPr>
          <p:spPr>
            <a:xfrm>
              <a:off x="3255840" y="25513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AutoShape 12"/>
            <p:cNvSpPr/>
            <p:nvPr/>
          </p:nvSpPr>
          <p:spPr>
            <a:xfrm>
              <a:off x="3255840" y="3306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AutoShape 13"/>
            <p:cNvSpPr/>
            <p:nvPr/>
          </p:nvSpPr>
          <p:spPr>
            <a:xfrm>
              <a:off x="3255840" y="38008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14"/>
            <p:cNvSpPr/>
            <p:nvPr/>
          </p:nvSpPr>
          <p:spPr>
            <a:xfrm>
              <a:off x="699840" y="1600560"/>
              <a:ext cx="3512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veles en la creación de valo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15"/>
            <p:cNvSpPr/>
            <p:nvPr/>
          </p:nvSpPr>
          <p:spPr>
            <a:xfrm>
              <a:off x="227160" y="3338280"/>
              <a:ext cx="846360" cy="8218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003366"/>
              </a:solidFill>
              <a:miter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Creación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de Valor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(EVA</a:t>
              </a:r>
              <a:r>
                <a:rPr b="1" lang="es-ES" sz="1200" spc="-1" strike="noStrike" baseline="30000">
                  <a:solidFill>
                    <a:srgbClr val="dddddd"/>
                  </a:solidFill>
                  <a:latin typeface="Arial"/>
                </a:rPr>
                <a:t>®</a:t>
              </a: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16"/>
            <p:cNvSpPr/>
            <p:nvPr/>
          </p:nvSpPr>
          <p:spPr>
            <a:xfrm>
              <a:off x="3351600" y="2160720"/>
              <a:ext cx="1010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Volumen de Vent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7"/>
            <p:cNvSpPr/>
            <p:nvPr/>
          </p:nvSpPr>
          <p:spPr>
            <a:xfrm>
              <a:off x="3598920" y="2615760"/>
              <a:ext cx="569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eci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Rectangle 18"/>
            <p:cNvSpPr/>
            <p:nvPr/>
          </p:nvSpPr>
          <p:spPr>
            <a:xfrm>
              <a:off x="3255840" y="3810600"/>
              <a:ext cx="11062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minist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Rectangle 19"/>
            <p:cNvSpPr/>
            <p:nvPr/>
          </p:nvSpPr>
          <p:spPr>
            <a:xfrm>
              <a:off x="3289320" y="3953160"/>
              <a:ext cx="913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enta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Rectangle 20"/>
            <p:cNvSpPr/>
            <p:nvPr/>
          </p:nvSpPr>
          <p:spPr>
            <a:xfrm>
              <a:off x="3367440" y="3391560"/>
              <a:ext cx="8092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Rectangle 21"/>
            <p:cNvSpPr/>
            <p:nvPr/>
          </p:nvSpPr>
          <p:spPr>
            <a:xfrm>
              <a:off x="4647960" y="2025720"/>
              <a:ext cx="4430160" cy="9910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Rectangle 22"/>
            <p:cNvSpPr/>
            <p:nvPr/>
          </p:nvSpPr>
          <p:spPr>
            <a:xfrm>
              <a:off x="4726080" y="2055600"/>
              <a:ext cx="206892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cceso a nuevos mercad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Nuevos produc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Rectangle 23"/>
            <p:cNvSpPr/>
            <p:nvPr/>
          </p:nvSpPr>
          <p:spPr>
            <a:xfrm>
              <a:off x="6996600" y="2055600"/>
              <a:ext cx="2025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reación de nuevos productos /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Rectangle 24"/>
            <p:cNvSpPr/>
            <p:nvPr/>
          </p:nvSpPr>
          <p:spPr>
            <a:xfrm>
              <a:off x="4726080" y="2507040"/>
              <a:ext cx="18820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onstrucción de image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uadrar demanda-ofer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Rectangle 25"/>
            <p:cNvSpPr/>
            <p:nvPr/>
          </p:nvSpPr>
          <p:spPr>
            <a:xfrm>
              <a:off x="4726080" y="3297600"/>
              <a:ext cx="243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de costos operac.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es compr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Rectangle 26"/>
            <p:cNvSpPr/>
            <p:nvPr/>
          </p:nvSpPr>
          <p:spPr>
            <a:xfrm>
              <a:off x="4726080" y="3796200"/>
              <a:ext cx="24040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costos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es logísticas eficient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costos de transacció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Rectangle 27"/>
            <p:cNvSpPr/>
            <p:nvPr/>
          </p:nvSpPr>
          <p:spPr>
            <a:xfrm>
              <a:off x="6996600" y="3796200"/>
              <a:ext cx="2147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arketing efectiv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onitoreo de operacion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Rectangle 28"/>
            <p:cNvSpPr/>
            <p:nvPr/>
          </p:nvSpPr>
          <p:spPr>
            <a:xfrm>
              <a:off x="7001280" y="5185800"/>
              <a:ext cx="2134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de productividad de flo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Rectangle 29"/>
            <p:cNvSpPr/>
            <p:nvPr/>
          </p:nvSpPr>
          <p:spPr>
            <a:xfrm>
              <a:off x="4718160" y="5190480"/>
              <a:ext cx="22716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s de productividad de redes logístic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Rectangle 30"/>
            <p:cNvSpPr/>
            <p:nvPr/>
          </p:nvSpPr>
          <p:spPr>
            <a:xfrm>
              <a:off x="6996600" y="3297600"/>
              <a:ext cx="185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Fuentes de negociación de contra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Rectangle 31"/>
            <p:cNvSpPr/>
            <p:nvPr/>
          </p:nvSpPr>
          <p:spPr>
            <a:xfrm>
              <a:off x="4730760" y="4705920"/>
              <a:ext cx="2153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ptimización de Inventari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Time-to-market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Rectangle 32"/>
            <p:cNvSpPr/>
            <p:nvPr/>
          </p:nvSpPr>
          <p:spPr>
            <a:xfrm>
              <a:off x="5382000" y="1531800"/>
              <a:ext cx="27108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osibilidad de mejorar: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Rectangle 33"/>
            <p:cNvSpPr/>
            <p:nvPr/>
          </p:nvSpPr>
          <p:spPr>
            <a:xfrm>
              <a:off x="4641480" y="3278880"/>
              <a:ext cx="4430160" cy="11289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Rectangle 34"/>
            <p:cNvSpPr/>
            <p:nvPr/>
          </p:nvSpPr>
          <p:spPr>
            <a:xfrm>
              <a:off x="4635360" y="4660560"/>
              <a:ext cx="4430160" cy="107892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AutoShape 35"/>
            <p:cNvSpPr/>
            <p:nvPr/>
          </p:nvSpPr>
          <p:spPr>
            <a:xfrm>
              <a:off x="3246120" y="47530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4" name="AutoShape 36"/>
            <p:cNvSpPr/>
            <p:nvPr/>
          </p:nvSpPr>
          <p:spPr>
            <a:xfrm>
              <a:off x="3246120" y="52405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" name="Rectangle 37"/>
            <p:cNvSpPr/>
            <p:nvPr/>
          </p:nvSpPr>
          <p:spPr>
            <a:xfrm>
              <a:off x="3255840" y="4753080"/>
              <a:ext cx="1080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pital de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" name="Rectangle 38"/>
            <p:cNvSpPr/>
            <p:nvPr/>
          </p:nvSpPr>
          <p:spPr>
            <a:xfrm>
              <a:off x="3353400" y="5237640"/>
              <a:ext cx="9705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duci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tivos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j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7" name="Rectangle 39"/>
            <p:cNvSpPr/>
            <p:nvPr/>
          </p:nvSpPr>
          <p:spPr>
            <a:xfrm>
              <a:off x="7013880" y="2488320"/>
              <a:ext cx="2043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Segmentación efectiva de consumidor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" name="Rectangle 40"/>
            <p:cNvSpPr/>
            <p:nvPr/>
          </p:nvSpPr>
          <p:spPr>
            <a:xfrm>
              <a:off x="6990120" y="4699800"/>
              <a:ext cx="21535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Pronósticos más precis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9" name="Rectangle 41"/>
            <p:cNvSpPr/>
            <p:nvPr/>
          </p:nvSpPr>
          <p:spPr>
            <a:xfrm>
              <a:off x="1635480" y="3277080"/>
              <a:ext cx="110772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duc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 Costos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90" name="Group 42"/>
            <p:cNvGrpSpPr/>
            <p:nvPr/>
          </p:nvGrpSpPr>
          <p:grpSpPr>
            <a:xfrm>
              <a:off x="1809000" y="3768120"/>
              <a:ext cx="949680" cy="446040"/>
              <a:chOff x="1809000" y="3768120"/>
              <a:chExt cx="949680" cy="446040"/>
            </a:xfrm>
          </p:grpSpPr>
          <p:sp>
            <p:nvSpPr>
              <p:cNvPr id="291" name="Line 43"/>
              <p:cNvSpPr/>
              <p:nvPr/>
            </p:nvSpPr>
            <p:spPr>
              <a:xfrm>
                <a:off x="1809000" y="3768120"/>
                <a:ext cx="0" cy="4442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2" name="Line 44"/>
              <p:cNvSpPr/>
              <p:nvPr/>
            </p:nvSpPr>
            <p:spPr>
              <a:xfrm>
                <a:off x="1809000" y="4214160"/>
                <a:ext cx="9496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3" name="Arc 45"/>
            <p:cNvSpPr/>
            <p:nvPr/>
          </p:nvSpPr>
          <p:spPr>
            <a:xfrm>
              <a:off x="1854000" y="3716280"/>
              <a:ext cx="815400" cy="431280"/>
            </a:xfrm>
            <a:prstGeom prst="pie">
              <a:avLst/>
            </a:prstGeom>
            <a:noFill/>
            <a:ln w="38160">
              <a:solidFill>
                <a:srgbClr val="dddddd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" name="Rectangle 46"/>
            <p:cNvSpPr/>
            <p:nvPr/>
          </p:nvSpPr>
          <p:spPr>
            <a:xfrm>
              <a:off x="1590480" y="4693320"/>
              <a:ext cx="1254600" cy="103824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5" name="Rectangle 47"/>
            <p:cNvSpPr/>
            <p:nvPr/>
          </p:nvSpPr>
          <p:spPr>
            <a:xfrm>
              <a:off x="1596960" y="4647960"/>
              <a:ext cx="124344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ptimización  del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so de activ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6" name="Rectangle 48"/>
            <p:cNvSpPr/>
            <p:nvPr/>
          </p:nvSpPr>
          <p:spPr>
            <a:xfrm>
              <a:off x="1681560" y="5511960"/>
              <a:ext cx="109800" cy="1346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" name="Rectangle 49"/>
            <p:cNvSpPr/>
            <p:nvPr/>
          </p:nvSpPr>
          <p:spPr>
            <a:xfrm>
              <a:off x="1833480" y="5511960"/>
              <a:ext cx="11124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8" name="Rectangle 50"/>
            <p:cNvSpPr/>
            <p:nvPr/>
          </p:nvSpPr>
          <p:spPr>
            <a:xfrm>
              <a:off x="1978560" y="5511960"/>
              <a:ext cx="109800" cy="134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9" name="Rectangle 51"/>
            <p:cNvSpPr/>
            <p:nvPr/>
          </p:nvSpPr>
          <p:spPr>
            <a:xfrm>
              <a:off x="1767960" y="5347440"/>
              <a:ext cx="111600" cy="134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" name="Rectangle 52"/>
            <p:cNvSpPr/>
            <p:nvPr/>
          </p:nvSpPr>
          <p:spPr>
            <a:xfrm>
              <a:off x="1932120" y="5369400"/>
              <a:ext cx="109800" cy="13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" name="Rectangle 53"/>
            <p:cNvSpPr/>
            <p:nvPr/>
          </p:nvSpPr>
          <p:spPr>
            <a:xfrm>
              <a:off x="1866600" y="5204520"/>
              <a:ext cx="11016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Rectangle 54"/>
            <p:cNvSpPr/>
            <p:nvPr/>
          </p:nvSpPr>
          <p:spPr>
            <a:xfrm>
              <a:off x="2527920" y="5482080"/>
              <a:ext cx="111600" cy="135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AutoShape 55"/>
            <p:cNvSpPr/>
            <p:nvPr/>
          </p:nvSpPr>
          <p:spPr>
            <a:xfrm>
              <a:off x="2266200" y="5339520"/>
              <a:ext cx="156240" cy="175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04" name="Group 56"/>
            <p:cNvGrpSpPr/>
            <p:nvPr/>
          </p:nvGrpSpPr>
          <p:grpSpPr>
            <a:xfrm>
              <a:off x="1801080" y="2477160"/>
              <a:ext cx="951480" cy="446400"/>
              <a:chOff x="1801080" y="2477160"/>
              <a:chExt cx="951480" cy="446400"/>
            </a:xfrm>
          </p:grpSpPr>
          <p:sp>
            <p:nvSpPr>
              <p:cNvPr id="305" name="Line 57"/>
              <p:cNvSpPr/>
              <p:nvPr/>
            </p:nvSpPr>
            <p:spPr>
              <a:xfrm>
                <a:off x="1801080" y="2477160"/>
                <a:ext cx="0" cy="44460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6" name="Line 58"/>
              <p:cNvSpPr/>
              <p:nvPr/>
            </p:nvSpPr>
            <p:spPr>
              <a:xfrm>
                <a:off x="1801080" y="2923560"/>
                <a:ext cx="9514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07" name="Arc 59"/>
            <p:cNvSpPr/>
            <p:nvPr/>
          </p:nvSpPr>
          <p:spPr>
            <a:xfrm flipV="1">
              <a:off x="1833480" y="2526120"/>
              <a:ext cx="816840" cy="343440"/>
            </a:xfrm>
            <a:prstGeom prst="pie">
              <a:avLst/>
            </a:prstGeom>
            <a:noFill/>
            <a:ln w="38160">
              <a:solidFill>
                <a:srgbClr val="ddddd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Rectangle 60"/>
            <p:cNvSpPr/>
            <p:nvPr/>
          </p:nvSpPr>
          <p:spPr>
            <a:xfrm>
              <a:off x="1648080" y="2022840"/>
              <a:ext cx="1139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ejoramient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gres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Line 61"/>
            <p:cNvSpPr/>
            <p:nvPr/>
          </p:nvSpPr>
          <p:spPr>
            <a:xfrm>
              <a:off x="4647960" y="249156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Line 62"/>
            <p:cNvSpPr/>
            <p:nvPr/>
          </p:nvSpPr>
          <p:spPr>
            <a:xfrm>
              <a:off x="4638600" y="3764880"/>
              <a:ext cx="44330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Line 63"/>
            <p:cNvSpPr/>
            <p:nvPr/>
          </p:nvSpPr>
          <p:spPr>
            <a:xfrm>
              <a:off x="4628880" y="516240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reación de valor para la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Line 65"/>
          <p:cNvSpPr/>
          <p:nvPr/>
        </p:nvSpPr>
        <p:spPr>
          <a:xfrm>
            <a:off x="137160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Line 66"/>
          <p:cNvSpPr/>
          <p:nvPr/>
        </p:nvSpPr>
        <p:spPr>
          <a:xfrm>
            <a:off x="13716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Text Box 67"/>
          <p:cNvSpPr/>
          <p:nvPr/>
        </p:nvSpPr>
        <p:spPr>
          <a:xfrm>
            <a:off x="1752480" y="5867280"/>
            <a:ext cx="573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mento de valor de las acciones, del capital humano y/o del activo nomin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Rectangle 68"/>
          <p:cNvSpPr/>
          <p:nvPr/>
        </p:nvSpPr>
        <p:spPr>
          <a:xfrm>
            <a:off x="7086600" y="6019920"/>
            <a:ext cx="76320" cy="75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Rectangle 69"/>
          <p:cNvSpPr/>
          <p:nvPr/>
        </p:nvSpPr>
        <p:spPr>
          <a:xfrm>
            <a:off x="1752480" y="5867280"/>
            <a:ext cx="5410440" cy="3049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adena de valor 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(activ. Primaria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2"/>
          <a:stretch/>
        </p:blipFill>
        <p:spPr>
          <a:xfrm>
            <a:off x="1527120" y="1560600"/>
            <a:ext cx="60166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Roadmap para evaluar un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3 Marcador de contenido" descr=""/>
          <p:cNvPicPr/>
          <p:nvPr/>
        </p:nvPicPr>
        <p:blipFill>
          <a:blip r:embed="rId2"/>
          <a:stretch/>
        </p:blipFill>
        <p:spPr>
          <a:xfrm>
            <a:off x="554040" y="1852560"/>
            <a:ext cx="803592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"/>
          <p:cNvPicPr/>
          <p:nvPr/>
        </p:nvPicPr>
        <p:blipFill>
          <a:blip r:embed="rId2"/>
          <a:stretch/>
        </p:blipFill>
        <p:spPr>
          <a:xfrm>
            <a:off x="1143000" y="1614600"/>
            <a:ext cx="6797520" cy="478620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Matriz de valor agreg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Valor agregado por actividad/cli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2"/>
          <a:stretch/>
        </p:blipFill>
        <p:spPr>
          <a:xfrm>
            <a:off x="1295280" y="1652760"/>
            <a:ext cx="609768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71320" y="49968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j: Matriz de agregación de val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" name="3 Marcador de contenido" descr=""/>
          <p:cNvPicPr/>
          <p:nvPr/>
        </p:nvPicPr>
        <p:blipFill>
          <a:blip r:embed="rId2"/>
          <a:stretch/>
        </p:blipFill>
        <p:spPr>
          <a:xfrm>
            <a:off x="1471680" y="1762200"/>
            <a:ext cx="6191280" cy="4248000"/>
          </a:xfrm>
          <a:prstGeom prst="rect">
            <a:avLst/>
          </a:prstGeom>
          <a:ln w="0">
            <a:noFill/>
          </a:ln>
        </p:spPr>
      </p:pic>
      <p:sp>
        <p:nvSpPr>
          <p:cNvPr id="326" name="4 CuadroTexto"/>
          <p:cNvSpPr/>
          <p:nvPr/>
        </p:nvSpPr>
        <p:spPr>
          <a:xfrm rot="16200000">
            <a:off x="555480" y="350028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takehold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Cadena de valor negocio postal certific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2"/>
          <a:stretch/>
        </p:blipFill>
        <p:spPr>
          <a:xfrm>
            <a:off x="1982880" y="1428840"/>
            <a:ext cx="65898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Cadena de valor negocio impresión variab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2"/>
          <a:stretch/>
        </p:blipFill>
        <p:spPr>
          <a:xfrm>
            <a:off x="2238480" y="1752480"/>
            <a:ext cx="4657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99680" y="1714680"/>
            <a:ext cx="80010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Valor= Beneficios-Costos(incluye riesg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Es un análisis y revisión cuantitativos de los beneficios, costos y valor que una organización puede darle a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el clie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os soc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os emple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os aliados estratég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os provee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Otro ejemplo de la matriz agregación de valor en la cadena de los stakehol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" name="Picture 4" descr=""/>
          <p:cNvPicPr/>
          <p:nvPr/>
        </p:nvPicPr>
        <p:blipFill>
          <a:blip r:embed="rId2"/>
          <a:stretch/>
        </p:blipFill>
        <p:spPr>
          <a:xfrm>
            <a:off x="1366920" y="1924200"/>
            <a:ext cx="640080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j.: Índice de interés del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6" name="Picture 1" descr=""/>
          <p:cNvPicPr/>
          <p:nvPr/>
        </p:nvPicPr>
        <p:blipFill>
          <a:blip r:embed="rId2"/>
          <a:stretch/>
        </p:blipFill>
        <p:spPr>
          <a:xfrm>
            <a:off x="1052640" y="2157480"/>
            <a:ext cx="7029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0000"/>
                </a:solidFill>
                <a:latin typeface="Verdana"/>
              </a:rPr>
              <a:t>Definiendo una estrateg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755640" y="1916280"/>
            <a:ext cx="6624720" cy="3312720"/>
            <a:chOff x="755640" y="1916280"/>
            <a:chExt cx="6624720" cy="3312720"/>
          </a:xfrm>
        </p:grpSpPr>
        <p:sp>
          <p:nvSpPr>
            <p:cNvPr id="339" name="Line 4"/>
            <p:cNvSpPr/>
            <p:nvPr/>
          </p:nvSpPr>
          <p:spPr>
            <a:xfrm>
              <a:off x="755640" y="522432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0" name="Line 5"/>
            <p:cNvSpPr/>
            <p:nvPr/>
          </p:nvSpPr>
          <p:spPr>
            <a:xfrm>
              <a:off x="755640" y="313740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1" name="Line 6"/>
            <p:cNvSpPr/>
            <p:nvPr/>
          </p:nvSpPr>
          <p:spPr>
            <a:xfrm>
              <a:off x="755640" y="418104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2" name="AutoShape 7"/>
            <p:cNvSpPr/>
            <p:nvPr/>
          </p:nvSpPr>
          <p:spPr>
            <a:xfrm>
              <a:off x="2481480" y="1928880"/>
              <a:ext cx="4524480" cy="3300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cc99ff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es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3" name="AutoShape 8"/>
            <p:cNvSpPr/>
            <p:nvPr/>
          </p:nvSpPr>
          <p:spPr>
            <a:xfrm>
              <a:off x="3192480" y="1916280"/>
              <a:ext cx="3088440" cy="2260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a3b2c1"/>
                </a:gs>
                <a:gs pos="100000">
                  <a:srgbClr val="e0e5ea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odel and Business Plan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4" name="AutoShape 9"/>
            <p:cNvSpPr/>
            <p:nvPr/>
          </p:nvSpPr>
          <p:spPr>
            <a:xfrm>
              <a:off x="3902760" y="1916280"/>
              <a:ext cx="1675080" cy="1221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99"/>
                </a:gs>
                <a:gs pos="100000">
                  <a:srgbClr val="ffeed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ategy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Text Box 10"/>
            <p:cNvSpPr/>
            <p:nvPr/>
          </p:nvSpPr>
          <p:spPr>
            <a:xfrm>
              <a:off x="1064520" y="2526840"/>
              <a:ext cx="159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nning leve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1060200" y="3366360"/>
              <a:ext cx="168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chitectural leve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Text Box 12"/>
            <p:cNvSpPr/>
            <p:nvPr/>
          </p:nvSpPr>
          <p:spPr>
            <a:xfrm>
              <a:off x="1063440" y="4282560"/>
              <a:ext cx="173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ve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Line 13"/>
            <p:cNvSpPr/>
            <p:nvPr/>
          </p:nvSpPr>
          <p:spPr>
            <a:xfrm>
              <a:off x="1060200" y="2323440"/>
              <a:ext cx="0" cy="290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efiniendo una Estrategia de Negocio (business strateg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ónde situar los modelos de negocios en la arquitectura de negocio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1428840" y="1714680"/>
            <a:ext cx="656568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944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Picture 6" descr="C:\Documents and Settings\cmfkw\Desktop\ppt\bs3.gif"/>
          <p:cNvPicPr/>
          <p:nvPr/>
        </p:nvPicPr>
        <p:blipFill>
          <a:blip r:embed="rId2"/>
          <a:stretch/>
        </p:blipFill>
        <p:spPr>
          <a:xfrm>
            <a:off x="798480" y="1670040"/>
            <a:ext cx="765972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Competitive Advantag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something which gives the organisation some advantage over its riv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Cost advantag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A strategy to seek out and secure a cost advantag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f some kind - lower average costs, lower labour costs, et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944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Verdana"/>
              </a:rPr>
              <a:t>Market Dominanc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chieved through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rnal grow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cquisitions – mergers and takeov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Verdana"/>
              </a:rPr>
              <a:t>New product development:</a:t>
            </a:r>
            <a:r>
              <a:rPr b="1" lang="en-GB" sz="3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 keep ahead of rivals and set the p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Verdana"/>
              </a:rPr>
              <a:t>Contraction/Expansion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cus on what you are good at (core competencies) or seek to expand into a range of market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Price Leadership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through dominating the industry – others follow your price le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Global</a:t>
            </a: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– seeking to expand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lobal ope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Reengineering</a:t>
            </a: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– thinking outside the box – looking at news ways of doing things to leverage the organisation’s 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ternal business level strategies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Downsizing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selling off unwanted parts of the business – similar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o contr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Delayering</a:t>
            </a:r>
            <a:r>
              <a:rPr b="1" lang="en-GB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– flattening the management structure, removing bureaucracy, speed up decision mak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Restructuring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complete re-think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f the way the business is organi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ta from sales, profit, etc. used to evaluate the progress and success of the strategy and to inform of changes to the strategy in the light of that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2" name="Picture 13" descr="http://www.sxc.hu/pic/m/m/ma/mad7986/108543_8247.jpg"/>
          <p:cNvPicPr/>
          <p:nvPr/>
        </p:nvPicPr>
        <p:blipFill>
          <a:blip r:embed="rId3"/>
          <a:stretch/>
        </p:blipFill>
        <p:spPr>
          <a:xfrm>
            <a:off x="4724280" y="2057400"/>
            <a:ext cx="3810240" cy="284940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4"/>
          <p:cNvSpPr/>
          <p:nvPr/>
        </p:nvSpPr>
        <p:spPr>
          <a:xfrm>
            <a:off x="4724280" y="4952880"/>
            <a:ext cx="381024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Information from a wide variety of source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an help to measure and inform the impact and direction of the strateg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opyright: Mad7986, http://www.sxc.hu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Que es el Plan de Negocio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definición detallada de cómo el Modelo de Negocios se llevara a cabo de acuerdo a una estrategia en un determinado horizo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xpresión cuantitativa de cómo se llevará a cabo el modelo de negocios siguiendo una estrateg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ntenido del Plan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6628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 INDUSTRIA , LA EMPRESA, y EL ENTORN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DELO DE NEGOCIO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ÁLISIS E INVESTIGACIÓN DE MERCA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 DEL NEGOCI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N DE MARKE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N DE VENT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N DE DISEÑO Y IMPLEMENT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N DE OPER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QUIPO DE GEST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GRAMACIÓN GLOB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IESGOS CRÍTICOS, PROBLEMAS Y SUPUEST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N FINANCIER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PUES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EXO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Descripción del concepto de negocio y los negocios de la empre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oportunidad y la estrategia de nego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l mercado objetivo y proyec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s ventajas competitiv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l equip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propues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La Industria, la Empresa, sus Productos y el Entorn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indust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empresa y su concep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ductos y Serv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s de penetración y crecimiento de mercado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5694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 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964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modelo de negocios es la arquitectura de la configuración de componentes de las transacciones diseñadas para explotar oportunidades de negocios (*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 hace cargo de la oportun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dica como y porqué las transacciones con clientes (y los beneficios) ocurrir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cribe la interacción de la organización con otras entidades d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*)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Raffi Amit, co-director of the Wharton</a:t>
            </a:r>
            <a:r>
              <a:rPr b="0" lang="es-ES" sz="18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-Business Initiativ (W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nálisis e Investigación de Merca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lien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amaño y tendencias de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mpetencia y competitiv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rción de mercado y ven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a estrategia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del negocio y crecimi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spectos Económicos del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gresos y márgenes operacion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Utilidades y horizonte del produc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stos fijos y variab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dicadores de puntos de quiebre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Market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 global de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e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ácticas de ven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líticas de servicios y garantí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moción y Public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Distribución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Ve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ánto vamos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ándo vamos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ómo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ónde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Quién va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Que incentivos vamos a dar a vendedores y cliente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Diseño e Implantación del produc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Hitos y tare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Riesgos y dificulta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Mejoras de producto y nuevos produc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s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Oper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iclo de ope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oc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fraestructura e optimiz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lanes y estrategi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 y regulatorio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quipo de Gest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rgan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Personal cla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mpens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invers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Gratific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Directorio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shareholders, derechos y restri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nsultores y otros servicios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gramación Glob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xplicitar como se programarán las actividades asociadas a los programas de inversión y de oper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Financier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501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Estados de Resultado y Balances actu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Estados de Resultado Proforma (esperado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Balance Profor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Flujo de Caja Profor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Indicadores de evaluación (Van, TIR, Payback, etc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Análisis de sensibilidad y puntos de quieb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Control de Cost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Hechos esenciales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puesta para financiami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Financiamiento dese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Ofer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apit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Uso de los fon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Retorno para los inversionis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?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co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strategia central de una organización que define su lugar en el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scribe la oportunidad y como la organización generará los benef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sponde a los “porqué” la organización exis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iesgos, problemas y supuestos crític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los riesgos, problemas y otras contingencias que puedan ocurrir y como administrarlos (que hacer para mitigar esos riesgos antes que se produzcan o cuando se produzcan- planificación por contingencia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3406680" y="297180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2111400" y="2438280"/>
            <a:ext cx="1600200" cy="838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Line 6"/>
          <p:cNvSpPr/>
          <p:nvPr/>
        </p:nvSpPr>
        <p:spPr>
          <a:xfrm flipV="1">
            <a:off x="2187720" y="4343040"/>
            <a:ext cx="152388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7"/>
          <p:cNvSpPr/>
          <p:nvPr/>
        </p:nvSpPr>
        <p:spPr>
          <a:xfrm flipH="1">
            <a:off x="5311440" y="2819520"/>
            <a:ext cx="121932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8"/>
          <p:cNvSpPr/>
          <p:nvPr/>
        </p:nvSpPr>
        <p:spPr>
          <a:xfrm flipH="1" flipV="1">
            <a:off x="5388120" y="4191120"/>
            <a:ext cx="129528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854160" y="335268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6692400" y="24890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6694920" y="45720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80424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6026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Oval 4"/>
          <p:cNvSpPr/>
          <p:nvPr/>
        </p:nvSpPr>
        <p:spPr>
          <a:xfrm>
            <a:off x="198108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68580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6"/>
          <p:cNvSpPr/>
          <p:nvPr/>
        </p:nvSpPr>
        <p:spPr>
          <a:xfrm flipV="1">
            <a:off x="762120" y="4266720"/>
            <a:ext cx="152388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Line 7"/>
          <p:cNvSpPr/>
          <p:nvPr/>
        </p:nvSpPr>
        <p:spPr>
          <a:xfrm flipH="1">
            <a:off x="3885840" y="2743200"/>
            <a:ext cx="121932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8"/>
          <p:cNvSpPr/>
          <p:nvPr/>
        </p:nvSpPr>
        <p:spPr>
          <a:xfrm flipH="1" flipV="1">
            <a:off x="3809520" y="4267080"/>
            <a:ext cx="114300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242856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497520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504252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59148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38988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670716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728244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Line 16"/>
          <p:cNvSpPr/>
          <p:nvPr/>
        </p:nvSpPr>
        <p:spPr>
          <a:xfrm flipV="1">
            <a:off x="7773840" y="27432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738252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Line 18"/>
          <p:cNvSpPr/>
          <p:nvPr/>
        </p:nvSpPr>
        <p:spPr>
          <a:xfrm flipV="1">
            <a:off x="564048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396396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Line 20"/>
          <p:cNvSpPr/>
          <p:nvPr/>
        </p:nvSpPr>
        <p:spPr>
          <a:xfrm flipV="1">
            <a:off x="7773840" y="213372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743184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22"/>
          <p:cNvSpPr/>
          <p:nvPr/>
        </p:nvSpPr>
        <p:spPr>
          <a:xfrm>
            <a:off x="522972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Line 23"/>
          <p:cNvSpPr/>
          <p:nvPr/>
        </p:nvSpPr>
        <p:spPr>
          <a:xfrm flipV="1">
            <a:off x="564048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24"/>
          <p:cNvSpPr/>
          <p:nvPr/>
        </p:nvSpPr>
        <p:spPr>
          <a:xfrm>
            <a:off x="464976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Line 25"/>
          <p:cNvSpPr/>
          <p:nvPr/>
        </p:nvSpPr>
        <p:spPr>
          <a:xfrm flipV="1">
            <a:off x="564048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Line 26"/>
          <p:cNvSpPr/>
          <p:nvPr/>
        </p:nvSpPr>
        <p:spPr>
          <a:xfrm flipV="1">
            <a:off x="564048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Line 27"/>
          <p:cNvSpPr/>
          <p:nvPr/>
        </p:nvSpPr>
        <p:spPr>
          <a:xfrm flipV="1">
            <a:off x="564048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28"/>
          <p:cNvSpPr/>
          <p:nvPr/>
        </p:nvSpPr>
        <p:spPr>
          <a:xfrm>
            <a:off x="531396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Line 29"/>
          <p:cNvSpPr/>
          <p:nvPr/>
        </p:nvSpPr>
        <p:spPr>
          <a:xfrm flipV="1">
            <a:off x="564048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30"/>
          <p:cNvSpPr/>
          <p:nvPr/>
        </p:nvSpPr>
        <p:spPr>
          <a:xfrm>
            <a:off x="415188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Line 31"/>
          <p:cNvSpPr/>
          <p:nvPr/>
        </p:nvSpPr>
        <p:spPr>
          <a:xfrm>
            <a:off x="4268880" y="2590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24936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Oval 33"/>
          <p:cNvSpPr/>
          <p:nvPr/>
        </p:nvSpPr>
        <p:spPr>
          <a:xfrm>
            <a:off x="0" y="1197000"/>
            <a:ext cx="8964720" cy="5111640"/>
          </a:xfrm>
          <a:prstGeom prst="ellipse">
            <a:avLst/>
          </a:prstGeom>
          <a:solidFill>
            <a:srgbClr val="edf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7428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Oval 4"/>
          <p:cNvSpPr/>
          <p:nvPr/>
        </p:nvSpPr>
        <p:spPr>
          <a:xfrm>
            <a:off x="204624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75096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Line 6"/>
          <p:cNvSpPr/>
          <p:nvPr/>
        </p:nvSpPr>
        <p:spPr>
          <a:xfrm flipV="1">
            <a:off x="82692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Line 7"/>
          <p:cNvSpPr/>
          <p:nvPr/>
        </p:nvSpPr>
        <p:spPr>
          <a:xfrm flipH="1">
            <a:off x="39625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Line 8"/>
          <p:cNvSpPr/>
          <p:nvPr/>
        </p:nvSpPr>
        <p:spPr>
          <a:xfrm flipH="1" flipV="1">
            <a:off x="4038120" y="403848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249372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65664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45468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16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17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Line 18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Line 20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21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Line 23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Line 25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Line 26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Line 27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28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Line 29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30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Line 31"/>
          <p:cNvSpPr/>
          <p:nvPr/>
        </p:nvSpPr>
        <p:spPr>
          <a:xfrm>
            <a:off x="4343400" y="259092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32"/>
          <p:cNvSpPr/>
          <p:nvPr/>
        </p:nvSpPr>
        <p:spPr>
          <a:xfrm>
            <a:off x="354168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ext Box 34"/>
          <p:cNvSpPr/>
          <p:nvPr/>
        </p:nvSpPr>
        <p:spPr>
          <a:xfrm rot="20437200">
            <a:off x="7237440" y="3859920"/>
            <a:ext cx="16207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NTOR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Paí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Cultu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modelo plantea pregu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66640" y="1752480"/>
            <a:ext cx="8291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Qué ………… producto serán mi fo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uál …………será el nicho de merc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Dónde ......lo vender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Quién ……..lo producir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Porqué….….nadie lo ha hech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ómo ………lo promover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uándo…….está dispuesto a pag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uánto…….necesito de invers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 …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....y erróneamente los ingenieros creemos que tenemos de antemano las respuestas (la verda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SzPct val="10289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9:43:56Z</dcterms:created>
  <dc:creator>toshiba</dc:creator>
  <dc:description/>
  <dc:language>en-US</dc:language>
  <cp:lastModifiedBy>Luis Zaviezo</cp:lastModifiedBy>
  <dcterms:modified xsi:type="dcterms:W3CDTF">2009-11-18T20:04:38Z</dcterms:modified>
  <cp:revision>29</cp:revision>
  <dc:subject/>
  <dc:title>Modelo de Negocios</dc:title>
</cp:coreProperties>
</file>