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9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0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E1B9-C06C-472D-A32D-935B53485B0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1DB9-3E7D-4E78-BE59-720260FA267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CA1-F395-4893-948C-C9D2222F1B2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47E2-A911-4F77-9A94-FC5E6C2DBED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65C5-71CC-4508-B633-2800A85D08E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5E56-ED66-4E3A-82E6-6AB3B4DDCC0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1D72-9A53-457D-AC3E-7E36B47127E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D216-F4D9-4C04-9878-FD7BCF4A952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7F3F-18EE-48EA-9D98-84ADADCB9E5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69DF-B2D9-47D6-8BBC-AA6823D6E0D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23D4-1EE1-452A-815C-2DC0007339B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5DB1-7DA4-4E90-9FF2-E97562887DF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7B3F-CDB0-4807-BBAD-E0FC7D66685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8D2B-D62E-49ED-93D6-58BE8DF351A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BED7-FF98-499B-A1A2-A47AB6DC513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9465-5FC3-42EF-A315-A524B717175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F0DC-0924-4797-A12E-9589058A239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8354-AC1A-45E2-9924-40A1F291DF5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412D-EC4C-4A58-AF6F-EC4115A60D5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3F29-0018-4C20-B672-FBD5269116D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5464-780B-4EB5-BF01-B2E6EF50A39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D781-DCD9-4257-9952-EA6D69418C0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FC16-D37C-410D-AC7C-0CF27A22CD3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5823-5826-42EB-A915-D422F91E0CD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03A0-2C7C-495F-BAE2-B0766CC8EAA9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94E1-E4F6-4873-AD77-CC3BBC5CAF7D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A15F-B8AF-4D04-B793-DAA6A377ED2E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4D4E-83CB-42BD-8FF2-B9F0D5170ED4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145B-F478-465A-A1EC-40FEC40CB492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7240-C770-4C9C-92F6-23346D244E72}" type="slidenum">
              <a:rPr b="0" lang="es-MX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77D0-7CB4-47A1-8591-F3D7FC3FDF7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A414-32EA-4406-828B-0B4A7B3DCD3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3255-0D96-478B-9688-437ED8BB62A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35D7-7FCA-4DBF-A737-EF7CFCC062F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7D56-F33D-47AE-8C77-52555D68FCE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7C7A-68DC-4DF6-BDE7-8A9FCC78D4E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FCF1-A56B-4F9F-8AFC-8A24B2E7BE0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A493-9C43-40D3-8F24-0CFA89EE794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C8A8-356D-45F6-96D4-31E585023CD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BC4E-972D-453F-A97A-A1027927FAE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57B8-6444-43BC-A22D-A4433680A94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DF26-7F94-462F-A8E8-033197A8A3C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3BF4-6C6C-438D-919D-06F4843EBC9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78DB-975B-4D3F-ACDF-48B42099F58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8709-DF23-4B41-A044-1AAFC8DDF00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F344-C8F4-4F6E-8032-2EC705EF322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7A80-6D1C-4502-A119-06CADD5DBDF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A7EF-30B9-4CD6-8D35-D40C438C969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613A-0364-4C11-AB30-FCF757CB488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910A-51EC-403A-B03D-7DDD5C40222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63D6-1700-4867-A0B3-67D8E95301B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61BE7-C59E-4C6D-BE24-1A4CDE97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6316F-5C18-4F49-BB4C-0D8AFE57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14A9A-5F78-4C77-88F6-481F5874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8AF6E-B425-4534-AE14-6135B6B7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254A2-F417-4385-9B9B-39BF9D4C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5C913-45F9-4B3C-AF92-A8E8B8E7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1A560-3D5C-4CF1-B63B-E709CE9C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35D65-C764-4C8D-B490-C4F20A5D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BC776-71D3-4BDA-84F7-18453A40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38DDC-1DE6-4E57-9808-82399719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FBD40-AA49-4C62-8841-E1EC6740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613AD-7E36-4BB0-8ED6-362C4412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A86C3E-0620-4400-95F6-EB5BFDABC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752BE8-CE75-4A7F-9197-EB1E715D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6BABE8-1467-4AA4-B927-6921DBC3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B9B983-B460-463C-B5B6-3A6A7FFB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2F88C7-108F-4F77-B201-F506E7C8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D4A141-9BFB-4231-A72D-26BBA06A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E7354-824C-4D55-9C74-77B2BBB1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01CF2C-DBD0-4E48-9DE1-D58A73E4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84BE90-2E81-4214-8A51-2C17D27C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70AFBE-5418-4E71-8531-549D9585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289434-E103-4872-A7EA-E8FC460B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0E4FF0-5228-4240-8BD3-8F7B22A1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4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DD15-61B8-44FF-B5A1-EC5623D8B518}" type="slidenum">
              <a:rPr b="0" lang="en-GB" sz="4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wharton.upenn.edu/research/webi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2214720" y="1676520"/>
            <a:ext cx="44290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53316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4200" y="38088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Otra visión de un modelo de negoci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Object 3"/>
          <p:cNvGraphicFramePr/>
          <p:nvPr/>
        </p:nvGraphicFramePr>
        <p:xfrm>
          <a:off x="533520" y="1509840"/>
          <a:ext cx="7772400" cy="457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09840"/>
                    <a:ext cx="777240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6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 modelo de negocios tiene una visión económica y técnica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914400" y="1752480"/>
          <a:ext cx="717696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752480"/>
                    <a:ext cx="71769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porter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3" descr="value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227160" y="1531800"/>
            <a:ext cx="8916480" cy="4255200"/>
            <a:chOff x="227160" y="1531800"/>
            <a:chExt cx="8916480" cy="4255200"/>
          </a:xfrm>
        </p:grpSpPr>
        <p:sp>
          <p:nvSpPr>
            <p:cNvPr id="251" name="Line 3"/>
            <p:cNvSpPr/>
            <p:nvPr/>
          </p:nvSpPr>
          <p:spPr>
            <a:xfrm>
              <a:off x="980640" y="376200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Freeform 4"/>
            <p:cNvSpPr/>
            <p:nvPr/>
          </p:nvSpPr>
          <p:spPr>
            <a:xfrm>
              <a:off x="1391040" y="2524680"/>
              <a:ext cx="1682640" cy="272880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Freeform 5"/>
            <p:cNvSpPr/>
            <p:nvPr/>
          </p:nvSpPr>
          <p:spPr>
            <a:xfrm>
              <a:off x="3075120" y="350604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Freeform 6"/>
            <p:cNvSpPr/>
            <p:nvPr/>
          </p:nvSpPr>
          <p:spPr>
            <a:xfrm>
              <a:off x="3075120" y="495864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Freeform 7"/>
            <p:cNvSpPr/>
            <p:nvPr/>
          </p:nvSpPr>
          <p:spPr>
            <a:xfrm>
              <a:off x="3075120" y="2268720"/>
              <a:ext cx="191880" cy="497160"/>
            </a:xfrm>
            <a:prstGeom prst="pie">
              <a:avLst/>
            </a:pr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4"/>
            <p:cNvSpPr/>
            <p:nvPr/>
          </p:nvSpPr>
          <p:spPr>
            <a:xfrm>
              <a:off x="699840" y="1600560"/>
              <a:ext cx="3512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7"/>
            <p:cNvSpPr/>
            <p:nvPr/>
          </p:nvSpPr>
          <p:spPr>
            <a:xfrm>
              <a:off x="3598920" y="2615760"/>
              <a:ext cx="569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Rectangle 18"/>
            <p:cNvSpPr/>
            <p:nvPr/>
          </p:nvSpPr>
          <p:spPr>
            <a:xfrm>
              <a:off x="3255840" y="3810600"/>
              <a:ext cx="1106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Rectangle 19"/>
            <p:cNvSpPr/>
            <p:nvPr/>
          </p:nvSpPr>
          <p:spPr>
            <a:xfrm>
              <a:off x="3289320" y="3953160"/>
              <a:ext cx="913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Rectangle 20"/>
            <p:cNvSpPr/>
            <p:nvPr/>
          </p:nvSpPr>
          <p:spPr>
            <a:xfrm>
              <a:off x="3367440" y="3391560"/>
              <a:ext cx="809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Rectangle 21"/>
            <p:cNvSpPr/>
            <p:nvPr/>
          </p:nvSpPr>
          <p:spPr>
            <a:xfrm>
              <a:off x="4647960" y="202572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Rectangle 22"/>
            <p:cNvSpPr/>
            <p:nvPr/>
          </p:nvSpPr>
          <p:spPr>
            <a:xfrm>
              <a:off x="4726080" y="2055600"/>
              <a:ext cx="20689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Rectangle 23"/>
            <p:cNvSpPr/>
            <p:nvPr/>
          </p:nvSpPr>
          <p:spPr>
            <a:xfrm>
              <a:off x="6996600" y="205560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Rectangle 24"/>
            <p:cNvSpPr/>
            <p:nvPr/>
          </p:nvSpPr>
          <p:spPr>
            <a:xfrm>
              <a:off x="4726080" y="2507040"/>
              <a:ext cx="18820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Rectangle 26"/>
            <p:cNvSpPr/>
            <p:nvPr/>
          </p:nvSpPr>
          <p:spPr>
            <a:xfrm>
              <a:off x="4726080" y="3796200"/>
              <a:ext cx="2404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Rectangle 32"/>
            <p:cNvSpPr/>
            <p:nvPr/>
          </p:nvSpPr>
          <p:spPr>
            <a:xfrm>
              <a:off x="5382000" y="1531800"/>
              <a:ext cx="2710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Rectangle 38"/>
            <p:cNvSpPr/>
            <p:nvPr/>
          </p:nvSpPr>
          <p:spPr>
            <a:xfrm>
              <a:off x="3353400" y="5237640"/>
              <a:ext cx="970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tivos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7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8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Rectangle 41"/>
            <p:cNvSpPr/>
            <p:nvPr/>
          </p:nvSpPr>
          <p:spPr>
            <a:xfrm>
              <a:off x="1635480" y="3277080"/>
              <a:ext cx="110772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0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91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3" name="Arc 45"/>
            <p:cNvSpPr/>
            <p:nvPr/>
          </p:nvSpPr>
          <p:spPr>
            <a:xfrm>
              <a:off x="1854000" y="3716280"/>
              <a:ext cx="815400" cy="431280"/>
            </a:xfrm>
            <a:prstGeom prst="pie">
              <a:avLst/>
            </a:pr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Rectangle 47"/>
            <p:cNvSpPr/>
            <p:nvPr/>
          </p:nvSpPr>
          <p:spPr>
            <a:xfrm>
              <a:off x="1596960" y="4647960"/>
              <a:ext cx="124344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8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9" name="Rectangle 51"/>
            <p:cNvSpPr/>
            <p:nvPr/>
          </p:nvSpPr>
          <p:spPr>
            <a:xfrm>
              <a:off x="1767960" y="534744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0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1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4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305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6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7" name="Arc 59"/>
            <p:cNvSpPr/>
            <p:nvPr/>
          </p:nvSpPr>
          <p:spPr>
            <a:xfrm flipV="1">
              <a:off x="1833480" y="2526120"/>
              <a:ext cx="816840" cy="343440"/>
            </a:xfrm>
            <a:prstGeom prst="pie">
              <a:avLst/>
            </a:pr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67"/>
          <p:cNvSpPr/>
          <p:nvPr/>
        </p:nvSpPr>
        <p:spPr>
          <a:xfrm>
            <a:off x="1752480" y="5867280"/>
            <a:ext cx="573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152712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3 Marcador de contenido" descr=""/>
          <p:cNvPicPr/>
          <p:nvPr/>
        </p:nvPicPr>
        <p:blipFill>
          <a:blip r:embed="rId2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1143000" y="1614600"/>
            <a:ext cx="6797520" cy="47862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1295280" y="1652760"/>
            <a:ext cx="60976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3 Marcador de contenido" descr=""/>
          <p:cNvPicPr/>
          <p:nvPr/>
        </p:nvPicPr>
        <p:blipFill>
          <a:blip r:embed="rId2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326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Valor= Beneficios-Costos(incluye riesg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.: Índice de interés del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Picture 1" descr=""/>
          <p:cNvPicPr/>
          <p:nvPr/>
        </p:nvPicPr>
        <p:blipFill>
          <a:blip r:embed="rId2"/>
          <a:stretch/>
        </p:blipFill>
        <p:spPr>
          <a:xfrm>
            <a:off x="1052640" y="2157480"/>
            <a:ext cx="7029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800" spc="-1" strike="noStrike">
                <a:solidFill>
                  <a:srgbClr val="000000"/>
                </a:solidFill>
                <a:latin typeface="Verdana"/>
              </a:rPr>
              <a:t>Definiendo una estrate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755640" y="1916280"/>
            <a:ext cx="6624720" cy="3312720"/>
            <a:chOff x="755640" y="1916280"/>
            <a:chExt cx="6624720" cy="3312720"/>
          </a:xfrm>
        </p:grpSpPr>
        <p:sp>
          <p:nvSpPr>
            <p:cNvPr id="339" name="Line 4"/>
            <p:cNvSpPr/>
            <p:nvPr/>
          </p:nvSpPr>
          <p:spPr>
            <a:xfrm>
              <a:off x="755640" y="522432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0" name="Line 5"/>
            <p:cNvSpPr/>
            <p:nvPr/>
          </p:nvSpPr>
          <p:spPr>
            <a:xfrm>
              <a:off x="755640" y="313740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>
              <a:off x="755640" y="4181040"/>
              <a:ext cx="662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AutoShape 7"/>
            <p:cNvSpPr/>
            <p:nvPr/>
          </p:nvSpPr>
          <p:spPr>
            <a:xfrm>
              <a:off x="2481480" y="1928880"/>
              <a:ext cx="4524480" cy="3300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AutoShape 8"/>
            <p:cNvSpPr/>
            <p:nvPr/>
          </p:nvSpPr>
          <p:spPr>
            <a:xfrm>
              <a:off x="3192480" y="1916280"/>
              <a:ext cx="3088440" cy="2260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b2c1"/>
                </a:gs>
                <a:gs pos="100000">
                  <a:srgbClr val="e0e5ea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 and Business Pla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4" name="AutoShape 9"/>
            <p:cNvSpPr/>
            <p:nvPr/>
          </p:nvSpPr>
          <p:spPr>
            <a:xfrm>
              <a:off x="3902760" y="1916280"/>
              <a:ext cx="1675080" cy="1221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cc99"/>
                </a:gs>
                <a:gs pos="100000">
                  <a:srgbClr val="ffeed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Text Box 10"/>
            <p:cNvSpPr/>
            <p:nvPr/>
          </p:nvSpPr>
          <p:spPr>
            <a:xfrm>
              <a:off x="1064520" y="2526840"/>
              <a:ext cx="15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1060200" y="3366360"/>
              <a:ext cx="16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hitectural 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Text Box 12"/>
            <p:cNvSpPr/>
            <p:nvPr/>
          </p:nvSpPr>
          <p:spPr>
            <a:xfrm>
              <a:off x="1063440" y="4282560"/>
              <a:ext cx="173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lement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Line 13"/>
            <p:cNvSpPr/>
            <p:nvPr/>
          </p:nvSpPr>
          <p:spPr>
            <a:xfrm>
              <a:off x="1060200" y="2323440"/>
              <a:ext cx="0" cy="290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efiniendo una Estrategia de Negocio (business strateg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Picture 6" descr="C:\Documents and Settings\cmfkw\Desktop\ppt\bs3.gif"/>
          <p:cNvPicPr/>
          <p:nvPr/>
        </p:nvPicPr>
        <p:blipFill>
          <a:blip r:embed="rId2"/>
          <a:stretch/>
        </p:blipFill>
        <p:spPr>
          <a:xfrm>
            <a:off x="798480" y="1670040"/>
            <a:ext cx="76597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mpetitive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omething which gives the organisation some advantage over its riv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Cost advantag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 strategy to seek out and secure a cost advantag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some kind - lower average costs, lower labour cost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944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Market Dominanc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hieved through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l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quisitions – mergers and takeov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New product development:</a:t>
            </a:r>
            <a:r>
              <a:rPr b="1" lang="en-GB" sz="3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keep ahead of rivals and set the 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66"/>
                </a:solidFill>
                <a:latin typeface="Verdana"/>
              </a:rPr>
              <a:t>Contraction/Expansion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cus on what you are good at (core competencies) or seek to expand into a range of marke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Price Leadershi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through dominating the industry – others follow your price l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Global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seeking to expan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engineering</a:t>
            </a: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thinking outside the box – looking at news ways of doing things to leverage the organisation’s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Types of Strate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business level strategies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ownsiz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selling off unwanted parts of the business – simila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con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layering</a:t>
            </a:r>
            <a:r>
              <a:rPr b="1" lang="en-GB" sz="2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– flattening the management structure, removing bureaucracy, speed up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Restructur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complete re-think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ay the business is organi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rom sales, profit, etc. used to evaluate the progress and success of the strategy and to inform of changes to the strategy in the light of that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13" descr="http://www.sxc.hu/pic/m/m/ma/mad7986/108543_8247.jpg"/>
          <p:cNvPicPr/>
          <p:nvPr/>
        </p:nvPicPr>
        <p:blipFill>
          <a:blip r:embed="rId3"/>
          <a:stretch/>
        </p:blipFill>
        <p:spPr>
          <a:xfrm>
            <a:off x="4724280" y="2057400"/>
            <a:ext cx="3810240" cy="2849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4"/>
          <p:cNvSpPr/>
          <p:nvPr/>
        </p:nvSpPr>
        <p:spPr>
          <a:xfrm>
            <a:off x="4724280" y="4952880"/>
            <a:ext cx="38102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Information from a wide variety of sourc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an help to measure and inform the impact and direction of the strateg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Mad7986, http://www.sxc.hu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e es el Plan de Negoci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definición detallada de cómo el Modelo de Negocios se llevara a cabo de acuerdo a una estrategia en un determinado horizo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xpresión cuantitativa de cómo se llevará a cabo el modelo de negocios siguiendo una e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tenido del Plan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6628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 INDUSTRIA , LA EMPRESA, y EL ENTORN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O DE NEGOCIO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ÁLISIS E INVESTIGACIÓN DE MERC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 DEL NEGOCI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MARKE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VENT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DISEÑO Y IMPLEMENT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DE OPER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QUIPO DE GEST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GRAMACIÓN GLOB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IESGOS CRÍTICOS, PROBLEMAS Y SUPUES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N FINANCIER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PUE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EXO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Resumen Ejecu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escripción del concepto de negocio y los negocios de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oportunidad y la estrategia de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mercado objetivo y proy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s ventajas compet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econó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l equi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propue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  <a:ea typeface="Arial"/>
              </a:rPr>
              <a:t>La Industria, la Empresa, sus Productos y el Entorn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indus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a empresa y su concep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ductos y Serv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s de penetración y crecimiento de mercado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5694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e Investigación de Merc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amaño y tendencias de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mpetencia y competi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rción de mercado y v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valuación de la estrategi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del negocio y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spectos Económicos del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gresos y márgenes opera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tilidades y horizonte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 fijos y variab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dicadores de puntos de quiebre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Marke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Estrategia global de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e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Tácticas de v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ervicios y garantí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romoción y Publ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Distribució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t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uándo vamos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ómo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ónde vamos a vende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ién va a ven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Que incentivos vamos a dar a vendedores y client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Diseño e Implantación del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Hitos y tare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iesgos y dificult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Mejoras de producto y nuevos produc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iclo de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Loc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Infraestructura e optimiz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Planes y estrateg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Aspectos legales y regulatorios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quipo de Gest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rgan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 cla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ens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inver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ratific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rectorio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tros shareholders, derechos y restri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ultores y otros servicios</a:t>
            </a: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gramación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xplicitar como se programarán las actividades asociadas a los programas de inversión y de oper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lan Financie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501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y Balances actu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stados de Resultado Proforma (esperad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Balance Pro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lujo de Caja Pro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dicadores de evaluación (Van, TIR, Payback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nálisis de sensibilidad y puntos de quieb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ontrol de Cost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 algn="just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Hechos esencial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puesta para financi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Financiamiento dese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Ofer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Uso de los fon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Arial"/>
              </a:rPr>
              <a:t>Retorno para los inversionis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iesgos, problemas y supuestos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os riesgos, problemas y otras contingencias que puedan ocurrir y como administrarlos (que hacer para mitigar esos riesgos antes que se produzcan o cuando se produzcan- planificación por contingenci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340668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211140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2187720" y="4343040"/>
            <a:ext cx="152388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5311440" y="2819520"/>
            <a:ext cx="121932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5388120" y="4191120"/>
            <a:ext cx="129528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85416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69240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69492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80424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026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98108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68580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 flipV="1">
            <a:off x="762120" y="4266720"/>
            <a:ext cx="152388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885840" y="2743200"/>
            <a:ext cx="121932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8"/>
          <p:cNvSpPr/>
          <p:nvPr/>
        </p:nvSpPr>
        <p:spPr>
          <a:xfrm flipH="1" flipV="1">
            <a:off x="3809520" y="4267080"/>
            <a:ext cx="114300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42856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497520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04252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59148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988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670716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728244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6"/>
          <p:cNvSpPr/>
          <p:nvPr/>
        </p:nvSpPr>
        <p:spPr>
          <a:xfrm flipV="1">
            <a:off x="7773840" y="274320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738252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V="1">
            <a:off x="564048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396396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7773840" y="213372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743184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522972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Line 23"/>
          <p:cNvSpPr/>
          <p:nvPr/>
        </p:nvSpPr>
        <p:spPr>
          <a:xfrm flipV="1">
            <a:off x="564048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4"/>
          <p:cNvSpPr/>
          <p:nvPr/>
        </p:nvSpPr>
        <p:spPr>
          <a:xfrm>
            <a:off x="464976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Line 25"/>
          <p:cNvSpPr/>
          <p:nvPr/>
        </p:nvSpPr>
        <p:spPr>
          <a:xfrm flipV="1">
            <a:off x="564048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26"/>
          <p:cNvSpPr/>
          <p:nvPr/>
        </p:nvSpPr>
        <p:spPr>
          <a:xfrm flipV="1">
            <a:off x="564048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7"/>
          <p:cNvSpPr/>
          <p:nvPr/>
        </p:nvSpPr>
        <p:spPr>
          <a:xfrm flipV="1">
            <a:off x="564048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31396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Line 29"/>
          <p:cNvSpPr/>
          <p:nvPr/>
        </p:nvSpPr>
        <p:spPr>
          <a:xfrm flipV="1">
            <a:off x="564048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415188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Line 31"/>
          <p:cNvSpPr/>
          <p:nvPr/>
        </p:nvSpPr>
        <p:spPr>
          <a:xfrm>
            <a:off x="426888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24936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7428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Oval 4"/>
          <p:cNvSpPr/>
          <p:nvPr/>
        </p:nvSpPr>
        <p:spPr>
          <a:xfrm>
            <a:off x="204624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75096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6"/>
          <p:cNvSpPr/>
          <p:nvPr/>
        </p:nvSpPr>
        <p:spPr>
          <a:xfrm flipV="1">
            <a:off x="82692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39625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8"/>
          <p:cNvSpPr/>
          <p:nvPr/>
        </p:nvSpPr>
        <p:spPr>
          <a:xfrm flipH="1" flipV="1">
            <a:off x="4038120" y="403848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49372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65664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45468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354168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modelo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do…….está dispuesto a pag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9:43:56Z</dcterms:created>
  <dc:creator>toshiba</dc:creator>
  <dc:description/>
  <dc:language>en-US</dc:language>
  <cp:lastModifiedBy>Luis Zaviezo</cp:lastModifiedBy>
  <dcterms:modified xsi:type="dcterms:W3CDTF">2009-11-18T20:04:38Z</dcterms:modified>
  <cp:revision>29</cp:revision>
  <dc:subject/>
  <dc:title>Modelo de Negocios</dc:title>
</cp:coreProperties>
</file>