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7853-13D1-457C-8E69-7B566A5CE93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9691-807F-44B2-A730-B5E14E5A51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792F-C3A7-4DC4-91DE-D58BEEB6D81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E4F8-C980-402C-8490-C2110D3893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1056-2733-42A8-84E4-BCB64F24EDF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438A8-C530-4F47-91F3-10AAB40F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A98EE-587E-4F07-AE67-6F153BA3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E681E-4498-422B-B6A7-DA58B0D1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0CD7A-86B7-41CB-97E4-9B6450A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AB7A8-B934-4928-ABD5-F06180F1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27395-4A15-4C84-9706-7011C39B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B188-C2F9-4B80-A88B-A36B1FE4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1F7FC-892F-414D-B39C-9EDDD71F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DACC-D9B0-4B70-ABDC-88EE1DC7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E3AC5-EB0C-46CE-9BD4-8D5C5936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D955C-5971-4D67-B3FB-315A6F1C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4FB4A-14CB-49B0-9A3B-0ED16087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4360" y="623700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BBEC-242B-405B-95AD-CC541F6BD8A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60948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 concepto de valor agreg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7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6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7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9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51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3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69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70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71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2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73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7:55:51Z</dcterms:created>
  <dc:creator>toshiba</dc:creator>
  <dc:description/>
  <dc:language>en-US</dc:language>
  <cp:lastModifiedBy>toshiba</cp:lastModifiedBy>
  <dcterms:modified xsi:type="dcterms:W3CDTF">2010-06-17T23:09:50Z</dcterms:modified>
  <cp:revision>8</cp:revision>
  <dc:subject/>
  <dc:title>El concepto de VALOR</dc:title>
</cp:coreProperties>
</file>