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B379-8030-4CEF-B514-6B826496273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D407-6CD0-4011-A2E7-C188F525BC6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BB4C-B858-4998-8E97-6FB12413C21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655E-EE47-4F69-B062-D92E7189D54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20B5-2327-4B8C-B8C6-1B0AAF6103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CF480-9979-4EC7-92A5-C5F3A2EA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129BC-73F3-46CE-8CFF-ADCBE5CD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87B00-2BE4-4C50-AE3B-C4D97A76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20FF2-C033-4B08-B656-0735BF1A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47451-8838-4B38-BA71-8212D155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FD70E-80F3-4BFC-988C-7F6E514B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56507-4B58-440F-8A27-A533FF64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50C77-C12F-4BDB-8A4F-63666DD3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E6C66-AC71-4F88-B540-7003F037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C5C74-C8A9-4DA7-8ABC-431F9612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9369B-5262-4D3A-B93C-8134E988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A01E5-7A21-4EB0-8B21-792E9CC1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4360" y="623700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D8A3-3051-4026-880D-42E76210E85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97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6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37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51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3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71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73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toshiba</dc:creator>
  <dc:description/>
  <dc:language>en-US</dc:language>
  <cp:lastModifiedBy>toshiba</cp:lastModifiedBy>
  <dcterms:modified xsi:type="dcterms:W3CDTF">2010-06-17T23:09:50Z</dcterms:modified>
  <cp:revision>8</cp:revision>
  <dc:subject/>
  <dc:title>El concepto de VALOR</dc:title>
</cp:coreProperties>
</file>