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3C3C-3EA8-43A7-898D-46F1F444924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547D-8CD8-48CA-B9A4-D89538D3083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1C6B-F9E2-488B-8379-CE5E0007E25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8DE2-DBA3-4320-9CB6-EA07F23931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376B-53FE-44E6-BFBA-CF38D92EFDF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4D784-0AED-4C33-AC9C-9ECA7D23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E86C5-9CEC-4B2B-9898-216F276C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0CE96-79C1-4632-BD74-B316D401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609CD-ECDF-411A-A82E-8E04822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6BFDA-EF09-4640-BE7F-51C3B56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E99A2-19AC-45CD-BF37-0D5E6CCC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BB5E1-241D-49B6-8290-A1AD326F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8F86E-E9E5-4A51-88F3-182E10E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A6A09-CFD0-455C-BA7A-959C53F2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A871F-A687-432E-8FA9-327BF92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D4927-7EEB-4BCB-9FA7-DE123EE5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24C39-B3DA-4AF5-9C09-C51C07C9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779F-7270-481E-A738-899543FBE87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7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7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51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3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toshiba</dc:creator>
  <dc:description/>
  <dc:language>en-US</dc:language>
  <cp:lastModifiedBy>toshiba</cp:lastModifiedBy>
  <dcterms:modified xsi:type="dcterms:W3CDTF">2010-06-17T23:09:50Z</dcterms:modified>
  <cp:revision>8</cp:revision>
  <dc:subject/>
  <dc:title>El concepto de VALOR</dc:title>
</cp:coreProperties>
</file>