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ECE-A213-49CE-BD24-09B2D22382C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0079-49E0-4021-AD22-CE669522F97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A0B3-58E3-4263-A697-A7E8DC4E6A6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DEDA-1398-4468-B531-0B72B25882B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B39-7E06-40FC-89E6-895D58B6A8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75047-7B3F-4F48-B5FA-4E247F2E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6ACD8-3EC0-4E44-9486-B95EE517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17339-8167-4E8E-ACDA-40750E91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CE988-67EC-439B-AE43-AEAEC90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D7542-2A7D-41C3-9C3F-8C2246B7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27249-0FAE-4671-8D4F-BAFD7E9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3364C-91CD-4D09-99C3-2A97F42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16CAB-5C08-46F8-B10D-E1141026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85ED7-A209-4EE5-843C-5E085B72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675E8-774E-4C0B-9EA3-8B55491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47E10-8880-49DB-A5DA-62DA8A8E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08E8A-BDF5-4F25-9095-C1076AD7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58E-0B7B-4513-9823-FA5E7DEA23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7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7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51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3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toshiba</dc:creator>
  <dc:description/>
  <dc:language>en-US</dc:language>
  <cp:lastModifiedBy>toshiba</cp:lastModifiedBy>
  <dcterms:modified xsi:type="dcterms:W3CDTF">2010-06-17T23:09:50Z</dcterms:modified>
  <cp:revision>8</cp:revision>
  <dc:subject/>
  <dc:title>El concepto de VALOR</dc:title>
</cp:coreProperties>
</file>