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1CFD-D55C-47AE-A05F-B708CD9AC62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ECAB-360B-496D-A23B-2AE5D9F55F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9834-E15C-43E0-BA2F-B605D0C942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1748-1503-4081-9806-752E734B14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9252-8312-4001-8375-4F1F38405E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EC6D-DB7C-48A9-8174-4E59CA2E95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D28F-9C40-4FF8-808D-4C71D5E9F2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8B59-95B6-40AC-A51B-7F72969905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B95A-D54B-4BB1-935B-E384763357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083A-0427-4BCF-9F36-3B4D8DB377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2A39-48D6-44DD-934F-CA5AC3BE3B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2FDA-0185-409D-8417-F4D5679569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C298-9995-41D4-992A-8BBC21715A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A3A2-8429-4E0D-9D26-121348D0E8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1453-563B-408B-908D-2AE5D96E19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B17F-77E2-41F4-8095-29196F94FB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F94-7DB6-4B5F-9B8B-D63DDC60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1ED-6873-4518-B57C-BBCB6340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A53-9776-4B3F-9866-F227A31E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30B-EAB0-46BA-A805-134BB3E8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F65-EE6D-44C4-83C8-7CF797BE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37F-0737-4BFD-BEA9-5772B221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8CD-05CB-44D2-ACA0-54782D0F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822D-2106-4A59-A526-CE33E4FA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8B8-1FCE-4202-83E3-919C696F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60D-D852-45F2-BB6F-01CDD1E0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248-4AAE-4E4B-B916-5FC5FFAC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9E4-C160-479E-9CE3-E95A68FC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31AB-EDC2-4158-8BAE-A028F1AF35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Line 6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MCj03560210000[1]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MBA2009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 IND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MCj02391850000[1]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MBA2010.d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7" name="Line 9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7" name="Line 5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877080" y="2924280"/>
            <a:ext cx="20876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Line 7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8" name="Oval 5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William Young</cp:lastModifiedBy>
  <dcterms:modified xsi:type="dcterms:W3CDTF">2009-10-06T23:49:14Z</dcterms:modified>
  <cp:revision>17</cp:revision>
  <dc:subject/>
  <dc:title>Diapositiva 1</dc:title>
</cp:coreProperties>
</file>