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3A0-A9A3-4ED9-A834-914C06F0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D45E-3EB1-4A7C-BDE1-F6557F5F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E73-6B45-482D-8FFD-6E40B8C4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3D0-BABA-4270-89CC-A0B2F1ED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28E6-C2C7-46D7-851D-8253C80E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652-C1E4-4F99-836B-D5077801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E9B-81BC-4193-A0B6-028C3D52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E21-A229-4B75-806C-DE9B804B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0EA-E6A1-4126-854B-67ADA028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5414-FDB2-4886-B132-16362DA1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DE12-4AE7-400A-A112-7DA15172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07E-F552-44CA-81BB-11FB4117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344B-3DA4-4F21-8E68-9718DE1F2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el preci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William Young</cp:lastModifiedBy>
  <cp:lastPrinted>2000-03-10T16:13:12Z</cp:lastPrinted>
  <dcterms:modified xsi:type="dcterms:W3CDTF">2006-10-10T22:42:48Z</dcterms:modified>
  <cp:revision>23</cp:revision>
  <dc:subject/>
  <dc:title>Sin título de diapositiva</dc:title>
</cp:coreProperties>
</file>