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3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1.png" ContentType="image/png"/>
  <Override PartName="/ppt/media/image14.wmf" ContentType="image/x-wmf"/>
  <Override PartName="/ppt/media/image32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C7B6-361F-471A-8AFF-67F9BAD52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49C6-41DA-4A25-A462-09BB4735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3839-7A43-458D-B45F-40BDA1789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0881-6880-47ED-A9A4-EFF3A6D9F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6B9B-163D-4A48-A202-4BB91058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3FA7-CE93-4BFC-815B-4A454311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604A-5283-487B-9C87-1D837A94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1CA4-39D6-4D6B-BC2D-ED6C0F09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1934-2324-42D1-820F-16827EA2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12EE-84B9-41A3-B50A-A62727BD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25D0-6AD0-4069-A20C-88FD819E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0C8E-3F3F-4A40-8387-C8C176FF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9F86-DD66-401A-9692-492ABF107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8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8BAB-604C-4703-B469-C0FD45C83D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han sido clasificados en 5 segment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mujer4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541080" cy="2514600"/>
          </a:xfrm>
          <a:prstGeom prst="rect">
            <a:avLst/>
          </a:prstGeom>
          <a:ln w="0">
            <a:noFill/>
          </a:ln>
        </p:spPr>
      </p:pic>
      <p:pic>
        <p:nvPicPr>
          <p:cNvPr id="207" name="dinero" descr=""/>
          <p:cNvPicPr/>
          <p:nvPr/>
        </p:nvPicPr>
        <p:blipFill>
          <a:blip r:embed="rId2"/>
          <a:stretch/>
        </p:blipFill>
        <p:spPr>
          <a:xfrm>
            <a:off x="685800" y="4724280"/>
            <a:ext cx="1706400" cy="1538280"/>
          </a:xfrm>
          <a:prstGeom prst="rect">
            <a:avLst/>
          </a:prstGeom>
          <a:ln w="0">
            <a:noFill/>
          </a:ln>
        </p:spPr>
      </p:pic>
      <p:pic>
        <p:nvPicPr>
          <p:cNvPr id="208" name="GOLF" descr=""/>
          <p:cNvPicPr/>
          <p:nvPr/>
        </p:nvPicPr>
        <p:blipFill>
          <a:blip r:embed="rId3"/>
          <a:stretch/>
        </p:blipFill>
        <p:spPr>
          <a:xfrm>
            <a:off x="3962520" y="3733920"/>
            <a:ext cx="1315800" cy="2133360"/>
          </a:xfrm>
          <a:prstGeom prst="rect">
            <a:avLst/>
          </a:prstGeom>
          <a:ln w="0">
            <a:noFill/>
          </a:ln>
        </p:spPr>
      </p:pic>
      <p:pic>
        <p:nvPicPr>
          <p:cNvPr id="209" name="gente1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2438640" cy="1528920"/>
          </a:xfrm>
          <a:prstGeom prst="rect">
            <a:avLst/>
          </a:prstGeom>
          <a:ln w="0">
            <a:noFill/>
          </a:ln>
        </p:spPr>
      </p:pic>
      <p:pic>
        <p:nvPicPr>
          <p:cNvPr id="210" name="gente2" descr=""/>
          <p:cNvPicPr/>
          <p:nvPr/>
        </p:nvPicPr>
        <p:blipFill>
          <a:blip r:embed="rId5"/>
          <a:stretch/>
        </p:blipFill>
        <p:spPr>
          <a:xfrm>
            <a:off x="6705720" y="2514600"/>
            <a:ext cx="1406520" cy="1600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181480" y="3657600"/>
            <a:ext cx="60984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05920" y="563868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01000" y="21337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23623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548640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4120" y="5562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4360" y="373392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7720" y="5715000"/>
            <a:ext cx="5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02440" y="22096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5160" y="24382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15680" y="18288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69440" y="205740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fess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92920" y="32767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u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1640" y="42670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gh Ear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8560" y="43434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B620-CF26-4ECF-BFBC-3840BEC301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mientras que estudios preliminar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indican diferentes esquemas de segmen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603440" y="2079720"/>
          <a:ext cx="658332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2079720"/>
                    <a:ext cx="65833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 flipV="1">
            <a:off x="1752480" y="1980720"/>
            <a:ext cx="0" cy="4038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6019920"/>
            <a:ext cx="5486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8200" y="6019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3400" y="20574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FFC1-9ED9-41EC-820B-F3A906297C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onsumidores de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 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eden elegir realizar compras a través de 3 cana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edific5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220760"/>
          </a:xfrm>
          <a:prstGeom prst="rect">
            <a:avLst/>
          </a:prstGeom>
          <a:ln w="0">
            <a:noFill/>
          </a:ln>
        </p:spPr>
      </p:pic>
      <p:pic>
        <p:nvPicPr>
          <p:cNvPr id="239" name="tienda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1295640" cy="1139760"/>
          </a:xfrm>
          <a:prstGeom prst="rect">
            <a:avLst/>
          </a:prstGeom>
          <a:ln w="0">
            <a:noFill/>
          </a:ln>
        </p:spPr>
      </p:pic>
      <p:pic>
        <p:nvPicPr>
          <p:cNvPr id="240" name="edific9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057400" cy="10206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57720" y="1898640"/>
            <a:ext cx="20674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60880" y="1898640"/>
            <a:ext cx="241956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40400" y="1898640"/>
            <a:ext cx="15112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mujer4" descr=""/>
          <p:cNvPicPr/>
          <p:nvPr/>
        </p:nvPicPr>
        <p:blipFill>
          <a:blip r:embed="rId4"/>
          <a:stretch/>
        </p:blipFill>
        <p:spPr>
          <a:xfrm flipH="1">
            <a:off x="3809880" y="4952880"/>
            <a:ext cx="230400" cy="1067040"/>
          </a:xfrm>
          <a:prstGeom prst="rect">
            <a:avLst/>
          </a:prstGeom>
          <a:ln w="0">
            <a:noFill/>
          </a:ln>
        </p:spPr>
      </p:pic>
      <p:pic>
        <p:nvPicPr>
          <p:cNvPr id="245" name="GOLF" descr=""/>
          <p:cNvPicPr/>
          <p:nvPr/>
        </p:nvPicPr>
        <p:blipFill>
          <a:blip r:embed="rId5"/>
          <a:stretch/>
        </p:blipFill>
        <p:spPr>
          <a:xfrm flipH="1">
            <a:off x="3962160" y="5410080"/>
            <a:ext cx="610920" cy="990720"/>
          </a:xfrm>
          <a:prstGeom prst="rect">
            <a:avLst/>
          </a:prstGeom>
          <a:ln w="0">
            <a:noFill/>
          </a:ln>
        </p:spPr>
      </p:pic>
      <p:pic>
        <p:nvPicPr>
          <p:cNvPr id="246" name="gente2" descr=""/>
          <p:cNvPicPr/>
          <p:nvPr/>
        </p:nvPicPr>
        <p:blipFill>
          <a:blip r:embed="rId6"/>
          <a:stretch/>
        </p:blipFill>
        <p:spPr>
          <a:xfrm>
            <a:off x="4648320" y="5029200"/>
            <a:ext cx="669960" cy="762120"/>
          </a:xfrm>
          <a:prstGeom prst="rect">
            <a:avLst/>
          </a:prstGeom>
          <a:ln w="0">
            <a:noFill/>
          </a:ln>
        </p:spPr>
      </p:pic>
      <p:pic>
        <p:nvPicPr>
          <p:cNvPr id="247" name="gente1" descr=""/>
          <p:cNvPicPr/>
          <p:nvPr/>
        </p:nvPicPr>
        <p:blipFill>
          <a:blip r:embed="rId7"/>
          <a:stretch/>
        </p:blipFill>
        <p:spPr>
          <a:xfrm>
            <a:off x="5029200" y="5867280"/>
            <a:ext cx="990720" cy="621000"/>
          </a:xfrm>
          <a:prstGeom prst="rect">
            <a:avLst/>
          </a:prstGeom>
          <a:ln w="0">
            <a:noFill/>
          </a:ln>
        </p:spPr>
      </p:pic>
      <p:pic>
        <p:nvPicPr>
          <p:cNvPr id="248" name="dinero" descr=""/>
          <p:cNvPicPr/>
          <p:nvPr/>
        </p:nvPicPr>
        <p:blipFill>
          <a:blip r:embed="rId8"/>
          <a:stretch/>
        </p:blipFill>
        <p:spPr>
          <a:xfrm>
            <a:off x="2819520" y="5791320"/>
            <a:ext cx="868320" cy="782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V="1">
            <a:off x="5791320" y="4495320"/>
            <a:ext cx="152388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1980720" y="4571640"/>
            <a:ext cx="1295640" cy="1066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3400" y="43430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2A8C-E984-470F-801E-A6C32A394C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sumen del mundo de Markstr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2666880"/>
            <a:ext cx="6782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cimiento d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dio ambiente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mapa3" descr=""/>
          <p:cNvPicPr/>
          <p:nvPr/>
        </p:nvPicPr>
        <p:blipFill>
          <a:blip r:embed="rId1"/>
          <a:stretch/>
        </p:blipFill>
        <p:spPr>
          <a:xfrm>
            <a:off x="6629400" y="4648320"/>
            <a:ext cx="2057400" cy="1682640"/>
          </a:xfrm>
          <a:prstGeom prst="rect">
            <a:avLst/>
          </a:prstGeom>
          <a:ln w="0">
            <a:noFill/>
          </a:ln>
        </p:spPr>
      </p:pic>
      <p:pic>
        <p:nvPicPr>
          <p:cNvPr id="257" name="pc1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2209680" cy="1698840"/>
          </a:xfrm>
          <a:prstGeom prst="rect">
            <a:avLst/>
          </a:prstGeom>
          <a:ln w="0">
            <a:noFill/>
          </a:ln>
        </p:spPr>
      </p:pic>
      <p:pic>
        <p:nvPicPr>
          <p:cNvPr id="258" name="Progres2" descr=""/>
          <p:cNvPicPr/>
          <p:nvPr/>
        </p:nvPicPr>
        <p:blipFill>
          <a:blip r:embed="rId3"/>
          <a:stretch/>
        </p:blipFill>
        <p:spPr>
          <a:xfrm>
            <a:off x="6553080" y="2133720"/>
            <a:ext cx="2249640" cy="125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ED09-9BE0-4C9C-B360-47777750F7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B083-0D82-4563-8F0E-786EA3A593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objetivo en gestionar su compañía es maximizar el precio de sus 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20574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 lograr esto, usted debe optimiz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rogreso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5651640" cy="32004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2334600" y="2819520"/>
            <a:ext cx="559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ción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cimien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 acumul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ersión en I&amp;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nvestigación y desarrol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2800" y="5867280"/>
            <a:ext cx="71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pero el objetivo principal 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APREND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champan" descr=""/>
          <p:cNvPicPr/>
          <p:nvPr/>
        </p:nvPicPr>
        <p:blipFill>
          <a:blip r:embed="rId2"/>
          <a:stretch/>
        </p:blipFill>
        <p:spPr>
          <a:xfrm flipH="1">
            <a:off x="228240" y="4038480"/>
            <a:ext cx="1981080" cy="18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B201-4EC9-4F1E-8572-82233B9DD8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ted necesitará realizar una serie de análisis antes de crear directrices estratégicas para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2438280"/>
            <a:ext cx="198144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2438280"/>
            <a:ext cx="19051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2438280"/>
            <a:ext cx="20574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90920" y="2666880"/>
            <a:ext cx="761760" cy="76212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2590920"/>
            <a:ext cx="761760" cy="76176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7040" y="279576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34040" y="2743200"/>
            <a:ext cx="190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Inform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55000" y="2514600"/>
            <a:ext cx="20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05920" y="2971800"/>
            <a:ext cx="304560" cy="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534520" y="2971800"/>
            <a:ext cx="0" cy="114300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447920" y="4114800"/>
            <a:ext cx="7162560" cy="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523880" y="3428640"/>
            <a:ext cx="0" cy="68580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norte" descr=""/>
          <p:cNvPicPr/>
          <p:nvPr/>
        </p:nvPicPr>
        <p:blipFill>
          <a:blip r:embed="rId1"/>
          <a:stretch/>
        </p:blipFill>
        <p:spPr>
          <a:xfrm>
            <a:off x="6477120" y="4495680"/>
            <a:ext cx="2133360" cy="20624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 flipV="1">
            <a:off x="4038480" y="5257800"/>
            <a:ext cx="990720" cy="129528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029200" y="5257800"/>
            <a:ext cx="304920" cy="7632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334120" y="4571640"/>
            <a:ext cx="304560" cy="685800"/>
          </a:xfrm>
          <a:prstGeom prst="line">
            <a:avLst/>
          </a:prstGeom>
          <a:ln w="152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3920" y="5334120"/>
            <a:ext cx="60948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24280" y="5943600"/>
            <a:ext cx="60984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28600" y="4800600"/>
          <a:ext cx="2895480" cy="1344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800600"/>
                    <a:ext cx="28954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F0F9-3614-48F2-B6A0-9D3CCE774C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carroc" descr=""/>
          <p:cNvPicPr/>
          <p:nvPr/>
        </p:nvPicPr>
        <p:blipFill>
          <a:blip r:embed="rId1"/>
          <a:stretch/>
        </p:blipFill>
        <p:spPr>
          <a:xfrm>
            <a:off x="6248520" y="3124080"/>
            <a:ext cx="1523880" cy="1584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281240" y="1735200"/>
            <a:ext cx="6153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s semán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miento Multi-dimensional (M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26A9-EBFE-4119-9DF6-44E5B6423A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bincular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200400" cy="1311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20200" y="1971720"/>
            <a:ext cx="48060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Benchmarking de la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dicciones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blicidad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uerza de venta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3051-A0DC-4974-B785-5F27415739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balanza2" descr=""/>
          <p:cNvPicPr/>
          <p:nvPr/>
        </p:nvPicPr>
        <p:blipFill>
          <a:blip r:embed="rId1"/>
          <a:stretch/>
        </p:blipFill>
        <p:spPr>
          <a:xfrm>
            <a:off x="5486400" y="3048120"/>
            <a:ext cx="2743200" cy="20174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09480" y="2209680"/>
            <a:ext cx="466416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de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con la fuerza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364E-E015-4159-9935-A7A7DA725E2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arkstrat es una simulación diseñada para enfocar decisiones estratégicas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ecesidades de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rspectivas de largo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keting como gestor de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epto del medio compet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rategia de marketing basada en segmentación, posicionamiento y asignación de recurs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1051-51A0-49A7-8604-3E2CFD01B8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ando tenga clara su estrategia, debe proceder a realizar numerosas decisiones tácticas cada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1828800"/>
            <a:ext cx="504504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ificación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posición de inv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jar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unicación ma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erza de venta y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estigación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ocupado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285300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5987-62B5-42A4-8A2D-1514AAEE81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departamento de producción ajustará automáticamente el nivel de producción hasta en un 20% (+ 0 -) dependiendo de su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1828800"/>
            <a:ext cx="5045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2590920"/>
            <a:ext cx="1600200" cy="1167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5029200"/>
            <a:ext cx="167652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57400" y="4267080"/>
            <a:ext cx="6553080" cy="0"/>
          </a:xfrm>
          <a:prstGeom prst="line">
            <a:avLst/>
          </a:prstGeom>
          <a:ln w="190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34120" y="3886200"/>
            <a:ext cx="761760" cy="76212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15000" y="2666880"/>
            <a:ext cx="0" cy="1524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715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72400" y="3048120"/>
            <a:ext cx="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0" y="2971800"/>
            <a:ext cx="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0292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429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70572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429000" y="1904760"/>
            <a:ext cx="0" cy="4647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705720" y="1904760"/>
            <a:ext cx="0" cy="4724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285640" y="3581280"/>
            <a:ext cx="114300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6705360" y="3581280"/>
            <a:ext cx="106668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0288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4286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631920" y="2438280"/>
            <a:ext cx="11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1960" y="23623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um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 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72400" y="24382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sumiendo cero nivel de inventa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648320" y="5181480"/>
            <a:ext cx="78264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1160" y="5181480"/>
            <a:ext cx="15354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+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42400" y="5181480"/>
            <a:ext cx="14472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-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91120" y="5842080"/>
            <a:ext cx="1676160" cy="825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ivel de producción pe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7FB1-318F-4E05-B889-F971B620B7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comparación entre intención y participación de mercado le puede dar una estimación de las “ventas perdid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19520" y="2286000"/>
            <a:ext cx="196200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" y="2514600"/>
            <a:ext cx="205884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19160" y="2666880"/>
            <a:ext cx="201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Particip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de Merc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41560" y="2514600"/>
            <a:ext cx="19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V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erd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17520" y="2209680"/>
            <a:ext cx="106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09680" y="2209680"/>
            <a:ext cx="54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34120" y="3429000"/>
            <a:ext cx="14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00400" y="5105520"/>
            <a:ext cx="66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89400" y="3949560"/>
            <a:ext cx="297252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mpet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d. Pendient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érdidas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457200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791320" y="41911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1320" y="541008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791320" y="502920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1320" y="624852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5791320" y="5866920"/>
            <a:ext cx="0" cy="381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30BC-6E00-4AB9-9830-FAF2B4D422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Markstrat, los precios se fijan una vez a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1DOLAR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4479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324480" y="380880"/>
            <a:ext cx="2057400" cy="276480"/>
          </a:xfrm>
          <a:prstGeom prst="rect">
            <a:avLst/>
          </a:prstGeom>
          <a:solidFill>
            <a:srgbClr val="a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7b19"/>
                </a:solidFill>
                <a:latin typeface="Tahoma"/>
              </a:rPr>
              <a:t>BANCO DE MARKST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92720" y="1905120"/>
            <a:ext cx="740736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recio al por menor recomendado = 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71800" y="5410080"/>
            <a:ext cx="17524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24280" y="2895480"/>
            <a:ext cx="1828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553080" y="457200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53080" y="5410080"/>
            <a:ext cx="16765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724280" y="5410080"/>
            <a:ext cx="18288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19320" y="457200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Marge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ist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553080" y="373392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71800" y="373392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19320" y="373392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ecio R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54100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med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24280" y="4572000"/>
            <a:ext cx="18288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28954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53080" y="2895480"/>
            <a:ext cx="167652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971800" y="457200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824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2100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2100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112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22576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181480" y="5486400"/>
            <a:ext cx="10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25960" y="38098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9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90228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0228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2AD5-3C26-4F2F-9F53-529F8E404A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recibe un presupuesto para el período entrante, basado en el desempeño del período prev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0800000">
            <a:off x="226800" y="2055960"/>
            <a:ext cx="729000" cy="441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Presupues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5486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nvestig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de Merca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3200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Fuerza 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Ven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5280" y="4343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2057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ublic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14400" y="236232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14400" y="3429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14400" y="4572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14400" y="5715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81280" y="2209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581280" y="27432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81280" y="3352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81280" y="36576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41148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05320" y="4800600"/>
            <a:ext cx="45720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81280" y="601992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19051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62520" y="2362320"/>
            <a:ext cx="31366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invest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2520" y="312408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350532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contratar y entre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411480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despe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46483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upuesto de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571500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los estudios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onite y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162920" y="205740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38880" y="426708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0120" y="205740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Marc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848720" y="441972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royec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AB97-1FA3-4BDD-961D-EBA01B3A66C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reunir3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1752480" cy="868320"/>
          </a:xfrm>
          <a:prstGeom prst="rect">
            <a:avLst/>
          </a:prstGeom>
          <a:ln w="0">
            <a:noFill/>
          </a:ln>
        </p:spPr>
      </p:pic>
      <p:pic>
        <p:nvPicPr>
          <p:cNvPr id="424" name="gente2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1406520" cy="1600200"/>
          </a:xfrm>
          <a:prstGeom prst="rect">
            <a:avLst/>
          </a:prstGeom>
          <a:ln w="0">
            <a:noFill/>
          </a:ln>
        </p:spPr>
      </p:pic>
      <p:pic>
        <p:nvPicPr>
          <p:cNvPr id="425" name="pc1" descr=""/>
          <p:cNvPicPr/>
          <p:nvPr/>
        </p:nvPicPr>
        <p:blipFill>
          <a:blip r:embed="rId3"/>
          <a:stretch/>
        </p:blipFill>
        <p:spPr>
          <a:xfrm>
            <a:off x="2895480" y="4495680"/>
            <a:ext cx="2590920" cy="2103480"/>
          </a:xfrm>
          <a:prstGeom prst="rect">
            <a:avLst/>
          </a:prstGeom>
          <a:ln w="0">
            <a:noFill/>
          </a:ln>
        </p:spPr>
      </p:pic>
      <p:pic>
        <p:nvPicPr>
          <p:cNvPr id="426" name="pc1" descr=""/>
          <p:cNvPicPr/>
          <p:nvPr/>
        </p:nvPicPr>
        <p:blipFill>
          <a:blip r:embed="rId4"/>
          <a:stretch/>
        </p:blipFill>
        <p:spPr>
          <a:xfrm>
            <a:off x="2438280" y="1905120"/>
            <a:ext cx="2438640" cy="19796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 rot="16200000">
            <a:off x="1371240" y="5181480"/>
            <a:ext cx="1067040" cy="15238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rot="16200000">
            <a:off x="6704280" y="1828800"/>
            <a:ext cx="1371600" cy="152388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10113" stAng="10800000" swAng="5400000"/>
                <a:lnTo>
                  <a:pt x="12974" y="2047"/>
                </a:lnTo>
                <a:lnTo>
                  <a:pt x="12974" y="0"/>
                </a:lnTo>
                <a:lnTo>
                  <a:pt x="21600" y="6079"/>
                </a:lnTo>
                <a:lnTo>
                  <a:pt x="12974" y="12158"/>
                </a:lnTo>
                <a:lnTo>
                  <a:pt x="12974" y="10111"/>
                </a:lnTo>
                <a:lnTo>
                  <a:pt x="12427" y="10111"/>
                </a:lnTo>
                <a:arcTo wR="4363" hR="2049" stAng="16200000" swAng="-5400000"/>
                <a:lnTo>
                  <a:pt x="806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76520" y="1905120"/>
            <a:ext cx="1066680" cy="11430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5715000" y="5334120"/>
            <a:ext cx="1295280" cy="1218960"/>
          </a:xfrm>
          <a:custGeom>
            <a:avLst/>
            <a:gdLst>
              <a:gd name="textAreaLeft" fmla="*/ 360 w 1295280"/>
              <a:gd name="textAreaRight" fmla="*/ 1296000 w 12952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553080" y="3352680"/>
            <a:ext cx="129564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553080" y="388584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34320" y="388620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7086600" y="38098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3809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7467480" y="3505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7543800" y="342900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 rot="10800000">
            <a:off x="304920" y="2894400"/>
            <a:ext cx="129528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304920" y="297144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609480" y="31240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761760" y="31237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990360" y="3351960"/>
            <a:ext cx="152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1143000" y="3352320"/>
            <a:ext cx="76320" cy="30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1219320" y="3657600"/>
            <a:ext cx="3045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7040" y="31305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726080" y="152388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41080" y="2133720"/>
            <a:ext cx="8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23200" y="4724280"/>
            <a:ext cx="70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117560" y="1981080"/>
            <a:ext cx="10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5600" y="566640"/>
            <a:ext cx="859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simulación comienza al final del  primer  período. 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evo gerente (Usted!) debe tomar las decisiones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3ADE-6113-4F91-838B-6C54639348B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que su equipo pueda familiarizarse mejor con Markstrat, se han limitado algunas decisiones del primer perío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2084400"/>
            <a:ext cx="807732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coge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realizar grandes cambios en las operaciones de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 modificar,  retirar o introducir nuevas mar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iniciar proyectos de 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dar objetivos perceptuales para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596A-4450-4F67-8C84-D082CB9B8C7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ganícense y gestionen el trabajo gru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flechas3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2916000" cy="30481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4983480" y="2362320"/>
            <a:ext cx="328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Limitación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56840" y="5257800"/>
            <a:ext cx="284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Opin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nflic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7440" y="2514600"/>
            <a:ext cx="301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xceso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FD4A-D006-49B8-8801-9078DA93E93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C490-694E-4606-9E4D-20F7A545162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ingresar al sitio de su equipo, el menú principal estará en la pantalla de su P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523880" y="2887560"/>
            <a:ext cx="5867640" cy="3719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1523880" y="2209680"/>
            <a:ext cx="5867640" cy="7272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1523880" y="2286000"/>
            <a:ext cx="6019920" cy="533520"/>
          </a:xfrm>
          <a:prstGeom prst="wedgeRoundRectCallout">
            <a:avLst>
              <a:gd name="adj1" fmla="val 40824"/>
              <a:gd name="adj2" fmla="val -95537"/>
              <a:gd name="adj3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950880" y="17524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arra de Mód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1981080"/>
            <a:ext cx="1447920" cy="762120"/>
          </a:xfrm>
          <a:prstGeom prst="wedgeRoundRectCallout">
            <a:avLst>
              <a:gd name="adj1" fmla="val 74125"/>
              <a:gd name="adj2" fmla="val 31458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2057400"/>
            <a:ext cx="16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acceder el módulo de dec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A3A0-30F0-48C3-A007-7B152C92510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CD61-65A5-467B-9B96-AB86C16EDF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uego de haber ingresado a la ventana principal del Módulo de Decisiones, Usted comenzará a realizar decisiones para 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238880" cy="45878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981080" y="1981080"/>
            <a:ext cx="2286000" cy="914400"/>
          </a:xfrm>
          <a:prstGeom prst="wedgeRoundRectCallout">
            <a:avLst>
              <a:gd name="adj1" fmla="val 49097"/>
              <a:gd name="adj2" fmla="val 84375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81080" y="213372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ingresar al módulo de producción. precio y 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7949-814F-4349-BE99-AE27A3D9349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es de producción, precio y publicidad deben ser tomadas para cad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553080" cy="46814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7162920" y="2590920"/>
            <a:ext cx="1752480" cy="1066680"/>
          </a:xfrm>
          <a:prstGeom prst="wedgeRoundRectCallout">
            <a:avLst>
              <a:gd name="adj1" fmla="val -42662"/>
              <a:gd name="adj2" fmla="val -77527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59436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a marca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76520" y="2133720"/>
            <a:ext cx="228600" cy="2286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47920" y="2133720"/>
            <a:ext cx="228600" cy="228600"/>
          </a:xfrm>
          <a:prstGeom prst="rect">
            <a:avLst/>
          </a:prstGeom>
          <a:solidFill>
            <a:srgbClr val="d5d5d5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18288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onites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315200" y="26668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ted está actualmente decidiendo sobre la marca S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408D-91E8-48C7-AD63-EA3C21C2CC1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fuerza de venta está organizada por tipo de canal de distribución, para poder así conocer sus necesidades especí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5715000" y="3581280"/>
          <a:ext cx="28954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581280"/>
                    <a:ext cx="28954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380880" y="1981080"/>
            <a:ext cx="5619960" cy="28576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590920" y="4876920"/>
            <a:ext cx="3124080" cy="838080"/>
          </a:xfrm>
          <a:prstGeom prst="wedgeRoundRectCallout">
            <a:avLst>
              <a:gd name="adj1" fmla="val 509"/>
              <a:gd name="adj2" fmla="val -80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14600" y="5029200"/>
            <a:ext cx="33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para normalizar la fuerza de venta a un 100% en cada ca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514600" y="4648320"/>
            <a:ext cx="0" cy="152388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ACF3-41B0-41C7-993C-4B4A6EC59A7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comprar estudios de investigación de mercado, éstos le ayudarán a hacer buenas 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6705720" cy="47005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457200" y="2133720"/>
            <a:ext cx="6553080" cy="304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0" y="3429000"/>
            <a:ext cx="1905120" cy="838080"/>
          </a:xfrm>
          <a:prstGeom prst="wedgeRoundRectCallout">
            <a:avLst>
              <a:gd name="adj1" fmla="val -64166"/>
              <a:gd name="adj2" fmla="val 11079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0" y="35053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s costos son actualizados de acuerdo a su sel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7E17-BD78-404E-AF52-B6132170933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monitorear el estado de sus decisiones cuando de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6095880" cy="3863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aphicFrame>
        <p:nvGraphicFramePr>
          <p:cNvPr id="508" name=""/>
          <p:cNvGraphicFramePr/>
          <p:nvPr/>
        </p:nvGraphicFramePr>
        <p:xfrm>
          <a:off x="4572000" y="1905120"/>
          <a:ext cx="4114800" cy="16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905120"/>
                    <a:ext cx="4114800" cy="165096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 flipV="1">
            <a:off x="3886200" y="3504960"/>
            <a:ext cx="2666880" cy="2057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3657600" y="6095880"/>
            <a:ext cx="45720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838080" y="6095880"/>
            <a:ext cx="53352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1E0F-98CE-4898-AC01-3371BEC4E6A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olvide transferir sus deci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6172200" cy="3873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6172200" cy="763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17" name=""/>
          <p:cNvSpPr/>
          <p:nvPr/>
        </p:nvSpPr>
        <p:spPr>
          <a:xfrm>
            <a:off x="7086600" y="2819520"/>
            <a:ext cx="1676520" cy="838080"/>
          </a:xfrm>
          <a:prstGeom prst="wedgeRoundRectCallout">
            <a:avLst>
              <a:gd name="adj1" fmla="val -72157"/>
              <a:gd name="adj2" fmla="val -11155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086600" y="2819520"/>
            <a:ext cx="180324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ra acceder al Módulo Interf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2666880"/>
            <a:ext cx="1600200" cy="990720"/>
          </a:xfrm>
          <a:prstGeom prst="wedgeRoundRectCallout">
            <a:avLst>
              <a:gd name="adj1" fmla="val 60217"/>
              <a:gd name="adj2" fmla="val 74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2666880"/>
            <a:ext cx="16002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iera sus decisiones y entregue su disco al i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1FB1-837C-4715-8716-00B8FF67E1A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 sus marcas... Listos... YA.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23080" y="2590920"/>
            <a:ext cx="67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igne un nombre a su compañ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77160" y="3505320"/>
            <a:ext cx="56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te el plazo de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RELOJCRO" descr=""/>
          <p:cNvPicPr/>
          <p:nvPr/>
        </p:nvPicPr>
        <p:blipFill>
          <a:blip r:embed="rId1"/>
          <a:stretch/>
        </p:blipFill>
        <p:spPr>
          <a:xfrm>
            <a:off x="7102440" y="228600"/>
            <a:ext cx="1606680" cy="21859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3043440" y="4724280"/>
            <a:ext cx="6096960" cy="1099440"/>
          </a:xfrm>
          <a:prstGeom prst="rect">
            <a:avLst/>
          </a:prstGeom>
          <a:noFill/>
          <a:ln w="0">
            <a:noFill/>
          </a:ln>
          <a:effectLst>
            <a:outerShdw dist="77353" dir="483752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Buena Suerte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2589120" cy="41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5AA4-CFD2-4427-909B-AE689058416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Mundo Markstrat”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gran territorio con una economía altamente desarro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AMERICS2" descr=""/>
          <p:cNvPicPr/>
          <p:nvPr/>
        </p:nvPicPr>
        <p:blipFill>
          <a:blip r:embed="rId1"/>
          <a:stretch/>
        </p:blipFill>
        <p:spPr>
          <a:xfrm flipH="1">
            <a:off x="4495320" y="4038480"/>
            <a:ext cx="1676520" cy="2438640"/>
          </a:xfrm>
          <a:prstGeom prst="rect">
            <a:avLst/>
          </a:prstGeom>
          <a:ln w="0">
            <a:noFill/>
          </a:ln>
        </p:spPr>
      </p:pic>
      <p:pic>
        <p:nvPicPr>
          <p:cNvPr id="58" name="AMERICN2" descr=""/>
          <p:cNvPicPr/>
          <p:nvPr/>
        </p:nvPicPr>
        <p:blipFill>
          <a:blip r:embed="rId2"/>
          <a:stretch/>
        </p:blipFill>
        <p:spPr>
          <a:xfrm>
            <a:off x="2590920" y="1828800"/>
            <a:ext cx="2579400" cy="229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52480" y="2362320"/>
            <a:ext cx="5867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50532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Población: 250 mill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Moneda: Dólar Markstrat ($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6F8D-C928-4D1D-A361-E6559C55DB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s firmas en competencia se inician en posiciones disti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RAPIDO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900440" cy="2362320"/>
          </a:xfrm>
          <a:prstGeom prst="rect">
            <a:avLst/>
          </a:prstGeom>
          <a:ln w="0">
            <a:noFill/>
          </a:ln>
        </p:spPr>
      </p:pic>
      <p:pic>
        <p:nvPicPr>
          <p:cNvPr id="65" name="RAPIDO" descr=""/>
          <p:cNvPicPr/>
          <p:nvPr/>
        </p:nvPicPr>
        <p:blipFill>
          <a:blip r:embed="rId2"/>
          <a:stretch/>
        </p:blipFill>
        <p:spPr>
          <a:xfrm>
            <a:off x="3429000" y="2362320"/>
            <a:ext cx="147168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RAPIDO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1287360" cy="1600200"/>
          </a:xfrm>
          <a:prstGeom prst="rect">
            <a:avLst/>
          </a:prstGeom>
          <a:ln w="0">
            <a:noFill/>
          </a:ln>
        </p:spPr>
      </p:pic>
      <p:pic>
        <p:nvPicPr>
          <p:cNvPr id="67" name="RAPIDO" descr=""/>
          <p:cNvPicPr/>
          <p:nvPr/>
        </p:nvPicPr>
        <p:blipFill>
          <a:blip r:embed="rId4"/>
          <a:stretch/>
        </p:blipFill>
        <p:spPr>
          <a:xfrm>
            <a:off x="3962520" y="3809880"/>
            <a:ext cx="2146320" cy="2667240"/>
          </a:xfrm>
          <a:prstGeom prst="rect">
            <a:avLst/>
          </a:prstGeom>
          <a:ln w="0">
            <a:noFill/>
          </a:ln>
        </p:spPr>
      </p:pic>
      <p:pic>
        <p:nvPicPr>
          <p:cNvPr id="68" name="RAPIDO" descr=""/>
          <p:cNvPicPr/>
          <p:nvPr/>
        </p:nvPicPr>
        <p:blipFill>
          <a:blip r:embed="rId5"/>
          <a:stretch/>
        </p:blipFill>
        <p:spPr>
          <a:xfrm>
            <a:off x="1219320" y="3048120"/>
            <a:ext cx="1827000" cy="2270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" y="2971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505320"/>
            <a:ext cx="868680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114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8006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563868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6477120"/>
            <a:ext cx="27432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B64D-9736-4620-991F-452ABC3212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puede competir en DOS producto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2362320"/>
            <a:ext cx="1676520" cy="213336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362320"/>
            <a:ext cx="2057400" cy="20574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2819520"/>
            <a:ext cx="327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ustit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omple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724280"/>
            <a:ext cx="243864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N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4724280"/>
            <a:ext cx="243828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áximo: 5 marcas/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E860-7E7C-49B3-8EDE-9829CC13C7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mercado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es altamente desarrollado y cada producto tiene 6 características pro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819520"/>
            <a:ext cx="920520" cy="676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6576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90920" y="33526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219320" y="33526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905120" y="2514240"/>
            <a:ext cx="144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590920"/>
            <a:ext cx="46044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2743200"/>
            <a:ext cx="920520" cy="338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2743200"/>
            <a:ext cx="7452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3200400"/>
            <a:ext cx="395280" cy="406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2666880"/>
            <a:ext cx="8380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5105520"/>
            <a:ext cx="920880" cy="744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371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8288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2860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5105520"/>
            <a:ext cx="525240" cy="101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5105520"/>
            <a:ext cx="263520" cy="1015920"/>
          </a:xfrm>
          <a:custGeom>
            <a:avLst/>
            <a:gdLst>
              <a:gd name="textAreaLeft" fmla="*/ 0 w 263520"/>
              <a:gd name="textAreaRight" fmla="*/ 185040 w 263520"/>
              <a:gd name="textAreaTop" fmla="*/ 253800 h 1015920"/>
              <a:gd name="textAreaBottom" fmla="*/ 762120 h 101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5181480"/>
            <a:ext cx="263520" cy="812880"/>
          </a:xfrm>
          <a:custGeom>
            <a:avLst/>
            <a:gdLst>
              <a:gd name="textAreaLeft" fmla="*/ 0 w 263520"/>
              <a:gd name="textAreaRight" fmla="*/ 185040 w 263520"/>
              <a:gd name="textAreaTop" fmla="*/ 203040 h 812880"/>
              <a:gd name="textAreaBottom" fmla="*/ 609840 h 81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5410080"/>
            <a:ext cx="131760" cy="474840"/>
          </a:xfrm>
          <a:custGeom>
            <a:avLst/>
            <a:gdLst>
              <a:gd name="textAreaLeft" fmla="*/ 0 w 131760"/>
              <a:gd name="textAreaRight" fmla="*/ 92520 w 131760"/>
              <a:gd name="textAreaTop" fmla="*/ 118800 h 474840"/>
              <a:gd name="textAreaBottom" fmla="*/ 356400 h 4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419720"/>
            <a:ext cx="2590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44197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62485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6248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19051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1905120"/>
            <a:ext cx="12952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3733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14800" y="3733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3733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2743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24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029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4876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23623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9240" y="2590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F96B-2C62-44A3-8EC6-113D23951C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también posee 6 características propias, pero el mercado está aún en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61722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486400" y="58672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114800" y="58672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905120"/>
            <a:ext cx="25905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44197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4419720"/>
            <a:ext cx="12956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á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6248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6248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3581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48769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2666880"/>
            <a:ext cx="1523880" cy="8384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3124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1520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5105520"/>
            <a:ext cx="457200" cy="10666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5029200"/>
            <a:ext cx="914400" cy="53352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5029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5638680"/>
            <a:ext cx="609480" cy="6098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5410080"/>
            <a:ext cx="1218960" cy="6858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800600" y="502884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514600"/>
            <a:ext cx="1143000" cy="8380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447920" y="2895480"/>
            <a:ext cx="14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9051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3623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3581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9920" y="1905120"/>
            <a:ext cx="1771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ut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2590920"/>
            <a:ext cx="1219320" cy="1066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2895480"/>
            <a:ext cx="457200" cy="4572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952880" y="2895120"/>
            <a:ext cx="5335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864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3581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F93D-2B05-4034-A913-511B2B9562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 fácil reconocer el origen de las marcas a partir de sus n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438280"/>
            <a:ext cx="7772400" cy="1676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251460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251460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866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532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86400" y="4038480"/>
            <a:ext cx="45720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858000" y="4038480"/>
            <a:ext cx="53352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800600"/>
            <a:ext cx="1828800" cy="179100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po de Produ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=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=Vo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6880" y="4800600"/>
            <a:ext cx="1828800" cy="174744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ñía dueña de la mar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,E,I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4800600"/>
            <a:ext cx="3352680" cy="101592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ras o númer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e 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A4A4-FE38-4347-9782-619624C01D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9:02:46Z</dcterms:created>
  <dc:creator>Marcelo y Tomás Münzenmayer S</dc:creator>
  <dc:description/>
  <dc:language>en-US</dc:language>
  <cp:lastModifiedBy>Universidad De Chile</cp:lastModifiedBy>
  <cp:lastPrinted>1999-12-21T19:58:19Z</cp:lastPrinted>
  <dcterms:modified xsi:type="dcterms:W3CDTF">2001-10-05T15:44:58Z</dcterms:modified>
  <cp:revision>22</cp:revision>
  <dc:subject/>
  <dc:title>The Markstrat Challenge I</dc:title>
</cp:coreProperties>
</file>