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F8E-5012-4093-A443-DB8F0375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80D-2377-49A4-BDD7-7FCCE41E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62A-DCFE-48AD-892E-0E295E74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8C7-A310-47A0-91CB-E6186EE2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EB1C-B6D1-44CF-9DAA-F049BC1A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84B4-44AB-4A3E-A357-3FEED811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E1EE-AFA6-4C68-A176-FBE60259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B8C9-4BDF-4C7F-8187-FCBA9820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2DC4-0107-41A5-8E50-34C04DC3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4717-B2D7-4C9C-BB8B-30D61BBF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D3BD-3553-491C-96C3-7B15E952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774-7ACD-451B-9DF2-B3175E32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D2B6-CE27-4D2E-A78A-FB6B3295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068B-A409-4EFC-A8B2-5E92DC8E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30B2-B328-4F22-93D0-412BE2B7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51F7-3C28-4A5C-B064-2C6BEBFA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87B5-D8DF-4B16-9F2A-DC8C2525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F166-FA15-4E05-B301-5353CF1F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B8B5-A679-48C2-99F9-8625B541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92BD-B169-43A4-9C3B-8AB554B6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349D-8D5C-4BB8-B26E-02D612AD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F1B9-FED4-4031-A559-8D730C4D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33D-51EC-499D-9496-7CF170B1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C571-9BC6-48C6-A442-8F5F452D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8C39-2E55-41BB-A53D-3043812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C7FF-610A-4DC7-9B69-E28DA69C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E32D-A7A6-43A4-8FCB-28F1D2F6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2AB2-637F-4607-B9D8-28EE9F59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5D3A-BD1F-4C93-BD50-A84F79E5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D4EF-3558-41D0-8F96-54015F4F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1982-049B-4CC6-A599-903AE901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CE052-3216-41A1-9D06-C8AF40CC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4D43-06DF-4CEE-97C6-F742FA4E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591-928D-4C3C-BEBF-CDBC559B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821ED-56B2-4DF6-B16D-D4B46B9E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8CCF-FCCE-4E1E-A02A-CB009F4D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77CC-C61F-4705-B18C-2E704C58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165B-DB3E-4F22-84DE-BDB97284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DCBF4-F350-4038-88B9-923C60C4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9D88-3656-41C5-A4C3-6681E1D2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651F-6205-44FE-B9BB-A38695BA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695D2-0F4E-43C7-87EC-1CFD0ACC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BB7D-EBAB-4498-BBA8-F2D7ECDF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3B0D-F236-4A98-8C21-E969F285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D75-62C9-4E47-833C-E0F7132A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A1F04-D51B-4326-9A6F-1D0255C0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B34E-5889-4FE2-8922-7328CD85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8A88-6503-4CE5-93CC-85AA34A9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75997-8AB6-43C2-B43A-86710FB3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3692-81AC-4289-A5E5-40B23BB2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BD04F-B003-425F-AC23-F908368B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A51C-9943-48A1-8164-042E9993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1F32-4D53-4778-8871-569C6085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7458-C9AF-4649-9ADA-F101BA74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CE97-044F-4488-BC56-A1636E50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4B0-A1E1-48BA-A1B7-5A1B1B5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683CF-A3CC-492D-BEBA-FD083502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E38-64F9-4B91-9162-373FF35E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E66-D2D6-4F90-871D-AB881ECE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834-3C4A-429D-BCE0-F7F7F76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31A1-0802-47D9-897C-63D0F0F4A3FB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B288-C6B7-430B-B458-8932D40C994B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8D95-F2C5-4CED-B33F-6E0FAB667C82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11A3-8BE8-4770-9D73-7AEBC55D3047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B92B-7B00-480C-A988-A5603EA7570C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3572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Auxiliar 1</a:t>
            </a:r>
            <a:br>
              <a:rPr sz="4500"/>
            </a:b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IN71K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Modelos y Herramientas de Gest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De Calidad de Servi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8d3e"/>
                </a:solidFill>
                <a:latin typeface="Verdana"/>
              </a:rPr>
              <a:t>Calidad de Servicios en la Industria de Tiendas por Departamento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Calidad de Servicio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arís Parque Arau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Encuesta a 55 perso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5 preguntas pers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22 preguntas expectat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22 preguntas percep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Cálculo de G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8d3e"/>
                </a:solidFill>
                <a:latin typeface="Verdana"/>
              </a:rPr>
              <a:t>Calidad de Servicios en la Industria de Tiendas por Departamento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lgunos Result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finición de fortalezas y debilidades de la tienda en cuest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85880" y="242892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34002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Informe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nalizar servicio de una página web de un banco a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evantamiento de inform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de la interfa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cuesta a 20 personas a lo me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que se pueden mejor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ficiencia de los proces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Informe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1. Port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2. Resumen Ejecut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3. 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4. Cuerpo del Infor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5. Bibliograf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6. Anex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racterísticas de los Servic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eci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Heterogene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multane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nsfer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racteristicas Cultu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mbiente Exter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finición del 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írculo Dinám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gmentación del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erzas Competit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5429160" y="1981080"/>
            <a:ext cx="3162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mbiente Inter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eño del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tching Supply and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terfaz con el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omento de la verdad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ante más impor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8d3e"/>
                </a:solidFill>
                <a:latin typeface="Verdana"/>
              </a:rPr>
              <a:t>A Frame Work for Analyzing the Quality of Service Interface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mensiones de la Calidad de Serv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a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dad de 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pat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ases del Encuen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eck-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stación del Serv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eck-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8d3e"/>
                </a:solidFill>
                <a:latin typeface="Verdana"/>
              </a:rPr>
              <a:t>A Frame Work for Analyzing the Quality of Service Interface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350064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ectativas y Percep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odelo de los GA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14880" y="1643040"/>
            <a:ext cx="37432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SERVQ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mensiones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iabilidad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angibles 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acidad de Respuesta (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guridad (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atía (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ectativas (E): lo que el cliente espera del servici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erspectivas (P): lo que el cliente percibe del servicio entreg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SERVQ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E1, E2, E3, E4 y E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P1, P2, P3, P4 y P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(P-E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, i=1,…,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omedio por dimens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eso de cada dimens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untaje SERVQU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0440" y="71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Modelos de Gestión de Calidad*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Picture 2" descr="Monografias.com"/>
          <p:cNvPicPr/>
          <p:nvPr/>
        </p:nvPicPr>
        <p:blipFill>
          <a:blip r:embed="rId1"/>
          <a:stretch/>
        </p:blipFill>
        <p:spPr>
          <a:xfrm>
            <a:off x="2087640" y="1143000"/>
            <a:ext cx="5127480" cy="4680000"/>
          </a:xfrm>
          <a:prstGeom prst="rect">
            <a:avLst/>
          </a:prstGeom>
          <a:ln w="0">
            <a:noFill/>
          </a:ln>
        </p:spPr>
      </p:pic>
      <p:sp>
        <p:nvSpPr>
          <p:cNvPr id="240" name="4 CuadroTexto"/>
          <p:cNvSpPr/>
          <p:nvPr/>
        </p:nvSpPr>
        <p:spPr>
          <a:xfrm>
            <a:off x="357120" y="6000840"/>
            <a:ext cx="857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* Rodríguez Méndez, Arianna.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“Elaboración del marco teórico referencial que sustente la aplicación de la metodología SERVPERF para la gestión de la calidad en una empresa de servicios”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3:40:35Z</dcterms:created>
  <dc:creator>ff</dc:creator>
  <dc:description/>
  <dc:language>en-US</dc:language>
  <cp:lastModifiedBy>ff</cp:lastModifiedBy>
  <dcterms:modified xsi:type="dcterms:W3CDTF">2010-08-17T16:04:55Z</dcterms:modified>
  <cp:revision>8</cp:revision>
  <dc:subject/>
  <dc:title>Auxiliar 1 IN71K</dc:title>
</cp:coreProperties>
</file>