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E377-82CB-4231-A9E7-1FA504381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7629-3116-4377-BF50-E671A20D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1AA8-4EB7-49AF-9849-3EFA99CD7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CE44-13AE-4834-858E-CECE3AEF0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5E9C-18F1-401B-BA82-A6C9EAFEC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E12B-C898-44CA-99F7-DC34DD55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E960-B1BE-4F76-A677-429A63B4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D8430-10A9-4341-BAEC-E245AEDFD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86A7-46F5-43E9-A4CB-A3884FF7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06B0-2B25-438F-8953-7581D9E9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DD06-EE8D-4739-94C6-68C9492E5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FDB2-578E-4D80-9645-D74D23D28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4BD40-B21A-4764-940E-EA421872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0AB70-74F6-4EA9-9C70-E4B0B69C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D6AB8-0927-4802-AA13-B6C06FC55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05FFA-CBAE-4715-B735-100E34358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E133F-9A90-4E9D-BAC8-3A45F88AD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3FFCC-B0FD-40C8-8BD0-5F32458E9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A34F5-B0DD-4D1E-A68F-3A315246F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A84D5-863D-4A9A-A6B8-74FF55DE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50CA3D-AE31-482E-B20E-D7584391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1C9FD4-CC50-44ED-8FEC-30248143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4BDA-1E69-461D-999B-45654AE5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5A398-E7F2-47CB-862B-C2856E8D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BCF57-B93A-4910-BB90-3435908F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A14D7-5DAD-4597-B066-872944D3A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D5AD9-CC18-4082-852D-04A906D24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B7D73-1DC8-4AFD-A3C1-98813282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50140-C23A-4947-BD9E-CE3A9EFC6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0821E-FD35-441C-B84F-985C9A5DD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5389B-D20F-406D-B86F-90AE23C86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D816B7-B92D-4A8F-96AB-CEACC82D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1F40F5-5198-4F94-8F71-560C4BBB2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BAC0-9E19-4669-9CF0-865047FAD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95DC2-95F1-487A-813A-B492D7DE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D3B8A-3817-4B95-97F4-8B8959180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3CC2A-FB3B-44FC-A28C-C063B5D83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12D9B-E8E3-4DFE-818B-553D09E6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21EB7-F4E8-43D4-8FFE-99F4CF7E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437BA-63BB-409B-8991-703B6021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C0CFE-3614-405B-B4A5-8E31FBDB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AB634-53DA-4EB8-84AA-8A280D213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AC0300-8E5B-4375-A225-4D6C36775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0023D4-E4A3-41E9-9EA9-96FA83A8C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F777-EE3D-458F-BBD4-7B2AEF31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F8FE1A-E080-48A1-952F-878E02C8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B3F13-0026-41F1-B51B-148BDC91D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1BE7E6-2571-462B-806F-FC2FA52FA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7B7E72-026B-4723-BAAA-5AFE28FB0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6D693-8FFF-4AD9-BF90-291FD8DA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022F9D-4419-436D-A4C4-510F8B4F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A713CF-0BBE-4B9A-BF48-F349FF1D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07AD4-F3EC-4EDD-9970-A6E6250F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C0929-532D-4658-BFF5-613C55BF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53C35-282B-4218-8B26-9B3BF446D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E5DD-9F14-44F5-B54A-937AC3A7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C7643-C131-4181-BE21-CFB859521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2E93-A65B-4CBA-958B-755CE00B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A25F-29DF-4CD9-97BC-F0D8EF85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2C01-08BD-479F-B989-A2798DF5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8 Rectángulo redondeado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8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D9A6-4FE0-45E2-89C1-29BF41C23EE5}" type="slidenum"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10 Rectángulo redondeado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9AF7-BF7B-409A-A35E-DB7628A857CE}" type="slidenum"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10 Rectángulo redondeado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10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F65E2-ECDD-4A90-903B-0763D486F108}" type="slidenum"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967A-C132-47C6-A995-0250B360669F}" type="slidenum"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9 Rectángulo redondeado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10 Redondear rectángulo de esquina sencilla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E359-284D-4002-A669-9A535C16D020}" type="slidenum">
              <a:rPr b="0" lang="es-ES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1680" y="1357200"/>
            <a:ext cx="7851600" cy="182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500" spc="-1" strike="noStrike">
                <a:solidFill>
                  <a:srgbClr val="ff8d3e"/>
                </a:solidFill>
                <a:latin typeface="Verdana"/>
              </a:rPr>
              <a:t>Auxiliar 1</a:t>
            </a:r>
            <a:br>
              <a:rPr sz="4500"/>
            </a:br>
            <a:r>
              <a:rPr b="1" lang="es-ES" sz="4500" spc="-1" strike="noStrike">
                <a:solidFill>
                  <a:srgbClr val="ff8d3e"/>
                </a:solidFill>
                <a:latin typeface="Verdana"/>
              </a:rPr>
              <a:t>IN71K</a:t>
            </a:r>
            <a:endParaRPr b="1" lang="en-US" sz="4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22160" y="3684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0" bIns="4680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Modelos y Herramientas de Gestió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79766f"/>
                </a:solidFill>
                <a:latin typeface="Verdana"/>
              </a:rPr>
              <a:t>De Calidad de Servic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172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8d3e"/>
                </a:solidFill>
                <a:latin typeface="Verdana"/>
              </a:rPr>
              <a:t>Calidad de Servicios en la Industria de Tiendas por Departamento</a:t>
            </a:r>
            <a:endParaRPr b="1" lang="en-US" sz="3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nálisis Calidad de Servicio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París Parque Arauc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Encuesta a 55 person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5 preguntas person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22 preguntas expectativ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22 preguntas percep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Cálculo de GA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172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8d3e"/>
                </a:solidFill>
                <a:latin typeface="Verdana"/>
              </a:rPr>
              <a:t>Calidad de Servicios en la Industria de Tiendas por Departamento</a:t>
            </a:r>
            <a:endParaRPr b="1" lang="en-US" sz="3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lgunos Result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efinición de fortalezas y debilidades de la tienda en cuest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5" name="Picture 2" descr=""/>
          <p:cNvPicPr/>
          <p:nvPr/>
        </p:nvPicPr>
        <p:blipFill>
          <a:blip r:embed="rId1"/>
          <a:stretch/>
        </p:blipFill>
        <p:spPr>
          <a:xfrm>
            <a:off x="785880" y="2428920"/>
            <a:ext cx="3400200" cy="17622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"/>
          <p:cNvPicPr/>
          <p:nvPr/>
        </p:nvPicPr>
        <p:blipFill>
          <a:blip r:embed="rId2"/>
          <a:stretch/>
        </p:blipFill>
        <p:spPr>
          <a:xfrm>
            <a:off x="4357800" y="2428920"/>
            <a:ext cx="3400200" cy="17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3172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8d3e"/>
                </a:solidFill>
                <a:latin typeface="Verdana"/>
              </a:rPr>
              <a:t>Informe 1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nalizar servicio de una página web de un banco a elec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evantamiento de informa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nálisis de la interfa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ncuesta a 20 personas a lo men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lementos que se pueden mejorar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ficiencia de los proceso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172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8d3e"/>
                </a:solidFill>
                <a:latin typeface="Verdana"/>
              </a:rPr>
              <a:t>Informe 1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Conteni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1. Porta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2. Resumen Ejecutiv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3. Introduc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4. Cuerpo del Infor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5. Bibliografí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6. Anex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172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8d3e"/>
                </a:solidFill>
                <a:latin typeface="Verdana"/>
              </a:rPr>
              <a:t>A Frame Work for Analyzing Service Operation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aracterísticas de los Servici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tangi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ereci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Heterogene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multane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ransferibilida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racteristicas Cultura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172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8d3e"/>
                </a:solidFill>
                <a:latin typeface="Verdana"/>
              </a:rPr>
              <a:t>A Frame Work for Analyzing Service Operation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mbiente Exter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finición del Produc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Círculo Dinámic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ferenci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gmentación del Merc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uerzas Competitiv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6" name="Picture 3" descr=""/>
          <p:cNvPicPr/>
          <p:nvPr/>
        </p:nvPicPr>
        <p:blipFill>
          <a:blip r:embed="rId1"/>
          <a:stretch/>
        </p:blipFill>
        <p:spPr>
          <a:xfrm>
            <a:off x="5429160" y="1981080"/>
            <a:ext cx="316224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172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8d3e"/>
                </a:solidFill>
                <a:latin typeface="Verdana"/>
              </a:rPr>
              <a:t>A Frame Work for Analyzing Service Operations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Ambiente Inter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seño del Sistem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Verdana"/>
              </a:rPr>
              <a:t>Matching Supply and Dem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 interfaz con el Clien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omento de la verdad”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stante más importa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172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8d3e"/>
                </a:solidFill>
                <a:latin typeface="Verdana"/>
              </a:rPr>
              <a:t>A Frame Work for Analyzing the Quality of Service Interface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mensiones de la Calidad de Servici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Fiabil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angibl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apacidad de Respues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gurida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mpat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ases del Encuen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cces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heck-I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iagnós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estación del Servi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heck-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guimient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172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900" spc="-1" strike="noStrike">
                <a:solidFill>
                  <a:srgbClr val="ff8d3e"/>
                </a:solidFill>
                <a:latin typeface="Verdana"/>
              </a:rPr>
              <a:t>A Frame Work for Analyzing the Quality of Service Interface</a:t>
            </a:r>
            <a:endParaRPr b="1" lang="en-US" sz="29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0040" y="1714680"/>
            <a:ext cx="350064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xpectativas y Percep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Modelo de los GAP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1"/>
          <a:stretch/>
        </p:blipFill>
        <p:spPr>
          <a:xfrm>
            <a:off x="4214880" y="1643040"/>
            <a:ext cx="374328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172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8d3e"/>
                </a:solidFill>
                <a:latin typeface="Verdana"/>
              </a:rPr>
              <a:t>SERVQUAL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Dimensiones Servic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iabilidad (1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angibles (2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pacidad de Respuesta (3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guridad (4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mpatía (5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Expectativas (E): lo que el cliente espera del servici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Perspectivas (P): lo que el cliente percibe del servicio entregado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172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8d3e"/>
                </a:solidFill>
                <a:latin typeface="Verdana"/>
              </a:rPr>
              <a:t>SERVQUAL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álculo E1, E2, E3, E4 y E5 por pregun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álculo P1, P2, P3, P4 y P5 por pregun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álculo (P-E)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, i=1,…,5 por pregun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Promedio por dimens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Peso de cada dimens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untaje SERVQUAL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0440" y="7128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8d3e"/>
                </a:solidFill>
                <a:latin typeface="Verdana"/>
              </a:rPr>
              <a:t>Modelos de Gestión de Calidad*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9" name="Picture 2" descr="Monografias.com"/>
          <p:cNvPicPr/>
          <p:nvPr/>
        </p:nvPicPr>
        <p:blipFill>
          <a:blip r:embed="rId1"/>
          <a:stretch/>
        </p:blipFill>
        <p:spPr>
          <a:xfrm>
            <a:off x="2087640" y="1143000"/>
            <a:ext cx="5127480" cy="4680000"/>
          </a:xfrm>
          <a:prstGeom prst="rect">
            <a:avLst/>
          </a:prstGeom>
          <a:ln w="0">
            <a:noFill/>
          </a:ln>
        </p:spPr>
      </p:pic>
      <p:sp>
        <p:nvSpPr>
          <p:cNvPr id="240" name="4 CuadroTexto"/>
          <p:cNvSpPr/>
          <p:nvPr/>
        </p:nvSpPr>
        <p:spPr>
          <a:xfrm>
            <a:off x="357120" y="6000840"/>
            <a:ext cx="8572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* Rodríguez Méndez, Arianna. </a:t>
            </a: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“Elaboración del marco teórico referencial que sustente la aplicación de la metodología SERVPERF para la gestión de la calidad en una empresa de servicios”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7T03:40:35Z</dcterms:created>
  <dc:creator>ff</dc:creator>
  <dc:description/>
  <dc:language>en-US</dc:language>
  <cp:lastModifiedBy>ff</cp:lastModifiedBy>
  <dcterms:modified xsi:type="dcterms:W3CDTF">2010-08-17T16:04:55Z</dcterms:modified>
  <cp:revision>8</cp:revision>
  <dc:subject/>
  <dc:title>Auxiliar 1 IN71K</dc:title>
</cp:coreProperties>
</file>