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D44-FF9F-47DD-AFCE-41344838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0C2-6C6D-4B5F-B1A3-BE1696C1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975-5045-414E-B3C5-3A0A48DA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BE4-3DE5-445D-98F2-C4740B0B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DB26-FA78-44FB-9297-63330E7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4EA7-F9B3-46AC-8E47-78D7C93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990-204E-4F8F-A083-F7F8D57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75C6-8E28-4EDA-952E-67B7802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0FF-3EED-468B-A6C2-8B3E4814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DEE6-7439-4634-AC2C-0F8CC51E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A3E-0D38-4BF8-B5D6-EBFD1A8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5C1-D310-4A6E-8A6C-2E1E1371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42C-7F5E-4F67-AD9F-0C27AB0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0F1D-544E-4307-86E4-2EA04BD4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625-DAA4-444E-827F-50C7967D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F43-5501-4C50-969C-68D7B8B5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DC1-BBCC-46C7-AEE1-7AAC440C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CA74-ACBE-4CE5-A121-446562D1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5D5D1-DD03-4659-8D6B-D2CF9F99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209D-5A78-4698-9F12-32A7CD7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F3DB-71EB-4BE0-9474-ECD11BEB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3581-B286-46C7-8713-BC76FEE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518-564C-45E4-8AC0-97C83DAE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08B0-6FEA-44D6-83D5-5456A385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C944-4C3F-4075-A923-F0629980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359D-CE7A-4B3A-856A-0DCFF27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51C9-7CE1-4175-811B-BDA7014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1A85-C6DC-416D-BD69-6432A5FF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B0DB-716B-42F6-81AC-A664FFC3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E2F7-D548-4C90-865F-B411B645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B132-6048-4E5B-A68C-AF38C40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528B-856A-4C0F-B4A5-C2DC6C8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E619-AFCB-40BC-9070-2A989C1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7AD-671A-4A55-8830-ABBFDFEA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85EB3-7D89-47D3-B310-D525DE5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FDE4-967D-4D58-862C-D6199A1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FBC9-23D8-4906-8F6C-391F35D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E89D-967D-40E0-808F-EB7723C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0435-61FE-4FB7-9B63-EC4AC5D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7FC80-791B-4C96-BFC9-CDF5DC3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03B7-81D8-44B6-B82F-A727967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5C46-8BB2-45FA-B74E-FC35C564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67FB-B3FB-403D-A74B-19AB4D47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84CBD-B985-417C-B4A8-5E0F9532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D96-D5C9-42B4-A307-61414F1C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F2E9-4814-491F-8766-B3030D07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C69FF-489C-4B38-A626-3E4E2A4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C3E29-514A-4E57-82FF-3C026A7D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9D486-CB38-456B-A77B-66A6C114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130C-C5EC-480E-8BF3-0A0D2A10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7952-AA77-4C6B-A392-3FDC9AC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2890-9E43-4CD5-91DF-EF7E461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AE1F-B96D-4C42-A058-CBDEB67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8E5B6-7532-4B9D-BE07-F2A0005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DAC8-CC3C-4E88-A1FD-57C24FC1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494-EA9E-4476-B3CD-89E9AF45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A49F-5EBC-43AA-B659-6FB91636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696-2479-465F-BCFC-2FC83DA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EEE-4ED8-4D59-9964-8FA3E6D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B61-DFAB-4C10-B4A6-08133EFE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F7E9-2CFA-46BE-AB59-3B698B663883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F021-DC7B-4A44-92A7-B9569208FD71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658D-4141-42EC-969C-74B5E45AC993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1E4-E24D-4E6E-B87A-7A683CC853CF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9548-E4A2-4E90-A988-E4D525AE1F3E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3572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Auxiliar 1</a:t>
            </a:r>
            <a:br>
              <a:rPr sz="4500"/>
            </a:b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IN71K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Modelos y Herramientas de Gest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e Calidad de Servi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alidad de Servicio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arís Parque Arau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Encuesta a 55 perso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5 preguntas pers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expecta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percep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Cálculo de G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lgunos Result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 de fortalezas y debilidades de la tienda en cuest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34002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nalizar servicio de una página web de un banco a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vantamiento de inform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de la interfa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cuesta a 20 personas a lo me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que se pueden mejor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ficiencia de los proces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1. Port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2. Resumen Ejecu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3. 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4. Cuerpo del Infor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5. Bibliograf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6. Anex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racterísticas de los Servi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ec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Heteroge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multa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nsfer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racteristicas Cultu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Ex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finición del 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írculo Dinám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mentación del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erzas Competi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1981080"/>
            <a:ext cx="3162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In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tching Supply and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terfaz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omento de la verdad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ante más impor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mensiones de la Calidad de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a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dad de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pat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ses del Encuen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stación del Serv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350064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y Percep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odelo de los G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14880" y="1643040"/>
            <a:ext cx="37432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mensiones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iabilidad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angibles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acidad de Respuesta (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uridad (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atía (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(E): lo que el cliente espera del servici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rspectivas (P): lo que el cliente percibe del servicio entreg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E1, E2, E3, E4 y E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P1, P2, P3, P4 y P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(P-E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i=1,…,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medio por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so de cada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untaje SERVQU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0440" y="71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Modelos de Gestión de Calidad*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Monografias.com"/>
          <p:cNvPicPr/>
          <p:nvPr/>
        </p:nvPicPr>
        <p:blipFill>
          <a:blip r:embed="rId1"/>
          <a:stretch/>
        </p:blipFill>
        <p:spPr>
          <a:xfrm>
            <a:off x="2087640" y="1143000"/>
            <a:ext cx="5127480" cy="468000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357120" y="6000840"/>
            <a:ext cx="857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* Rodríguez Méndez, Arianna.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“Elaboración del marco teórico referencial que sustente la aplicación de la metodología SERVPERF para la gestión de la calidad en una empresa de servicios”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3:40:35Z</dcterms:created>
  <dc:creator>ff</dc:creator>
  <dc:description/>
  <dc:language>en-US</dc:language>
  <cp:lastModifiedBy>ff</cp:lastModifiedBy>
  <dcterms:modified xsi:type="dcterms:W3CDTF">2010-08-17T16:04:55Z</dcterms:modified>
  <cp:revision>8</cp:revision>
  <dc:subject/>
  <dc:title>Auxiliar 1 IN71K</dc:title>
</cp:coreProperties>
</file>