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61CC-6640-41CF-A39C-0C994A38B87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6C9D-E3E7-471A-9BD8-5AF24B4D64C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1F0A-EE71-42B8-867A-0CD1A7D8AA0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2417-BFB9-4C0E-A1A5-4363CA8D428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2C01-88D6-4E6A-A0F7-AEC4A9C9C72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40A0-2288-4317-A562-58B55755948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9EBB-9F46-45F5-B61B-8D57258EB5E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AA87-1EDB-4BA9-8A14-8093480B5BD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140B-09F8-44A0-8EBA-04EA3913583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525E-C4D9-4D22-8C5D-B8C70CDCC38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99A7-521A-4CF5-810E-FB92AF77EA3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6DEE-0937-4323-B4EC-27A60DA33BE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F256-B700-4A14-9363-7A755206BF9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CDB2-2A27-4433-B4B3-FACA55BDDC8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B2E8-895B-4F10-96EC-9D4F5E7E85D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DDDE-053B-4325-9B52-F8E78CD2866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5A13-6996-4296-A012-80901BF4E72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F76F-19F8-4C5E-A376-FB3F7BE8BB7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4EA4-0D34-4C48-B3B3-4588146F3FE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6881D-834E-486C-85CB-917B493B5A8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4265-4EAA-4F77-B8D5-F0D78388E49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F6F1-05ED-42B7-A45E-61706C13255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3114-CDE1-4701-A5D5-689890BEE04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392A-ACD7-4300-AB41-BFC7C400776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A54D0-F0F5-4591-9A51-95AE54273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D80B0-372A-4C4D-BAD8-FDA811591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076B1-193B-4D6D-9BFF-2A8D69E68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F2FCA-B0F8-425C-BE7E-D0FE14FB9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961AD-2632-45CE-BBE0-54EC90DF5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D7D1E-F517-4647-9AFC-873BA4C36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B9E57-0EEC-40D8-BCA2-4D94D330E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24FDB-B7B3-4E55-9DF2-D4277FD53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78FF7-4636-48B9-8C38-C6557D8CC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EF136-FB61-40E2-929D-964E65E15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14EEA-7B15-4F9D-A9CE-CF1B6954E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B505E-AACC-48D8-A19C-21E576DA0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DC908-2CE9-4D23-95D7-7E8A88D93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606D6-5A2F-4445-8D7B-3E25DCDE8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BD73F-D207-4BB6-8BC2-218E32D60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389EC-A09F-4720-BAAE-5F1E37B05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B823A-2EDE-4E1A-BC0C-EFFDAC5B8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29832-1AD5-4E5F-8B51-9EA3E59C9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194D8-A943-48D3-B59A-C4F6A6A58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FC95D-8730-42D5-93CE-7CB50F2A3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CF22A-7B65-4572-8C14-C2D5C17FA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37AFA-9EBB-4529-AD2F-43E2BFFA5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327F2-FD5A-467B-94B3-44B27BBCB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2868D-78F0-4E3A-BE40-2DA0FBC55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C5CF-1340-480E-B9AC-3AA03B9A8840}"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F0EB-2FC1-4104-8171-0E307FFEA02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2E0B-62D0-441E-BB0C-89CF1157DC8D}" type="datetime">
              <a:rPr b="0" lang="es-ES" sz="1000" spc="-1" strike="noStrike">
                <a:solidFill>
                  <a:srgbClr val="336666"/>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BB44-DD7C-4A0E-9D36-3A47456BC061}"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asos en la operacionalización</a:t>
            </a:r>
            <a:br>
              <a:rPr sz="3600"/>
            </a:br>
            <a:r>
              <a:rPr b="0" lang="es-ES" sz="3600" spc="-1" strike="noStrike">
                <a:solidFill>
                  <a:srgbClr val="000000"/>
                </a:solidFill>
                <a:latin typeface="Arial"/>
              </a:rPr>
              <a:t>de las variables</a:t>
            </a:r>
            <a:endParaRPr b="0" lang="en-US" sz="36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enuncia o define la variable.</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deducen sus dimensiones o aspectos principales.</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buscan indicadores para cada dimensió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or qué en escuelas con alumnos de alta vulnerabilidad, controlando por un conjunto de variables, los establecimientos municipales tienen un mejor desempeño que sus similares particulares subvencionados sin financiamiento compartido? ¿Qué variables estarían explicando esa diferencia?</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e aplicó una entrevista en profundidad de corte semi estructurado a directores, jefe de la unidad técnica pedagógica, profesor de lenguaje y/o matemática de cada uno de los establecimientos, con el fin de obtener una visión que combinara la mirada de la dirección, la visión técnica y el trabajo en el aula directo con los niños así como la relación con los apoderados y la comunida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 una base de 36 establecimientos de la región metropolitana (27 municipales y 9 particulares subvencionados) que presentaban diferencias significativas tanto en la prueba SIMCE de lenguaje como de matemáticas del año 2002, se escogieron de manera aleatoria 10 de ellos (5 municipales y 5 particulares subvencionados) para realizar el trabajo cualitativo con el fin de conocer, a partir de la descripción de sus realidades y la percepción de los propios actores, cuáles son las características de sus establecimientos y los elementos que contribuirían a explicar las diferencias estadísticas observadas en la etapa previa</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imensiones de análisis</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texto social y territorial de las escuela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estión escolar</a:t>
            </a:r>
            <a:br>
              <a:rPr sz="2100"/>
            </a:br>
            <a:r>
              <a:rPr b="0" lang="es-CL" sz="2100" spc="-1" strike="noStrike">
                <a:solidFill>
                  <a:srgbClr val="000000"/>
                </a:solidFill>
                <a:latin typeface="Arial"/>
              </a:rPr>
              <a:t>programas e iniciativas que se llevan a cabo en la escuela</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lación con otros actor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de la realidad de otros establecimient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diciones de trabajo de los docent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sobre los resultad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sión de los aprendizaj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nálisis de los temas de equ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strumento (entrevistas semi-estructuradas)</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son “el gatillazo” o puntapié inicial que permite iniciar la conversación con los entrevist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162"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164"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egurar confidencialidad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rabar para poder atender de mejor manera la entrevista y asegurar una mejor atención al entrevista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valuar en la aplicación del instrumento la pertinencia de realizar la pregunta de la pauta siendo que ésta puede haber sido ya contestada por el entrevistad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ocesamiento de la información</a:t>
            </a: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nscripción fidedigna de las entrevistas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468360" y="620640"/>
          <a:ext cx="7994520" cy="251640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1</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2</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3</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4</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n</a:t>
                      </a:r>
                      <a:endParaRPr b="0" lang="en-US" sz="1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87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1</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76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2</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03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3</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2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n</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68" name="Rectangle 57"/>
          <p:cNvSpPr/>
          <p:nvPr/>
        </p:nvSpPr>
        <p:spPr>
          <a:xfrm>
            <a:off x="468360" y="3429000"/>
            <a:ext cx="806616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análisis se transforman en una estructura para el vaciado de la matriz de contenido (o sában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estar abierto a constatar la existencia de más dimensiones de análisis que no hayan estado inicialmente contempladas en la pauta de entrevist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aboración de subdimensiones o sub temas que permitan ir ordenando mejor la informac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tener información respecto del entrevistado en el registro</a:t>
            </a:r>
            <a:endParaRPr b="0" lang="en-US" sz="2000" spc="-1" strike="noStrike">
              <a:solidFill>
                <a:srgbClr val="336666"/>
              </a:solidFill>
              <a:latin typeface="Arial"/>
            </a:endParaRPr>
          </a:p>
        </p:txBody>
      </p:sp>
      <p:sp>
        <p:nvSpPr>
          <p:cNvPr id="169" name="Text Box 58"/>
          <p:cNvSpPr/>
          <p:nvPr/>
        </p:nvSpPr>
        <p:spPr>
          <a:xfrm>
            <a:off x="395280" y="623736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trategias que permiten ir construyendo una matriz de análisi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468360" y="333360"/>
          <a:ext cx="7994520" cy="361332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1</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2</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3</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4</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n</a:t>
                      </a:r>
                      <a:endParaRPr b="0" lang="en-US" sz="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011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2</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3}</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4…….</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 los mismos problemas de los de acá tienen mejores resultados, o sea es una cuestión dura reconocerla, pero existe, o sea falta algo, yo creo que a nosotros nos falta algo, o sea nos falta mayor compromiso de parte de los profesores, mayor compromiso y ser más sistemático en las cosas que hacemos" (Particular Subvencionado)</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Nosotros todas las semanas tenemos taller de reflexión, todos los martes desde las cuatro hasta las seis ahí nos organizamos todos se puede trabajar por ciclo todo por sub ciclo, entonces ahí nos colocamos de acuerdo y vemos todo, nosotros tenemos buena comunicación entre nosotros"(Municipal)</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1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2</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223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3</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49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n</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71" name="Rectangle 69"/>
          <p:cNvSpPr/>
          <p:nvPr/>
        </p:nvSpPr>
        <p:spPr>
          <a:xfrm>
            <a:off x="468360" y="4148280"/>
            <a:ext cx="806616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1 – Generar el cuerpo de datos- entrevistas, documentos, etc.</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2- Vaciado a la matriz por caso</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3 – Análisis por dimensión, subdimens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4 - Redacción del informe</a:t>
            </a:r>
            <a:endParaRPr b="0" lang="en-US" sz="2000" spc="-1" strike="noStrike">
              <a:solidFill>
                <a:srgbClr val="336666"/>
              </a:solidFill>
              <a:latin typeface="Arial"/>
            </a:endParaRPr>
          </a:p>
        </p:txBody>
      </p:sp>
      <p:sp>
        <p:nvSpPr>
          <p:cNvPr id="172" name="Rectangle 70"/>
          <p:cNvSpPr/>
          <p:nvPr/>
        </p:nvSpPr>
        <p:spPr>
          <a:xfrm>
            <a:off x="1908000" y="476280"/>
            <a:ext cx="935280" cy="3240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3" name="Rectangle 71"/>
          <p:cNvSpPr/>
          <p:nvPr/>
        </p:nvSpPr>
        <p:spPr>
          <a:xfrm>
            <a:off x="684360" y="1125360"/>
            <a:ext cx="7488000" cy="43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anim calcmode="lin" valueType="num">
                                      <p:cBhvr additive="base">
                                        <p:cTn id="7"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1">
                                            <p:txEl>
                                              <p:pRg st="2" end="2"/>
                                            </p:txEl>
                                          </p:spTgt>
                                        </p:tgtEl>
                                        <p:attrNameLst>
                                          <p:attrName>style.visibility</p:attrName>
                                        </p:attrNameLst>
                                      </p:cBhvr>
                                      <p:to>
                                        <p:strVal val="visible"/>
                                      </p:to>
                                    </p:set>
                                    <p:anim calcmode="lin" valueType="num">
                                      <p:cBhvr additive="base">
                                        <p:cTn id="13"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172"/>
                                        </p:tgtEl>
                                        <p:attrNameLst>
                                          <p:attrName>style.visibility</p:attrName>
                                        </p:attrNameLst>
                                      </p:cBhvr>
                                      <p:to>
                                        <p:strVal val="visible"/>
                                      </p:to>
                                    </p:set>
                                    <p:anim calcmode="lin" valueType="num">
                                      <p:cBhvr additive="base">
                                        <p:cTn id="17" dur="500" fill="hold"/>
                                        <p:tgtEl>
                                          <p:spTgt spid="172"/>
                                        </p:tgtEl>
                                        <p:attrNameLst>
                                          <p:attrName>ppt_x</p:attrName>
                                        </p:attrNameLst>
                                      </p:cBhvr>
                                      <p:tavLst>
                                        <p:tav tm="0">
                                          <p:val>
                                            <p:strVal val="#ppt_x"/>
                                          </p:val>
                                        </p:tav>
                                        <p:tav tm="100000">
                                          <p:val>
                                            <p:strVal val="#ppt_x"/>
                                          </p:val>
                                        </p:tav>
                                      </p:tavLst>
                                    </p:anim>
                                    <p:anim calcmode="lin" valueType="num">
                                      <p:cBhvr additive="base">
                                        <p:cTn id="18"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71">
                                            <p:txEl>
                                              <p:pRg st="4" end="4"/>
                                            </p:txEl>
                                          </p:spTgt>
                                        </p:tgtEl>
                                        <p:attrNameLst>
                                          <p:attrName>style.visibility</p:attrName>
                                        </p:attrNameLst>
                                      </p:cBhvr>
                                      <p:to>
                                        <p:strVal val="visible"/>
                                      </p:to>
                                    </p:set>
                                    <p:anim calcmode="lin" valueType="num">
                                      <p:cBhvr additive="base">
                                        <p:cTn id="23"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71">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73"/>
                                        </p:tgtEl>
                                        <p:attrNameLst>
                                          <p:attrName>style.visibility</p:attrName>
                                        </p:attrNameLst>
                                      </p:cBhvr>
                                      <p:to>
                                        <p:strVal val="visible"/>
                                      </p:to>
                                    </p:set>
                                    <p:anim calcmode="lin" valueType="num">
                                      <p:cBhvr additive="base">
                                        <p:cTn id="27" dur="500" fill="hold"/>
                                        <p:tgtEl>
                                          <p:spTgt spid="173"/>
                                        </p:tgtEl>
                                        <p:attrNameLst>
                                          <p:attrName>ppt_x</p:attrName>
                                        </p:attrNameLst>
                                      </p:cBhvr>
                                      <p:tavLst>
                                        <p:tav tm="0">
                                          <p:val>
                                            <p:strVal val="#ppt_x"/>
                                          </p:val>
                                        </p:tav>
                                        <p:tav tm="100000">
                                          <p:val>
                                            <p:strVal val="#ppt_x"/>
                                          </p:val>
                                        </p:tav>
                                      </p:tavLst>
                                    </p:anim>
                                    <p:anim calcmode="lin" valueType="num">
                                      <p:cBhvr additive="base">
                                        <p:cTn id="2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71">
                                            <p:txEl>
                                              <p:pRg st="6" end="6"/>
                                            </p:txEl>
                                          </p:spTgt>
                                        </p:tgtEl>
                                        <p:attrNameLst>
                                          <p:attrName>style.visibility</p:attrName>
                                        </p:attrNameLst>
                                      </p:cBhvr>
                                      <p:to>
                                        <p:strVal val="visible"/>
                                      </p:to>
                                    </p:set>
                                    <p:anim calcmode="lin" valueType="num">
                                      <p:cBhvr additive="base">
                                        <p:cTn id="33"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7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71">
                                            <p:txEl>
                                              <p:pRg st="6" end="6"/>
                                            </p:txEl>
                                          </p:spTgt>
                                        </p:tgtEl>
                                        <p:attrNameLst>
                                          <p:attrName>style.visibility</p:attrName>
                                        </p:attrNameLst>
                                      </p:cBhvr>
                                      <p:to>
                                        <p:strVal val="visible"/>
                                      </p:to>
                                    </p:set>
                                    <p:anim calcmode="lin" valueType="num">
                                      <p:cBhvr additive="base">
                                        <p:cTn id="39"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Narrow"/>
              </a:rPr>
              <a:t>Objetivos de esta sesión</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Presentar conceptos básicos de operacionalización de variables y su relevancia para un estudio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Trabajo individual: avanzar hacia la operacionalización de las variables del estud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texto social y territorial</a:t>
            </a:r>
            <a:endParaRPr b="0" lang="en-US" sz="4200" spc="-1" strike="noStrike">
              <a:solidFill>
                <a:srgbClr val="000000"/>
              </a:solidFill>
              <a:latin typeface="Arial"/>
            </a:endParaRPr>
          </a:p>
        </p:txBody>
      </p:sp>
      <p:sp>
        <p:nvSpPr>
          <p:cNvPr id="17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ntes en esta escuela se trabajaba con niños hijos de campesino, hijo de temporera, pero ahora con la ampliación y la erradicación de muchas personas de poblaciones de Santiago, acá a la comuna ha llegado mucho niño de población y que traen muchos hábitos, malos hábitos y malas costumbres"(Municipal)</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Este colegio partió muy de campo, rural. Ahora son minoría los niños de campo, aquí ya no quedan tierras de cultivo, ya no hay campo…… aquí generalmente son padres que están toda la semana fuera y llegan el día viernes y los niños con la mamá en la casa o solos"(Particular subven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breza y vulnerabilidad</a:t>
            </a:r>
            <a:endParaRPr b="0" lang="en-US" sz="4200" spc="-1" strike="noStrike">
              <a:solidFill>
                <a:srgbClr val="000000"/>
              </a:solidFill>
              <a:latin typeface="Arial"/>
            </a:endParaRPr>
          </a:p>
        </p:txBody>
      </p:sp>
      <p:sp>
        <p:nvSpPr>
          <p:cNvPr id="17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t>
            </a:r>
            <a:r>
              <a:rPr b="0" i="1" lang="es-ES" sz="2100" spc="-1" strike="noStrike">
                <a:solidFill>
                  <a:srgbClr val="000000"/>
                </a:solidFill>
                <a:latin typeface="Arial"/>
              </a:rPr>
              <a:t>Viven medios hacinados con su padre, su madre, el padre llega borracho y hace lo que quiere con la madre, tenemos niños con violaciones severas, aquí, esto no lo sabe todo el mundo, pero esta es la realidad" (Particular Subvencionad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hora en noviembre tuvimos un niño de séptimo que trató de matarse, tenia problemas familiares, el papá se había ido de la casa, había abandonado el hogar, habían peleado el matrimonio, la señora estaba muy mal y se desquitaba con el niño, lo mandaba a hacer las cosas y lo trataba muy mail y más encima tuvo tres ramos rojos e iba a repetir, así que el chico colapso" (Particular Subven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Gestión Escolar</a:t>
            </a:r>
            <a:endParaRPr b="0" lang="en-US" sz="4200" spc="-1" strike="noStrike">
              <a:solidFill>
                <a:srgbClr val="000000"/>
              </a:solidFill>
              <a:latin typeface="Arial"/>
            </a:endParaRPr>
          </a:p>
        </p:txBody>
      </p:sp>
      <p:sp>
        <p:nvSpPr>
          <p:cNvPr id="17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El equipo como es pequeño, es fácil la comunicación porque prácticamente es verbal, nos vemos a diario, nos reunimos semanalmente, la comunicación es bastante fluida, no hay problema de que las personas reconozcan ciertas situaciones administrativas, o de ordenamiento técnico"(Particular Subvencionad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2100" spc="-1" strike="noStrike">
              <a:solidFill>
                <a:srgbClr val="000000"/>
              </a:solidFill>
              <a:latin typeface="Arial"/>
            </a:endParaRPr>
          </a:p>
        </p:txBody>
      </p:sp>
      <p:sp>
        <p:nvSpPr>
          <p:cNvPr id="180" name="Line 5"/>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ilos, estructura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ol de las percepcion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iangulación de informació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binación de información cuantitativa con cualitativa</a:t>
            </a:r>
            <a:endParaRPr b="0" lang="en-US" sz="3000" spc="-1" strike="noStrike">
              <a:solidFill>
                <a:srgbClr val="000000"/>
              </a:solidFill>
              <a:latin typeface="Arial"/>
            </a:endParaRPr>
          </a:p>
        </p:txBody>
      </p:sp>
      <p:sp>
        <p:nvSpPr>
          <p:cNvPr id="182" name="PlaceHolder 2"/>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Redacción del inform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ller de estudios de cas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tregar algunos lineamientos para realizar análisis de contenido para los estudios de caso</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cordar algunos elementos básicos de la operacionalización de las variabl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jercicio práctico de operacionalización de variabl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Line 4"/>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5" name="Line 5"/>
          <p:cNvSpPr/>
          <p:nvPr/>
        </p:nvSpPr>
        <p:spPr>
          <a:xfrm>
            <a:off x="1547640" y="580536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107"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809360" y="260280"/>
            <a:ext cx="7010280" cy="2532240"/>
          </a:xfrm>
          <a:prstGeom prst="rect">
            <a:avLst/>
          </a:prstGeom>
          <a:solidFill>
            <a:srgbClr val="cccccc">
              <a:alpha val="60000"/>
            </a:srgbClr>
          </a:solid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La operacionalización "el proceso mediante el cual se transforma la Dimensión de conceptos abstractos a términos concretos, observables y medibles, es decir, variables e indicado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1884240" y="699480"/>
            <a:ext cx="6107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Tahoma"/>
                <a:ea typeface="Times New Roman"/>
              </a:rPr>
              <a:t>OPERACIONALIZACIÓN DE VARIABLES Y CONCEPTO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10" name="Group 3"/>
          <p:cNvGrpSpPr/>
          <p:nvPr/>
        </p:nvGrpSpPr>
        <p:grpSpPr>
          <a:xfrm>
            <a:off x="735120" y="1292400"/>
            <a:ext cx="8229600" cy="4914720"/>
            <a:chOff x="735120" y="1292400"/>
            <a:chExt cx="8229600" cy="4914720"/>
          </a:xfrm>
        </p:grpSpPr>
        <p:sp>
          <p:nvSpPr>
            <p:cNvPr id="111" name="AutoShape 4"/>
            <p:cNvSpPr/>
            <p:nvPr/>
          </p:nvSpPr>
          <p:spPr>
            <a:xfrm>
              <a:off x="735120" y="1292400"/>
              <a:ext cx="8229600" cy="491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Text Box 5"/>
            <p:cNvSpPr/>
            <p:nvPr/>
          </p:nvSpPr>
          <p:spPr>
            <a:xfrm>
              <a:off x="2906640" y="1406520"/>
              <a:ext cx="17143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ahoma"/>
                  <a:ea typeface="Times New Roman"/>
                </a:rPr>
                <a:t>DEPRIVACIÓN</a:t>
              </a:r>
              <a:endParaRPr b="0" lang="en-US" sz="1400" spc="-1" strike="noStrike">
                <a:solidFill>
                  <a:srgbClr val="336666"/>
                </a:solidFill>
                <a:latin typeface="Arial"/>
              </a:endParaRPr>
            </a:p>
          </p:txBody>
        </p:sp>
        <p:sp>
          <p:nvSpPr>
            <p:cNvPr id="113" name="Text Box 6"/>
            <p:cNvSpPr/>
            <p:nvPr/>
          </p:nvSpPr>
          <p:spPr>
            <a:xfrm>
              <a:off x="73512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ISICA</a:t>
              </a:r>
              <a:endParaRPr b="0" lang="en-US" sz="1200" spc="-1" strike="noStrike">
                <a:solidFill>
                  <a:srgbClr val="336666"/>
                </a:solidFill>
                <a:latin typeface="Arial"/>
              </a:endParaRPr>
            </a:p>
          </p:txBody>
        </p:sp>
        <p:sp>
          <p:nvSpPr>
            <p:cNvPr id="114" name="Text Box 7"/>
            <p:cNvSpPr/>
            <p:nvPr/>
          </p:nvSpPr>
          <p:spPr>
            <a:xfrm>
              <a:off x="1877760" y="1978200"/>
              <a:ext cx="1257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CONÓMICA</a:t>
              </a:r>
              <a:endParaRPr b="0" lang="en-US" sz="1200" spc="-1" strike="noStrike">
                <a:solidFill>
                  <a:srgbClr val="336666"/>
                </a:solidFill>
                <a:latin typeface="Arial"/>
              </a:endParaRPr>
            </a:p>
          </p:txBody>
        </p:sp>
        <p:sp>
          <p:nvSpPr>
            <p:cNvPr id="115" name="Text Box 8"/>
            <p:cNvSpPr/>
            <p:nvPr/>
          </p:nvSpPr>
          <p:spPr>
            <a:xfrm>
              <a:off x="324936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Verdana"/>
                  <a:ea typeface="Times New Roman"/>
                </a:rPr>
                <a:t>SOCIAL</a:t>
              </a:r>
              <a:endParaRPr b="0" lang="en-US" sz="1200" spc="-1" strike="noStrike">
                <a:solidFill>
                  <a:srgbClr val="336666"/>
                </a:solidFill>
                <a:latin typeface="Arial"/>
              </a:endParaRPr>
            </a:p>
          </p:txBody>
        </p:sp>
        <p:sp>
          <p:nvSpPr>
            <p:cNvPr id="116" name="Text Box 9"/>
            <p:cNvSpPr/>
            <p:nvPr/>
          </p:nvSpPr>
          <p:spPr>
            <a:xfrm>
              <a:off x="4392720" y="1978200"/>
              <a:ext cx="11426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OLÍTICA</a:t>
              </a:r>
              <a:endParaRPr b="0" lang="en-US" sz="1200" spc="-1" strike="noStrike">
                <a:solidFill>
                  <a:srgbClr val="336666"/>
                </a:solidFill>
                <a:latin typeface="Arial"/>
              </a:endParaRPr>
            </a:p>
          </p:txBody>
        </p:sp>
        <p:sp>
          <p:nvSpPr>
            <p:cNvPr id="117" name="Text Box 10"/>
            <p:cNvSpPr/>
            <p:nvPr/>
          </p:nvSpPr>
          <p:spPr>
            <a:xfrm>
              <a:off x="5649840" y="1978200"/>
              <a:ext cx="1485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SICOLÓGICA</a:t>
              </a:r>
              <a:endParaRPr b="0" lang="en-US" sz="1200" spc="-1" strike="noStrike">
                <a:solidFill>
                  <a:srgbClr val="336666"/>
                </a:solidFill>
                <a:latin typeface="Arial"/>
              </a:endParaRPr>
            </a:p>
          </p:txBody>
        </p:sp>
        <p:sp>
          <p:nvSpPr>
            <p:cNvPr id="118" name="Text Box 11"/>
            <p:cNvSpPr/>
            <p:nvPr/>
          </p:nvSpPr>
          <p:spPr>
            <a:xfrm>
              <a:off x="849240" y="2607480"/>
              <a:ext cx="2057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ISLAMIENTO SOCIAL</a:t>
              </a:r>
              <a:endParaRPr b="0" lang="en-US" sz="1200" spc="-1" strike="noStrike">
                <a:solidFill>
                  <a:srgbClr val="336666"/>
                </a:solidFill>
                <a:latin typeface="Arial"/>
              </a:endParaRPr>
            </a:p>
          </p:txBody>
        </p:sp>
        <p:sp>
          <p:nvSpPr>
            <p:cNvPr id="119" name="Text Box 12"/>
            <p:cNvSpPr/>
            <p:nvPr/>
          </p:nvSpPr>
          <p:spPr>
            <a:xfrm>
              <a:off x="3021120" y="2606760"/>
              <a:ext cx="1942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USENCIA ROLES SOCIALES VALORADOS</a:t>
              </a:r>
              <a:endParaRPr b="0" lang="en-US" sz="1200" spc="-1" strike="noStrike">
                <a:solidFill>
                  <a:srgbClr val="336666"/>
                </a:solidFill>
                <a:latin typeface="Arial"/>
              </a:endParaRPr>
            </a:p>
          </p:txBody>
        </p:sp>
        <p:sp>
          <p:nvSpPr>
            <p:cNvPr id="120" name="Text Box 13"/>
            <p:cNvSpPr/>
            <p:nvPr/>
          </p:nvSpPr>
          <p:spPr>
            <a:xfrm>
              <a:off x="5078520" y="2606760"/>
              <a:ext cx="20574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ALTA DE HABILIDADES SOCIALES</a:t>
              </a:r>
              <a:endParaRPr b="0" lang="en-US" sz="1200" spc="-1" strike="noStrike">
                <a:solidFill>
                  <a:srgbClr val="336666"/>
                </a:solidFill>
                <a:latin typeface="Arial"/>
              </a:endParaRPr>
            </a:p>
          </p:txBody>
        </p:sp>
        <p:sp>
          <p:nvSpPr>
            <p:cNvPr id="121" name="Text Box 14"/>
            <p:cNvSpPr/>
            <p:nvPr/>
          </p:nvSpPr>
          <p:spPr>
            <a:xfrm>
              <a:off x="963360" y="3497400"/>
              <a:ext cx="19429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EL AISLAMIENTO SOCIAL</a:t>
              </a:r>
              <a:endParaRPr b="0" lang="en-US" sz="1200" spc="-1" strike="noStrike">
                <a:solidFill>
                  <a:srgbClr val="336666"/>
                </a:solidFill>
                <a:latin typeface="Arial"/>
              </a:endParaRPr>
            </a:p>
          </p:txBody>
        </p:sp>
        <p:sp>
          <p:nvSpPr>
            <p:cNvPr id="122" name="Text Box 15"/>
            <p:cNvSpPr/>
            <p:nvPr/>
          </p:nvSpPr>
          <p:spPr>
            <a:xfrm>
              <a:off x="3021120" y="3497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AUSENCIA ROLES SOCIALES VALORADOS</a:t>
              </a:r>
              <a:endParaRPr b="0" lang="en-US" sz="1200" spc="-1" strike="noStrike">
                <a:solidFill>
                  <a:srgbClr val="336666"/>
                </a:solidFill>
                <a:latin typeface="Arial"/>
              </a:endParaRPr>
            </a:p>
          </p:txBody>
        </p:sp>
        <p:sp>
          <p:nvSpPr>
            <p:cNvPr id="123" name="Text Box 16"/>
            <p:cNvSpPr/>
            <p:nvPr/>
          </p:nvSpPr>
          <p:spPr>
            <a:xfrm>
              <a:off x="5078520" y="3497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FALTA DE HABILIDADES SOCIALES</a:t>
              </a:r>
              <a:endParaRPr b="0" lang="en-US" sz="1200" spc="-1" strike="noStrike">
                <a:solidFill>
                  <a:srgbClr val="336666"/>
                </a:solidFill>
                <a:latin typeface="Arial"/>
              </a:endParaRPr>
            </a:p>
          </p:txBody>
        </p:sp>
        <p:sp>
          <p:nvSpPr>
            <p:cNvPr id="124" name="Text Box 17"/>
            <p:cNvSpPr/>
            <p:nvPr/>
          </p:nvSpPr>
          <p:spPr>
            <a:xfrm>
              <a:off x="963360" y="4729320"/>
              <a:ext cx="1942920" cy="13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Cantidad amigo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Contacto con familia</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Participación en organizacione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4. Contacto c/vecinos</a:t>
              </a:r>
              <a:endParaRPr b="0" lang="en-US" sz="1200" spc="-1" strike="noStrike">
                <a:solidFill>
                  <a:srgbClr val="336666"/>
                </a:solidFill>
                <a:latin typeface="Arial"/>
              </a:endParaRPr>
            </a:p>
          </p:txBody>
        </p:sp>
        <p:sp>
          <p:nvSpPr>
            <p:cNvPr id="125" name="Text Box 18"/>
            <p:cNvSpPr/>
            <p:nvPr/>
          </p:nvSpPr>
          <p:spPr>
            <a:xfrm>
              <a:off x="3021120" y="4721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Sexo</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Ocupac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Estado civil</a:t>
              </a:r>
              <a:endParaRPr b="0" lang="en-US" sz="1200" spc="-1" strike="noStrike">
                <a:solidFill>
                  <a:srgbClr val="336666"/>
                </a:solidFill>
                <a:latin typeface="Arial"/>
              </a:endParaRPr>
            </a:p>
          </p:txBody>
        </p:sp>
        <p:sp>
          <p:nvSpPr>
            <p:cNvPr id="126" name="Text Box 19"/>
            <p:cNvSpPr/>
            <p:nvPr/>
          </p:nvSpPr>
          <p:spPr>
            <a:xfrm>
              <a:off x="5078520" y="4721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Escala de introversión/ extrovers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Escala de asertividad</a:t>
              </a:r>
              <a:endParaRPr b="0" lang="en-US" sz="1200" spc="-1" strike="noStrike">
                <a:solidFill>
                  <a:srgbClr val="336666"/>
                </a:solidFill>
                <a:latin typeface="Arial"/>
              </a:endParaRPr>
            </a:p>
          </p:txBody>
        </p:sp>
        <p:sp>
          <p:nvSpPr>
            <p:cNvPr id="127" name="Text Box 20"/>
            <p:cNvSpPr/>
            <p:nvPr/>
          </p:nvSpPr>
          <p:spPr>
            <a:xfrm>
              <a:off x="7364520" y="140652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CONCEPTO</a:t>
              </a:r>
              <a:endParaRPr b="0" lang="en-US" sz="1200" spc="-1" strike="noStrike">
                <a:solidFill>
                  <a:srgbClr val="336666"/>
                </a:solidFill>
                <a:latin typeface="Arial"/>
              </a:endParaRPr>
            </a:p>
          </p:txBody>
        </p:sp>
        <p:sp>
          <p:nvSpPr>
            <p:cNvPr id="128" name="Text Box 21"/>
            <p:cNvSpPr/>
            <p:nvPr/>
          </p:nvSpPr>
          <p:spPr>
            <a:xfrm>
              <a:off x="7364520" y="197820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IMENSIONES</a:t>
              </a:r>
              <a:endParaRPr b="0" lang="en-US" sz="1200" spc="-1" strike="noStrike">
                <a:solidFill>
                  <a:srgbClr val="336666"/>
                </a:solidFill>
                <a:latin typeface="Arial"/>
              </a:endParaRPr>
            </a:p>
          </p:txBody>
        </p:sp>
        <p:sp>
          <p:nvSpPr>
            <p:cNvPr id="129" name="Text Box 22"/>
            <p:cNvSpPr/>
            <p:nvPr/>
          </p:nvSpPr>
          <p:spPr>
            <a:xfrm>
              <a:off x="7364520" y="2549520"/>
              <a:ext cx="1371600" cy="91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SUB-DIMENSIONES</a:t>
              </a:r>
              <a:endParaRPr b="0" lang="en-US" sz="1200" spc="-1" strike="noStrike">
                <a:solidFill>
                  <a:srgbClr val="336666"/>
                </a:solidFill>
                <a:latin typeface="Arial"/>
              </a:endParaRPr>
            </a:p>
          </p:txBody>
        </p:sp>
        <p:sp>
          <p:nvSpPr>
            <p:cNvPr id="130" name="Text Box 23"/>
            <p:cNvSpPr/>
            <p:nvPr/>
          </p:nvSpPr>
          <p:spPr>
            <a:xfrm>
              <a:off x="7364520" y="3463920"/>
              <a:ext cx="13716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EFINICIONES OPERACIONALES</a:t>
              </a:r>
              <a:endParaRPr b="0" lang="en-US" sz="1200" spc="-1" strike="noStrike">
                <a:solidFill>
                  <a:srgbClr val="336666"/>
                </a:solidFill>
                <a:latin typeface="Arial"/>
              </a:endParaRPr>
            </a:p>
          </p:txBody>
        </p:sp>
        <p:sp>
          <p:nvSpPr>
            <p:cNvPr id="131" name="Text Box 24"/>
            <p:cNvSpPr/>
            <p:nvPr/>
          </p:nvSpPr>
          <p:spPr>
            <a:xfrm>
              <a:off x="7364520" y="4721400"/>
              <a:ext cx="13716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INDICADORES</a:t>
              </a:r>
              <a:endParaRPr b="0" lang="en-US" sz="1200" spc="-1" strike="noStrike">
                <a:solidFill>
                  <a:srgbClr val="336666"/>
                </a:solidFill>
                <a:latin typeface="Arial"/>
              </a:endParaRPr>
            </a:p>
          </p:txBody>
        </p:sp>
        <p:sp>
          <p:nvSpPr>
            <p:cNvPr id="132" name="Line 25"/>
            <p:cNvSpPr/>
            <p:nvPr/>
          </p:nvSpPr>
          <p:spPr>
            <a:xfrm flipH="1">
              <a:off x="1649160" y="1635120"/>
              <a:ext cx="10285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3" name="Line 26"/>
            <p:cNvSpPr/>
            <p:nvPr/>
          </p:nvSpPr>
          <p:spPr>
            <a:xfrm flipH="1">
              <a:off x="2563920" y="1749240"/>
              <a:ext cx="3427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Line 27"/>
            <p:cNvSpPr/>
            <p:nvPr/>
          </p:nvSpPr>
          <p:spPr>
            <a:xfrm>
              <a:off x="3706920" y="1635120"/>
              <a:ext cx="7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Line 28"/>
            <p:cNvSpPr/>
            <p:nvPr/>
          </p:nvSpPr>
          <p:spPr>
            <a:xfrm>
              <a:off x="4621320" y="1635120"/>
              <a:ext cx="5713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Line 29"/>
            <p:cNvSpPr/>
            <p:nvPr/>
          </p:nvSpPr>
          <p:spPr>
            <a:xfrm>
              <a:off x="4849920" y="1521000"/>
              <a:ext cx="9144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Line 30"/>
            <p:cNvSpPr/>
            <p:nvPr/>
          </p:nvSpPr>
          <p:spPr>
            <a:xfrm flipH="1">
              <a:off x="2792160" y="2320920"/>
              <a:ext cx="342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Line 31"/>
            <p:cNvSpPr/>
            <p:nvPr/>
          </p:nvSpPr>
          <p:spPr>
            <a:xfrm>
              <a:off x="3706920" y="2206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Line 32"/>
            <p:cNvSpPr/>
            <p:nvPr/>
          </p:nvSpPr>
          <p:spPr>
            <a:xfrm>
              <a:off x="4278240" y="2320920"/>
              <a:ext cx="799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Line 33"/>
            <p:cNvSpPr/>
            <p:nvPr/>
          </p:nvSpPr>
          <p:spPr>
            <a:xfrm>
              <a:off x="1877760" y="289260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Line 34"/>
            <p:cNvSpPr/>
            <p:nvPr/>
          </p:nvSpPr>
          <p:spPr>
            <a:xfrm>
              <a:off x="1877760" y="43783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Line 35"/>
            <p:cNvSpPr/>
            <p:nvPr/>
          </p:nvSpPr>
          <p:spPr>
            <a:xfrm>
              <a:off x="3706920" y="323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Line 36"/>
            <p:cNvSpPr/>
            <p:nvPr/>
          </p:nvSpPr>
          <p:spPr>
            <a:xfrm>
              <a:off x="5992920" y="31208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Line 37"/>
            <p:cNvSpPr/>
            <p:nvPr/>
          </p:nvSpPr>
          <p:spPr>
            <a:xfrm>
              <a:off x="370692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Line 38"/>
            <p:cNvSpPr/>
            <p:nvPr/>
          </p:nvSpPr>
          <p:spPr>
            <a:xfrm>
              <a:off x="587844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46" name="Rectangle 39"/>
          <p:cNvSpPr/>
          <p:nvPr/>
        </p:nvSpPr>
        <p:spPr>
          <a:xfrm>
            <a:off x="0" y="60246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9" name=""/>
          <p:cNvGraphicFramePr/>
          <p:nvPr/>
        </p:nvGraphicFramePr>
        <p:xfrm>
          <a:off x="1509840" y="1824120"/>
          <a:ext cx="7022880" cy="5016240"/>
        </p:xfrm>
        <a:graphic>
          <a:graphicData uri="http://schemas.openxmlformats.org/drawingml/2006/table">
            <a:tbl>
              <a:tblPr/>
              <a:tblGrid>
                <a:gridCol w="1512720"/>
                <a:gridCol w="1938240"/>
                <a:gridCol w="3571920"/>
              </a:tblGrid>
              <a:tr h="5043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mens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derazgo Directiv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ariab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otiv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iderazg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dicador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Dirección del flujo de inform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ormas y vías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pertura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luidez.</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lima organizaciona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Valoración del desempeño docente.</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rabajo en camp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rticip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ogr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Uso de la generación del temor.</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ipos de liderazg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utoridad.</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ontro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etas instituciona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Interés por el personal.</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sp>
        <p:nvSpPr>
          <p:cNvPr id="15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Un Ejercici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0-04-06T17:29:12Z</dcterms:modified>
  <cp:revision>71</cp:revision>
  <dc:subject/>
  <dc:title>TALLER INTRODUCTORIO  ESTUDIOS DE CASO</dc:title>
</cp:coreProperties>
</file>