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80A1-701A-4A39-975B-A4E22B12B0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E718-13CA-46E4-907C-3CF3C419A9E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F4FA-B31B-4B25-A2F1-DA3E4AF935C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E004-6D3F-4E48-B4D7-BB9D27EE122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57AD-74E4-4E08-B0A8-33C676A264A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FDCF-1B40-4CDF-BE71-DCA4D8ED530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E293-BA11-472F-91B5-DB3C944E2EE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8B56-063D-4D79-AE48-38BA38E91CA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AD1E0-80F2-4FAA-A130-39BA55170A8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858C-30BC-4EF4-88A7-709F226A0F4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F011-4F02-48A6-AA53-FB549A9511D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B277-B0FA-42F8-A4F5-A19B8B4C2DC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BC78-3CD8-4802-A3F0-1E426C9CDD1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CA7B-0555-418A-B2C9-CCC5F071049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4EE2-D1BF-4277-8172-9CC0CBBEC9A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6261-A111-426C-B152-3816DDE7B15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7445-7DDD-4B16-9326-6C2B6F62C36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B0CA-57DC-4DDF-9088-B0E64EBC876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B787-9E4A-477E-8EF5-4220AA38B1C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A5030-B222-4267-9602-99227BEBDA0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60A5-814F-4D11-9F8C-E1C2E35DA31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6DCDE-8AEE-416C-9FE6-15A3BAF8B19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736E-8976-4DA3-A68E-BDCAA777A73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3FA9-A4C2-46DD-A3C0-872D0C20893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72324-BD03-4645-90D6-50CA76AD3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8915B-C562-4B2A-8FE3-A226BBC7B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98258-FA97-4738-BE22-4C5B4F70F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25E1F-00B8-411E-B180-B9B12168C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933BD-1DBD-47D2-8714-6D31F7AD2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AF3AB-2502-4E7C-A8F2-64EAE246D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AC9DD-8374-482A-8762-4C1DB874C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68A17-00D7-4DEF-A2D8-0616E1479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D0E6F-9F47-4309-A9D9-F97E65298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3ABCFC-336A-4E8C-B36C-924BA21F8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6A250-DC68-4859-AFA8-FF9FCB156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6D420-E6D1-4E89-970C-F67590497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018F4-2984-422F-950E-6A6DCBE62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38887-2294-45CC-A5F1-39E269B42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DF786-CE4C-4579-8A65-FEF9C7D93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15994-3F93-4784-81D8-BA5CDC14C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734B3-B4E3-4C93-BD23-1BEA58F49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9E85D-C44B-4195-93A2-0C57507DC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97CE8-296E-43F4-A594-D92B89AF5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6A29D-C0F6-415C-B32E-115BA5962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7D150-F018-486F-9B28-CE3B0B06F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C161A-52AC-45E9-9F5C-DBAB07233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45BE-C443-42FE-BFC5-E14C512FC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C6F1-FF53-4B63-93C7-BA903681B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9205-FDA2-4168-92E7-46382BBCA7B2}"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511B-22DC-44C0-8799-626EFA32322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7EDF-663C-497C-82BD-4ED7F2D30C8B}" type="datetime">
              <a:rPr b="0" lang="es-ES" sz="1000" spc="-1" strike="noStrike">
                <a:solidFill>
                  <a:srgbClr val="336666"/>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7B99-B4EF-4954-8264-1A2D690E3340}"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2"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4"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68"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169"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1"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172"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 calcmode="lin" valueType="num">
                                      <p:cBhvr additive="base">
                                        <p:cTn id="7"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1">
                                            <p:txEl>
                                              <p:pRg st="2" end="2"/>
                                            </p:txEl>
                                          </p:spTgt>
                                        </p:tgtEl>
                                        <p:attrNameLst>
                                          <p:attrName>style.visibility</p:attrName>
                                        </p:attrNameLst>
                                      </p:cBhvr>
                                      <p:to>
                                        <p:strVal val="visible"/>
                                      </p:to>
                                    </p:set>
                                    <p:anim calcmode="lin" valueType="num">
                                      <p:cBhvr additive="base">
                                        <p:cTn id="13"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72"/>
                                        </p:tgtEl>
                                        <p:attrNameLst>
                                          <p:attrName>style.visibility</p:attrName>
                                        </p:attrNameLst>
                                      </p:cBhvr>
                                      <p:to>
                                        <p:strVal val="visible"/>
                                      </p:to>
                                    </p:set>
                                    <p:anim calcmode="lin" valueType="num">
                                      <p:cBhvr additive="base">
                                        <p:cTn id="17" dur="500" fill="hold"/>
                                        <p:tgtEl>
                                          <p:spTgt spid="172"/>
                                        </p:tgtEl>
                                        <p:attrNameLst>
                                          <p:attrName>ppt_x</p:attrName>
                                        </p:attrNameLst>
                                      </p:cBhvr>
                                      <p:tavLst>
                                        <p:tav tm="0">
                                          <p:val>
                                            <p:strVal val="#ppt_x"/>
                                          </p:val>
                                        </p:tav>
                                        <p:tav tm="100000">
                                          <p:val>
                                            <p:strVal val="#ppt_x"/>
                                          </p:val>
                                        </p:tav>
                                      </p:tavLst>
                                    </p:anim>
                                    <p:anim calcmode="lin" valueType="num">
                                      <p:cBhvr additive="base">
                                        <p:cTn id="1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1">
                                            <p:txEl>
                                              <p:pRg st="4" end="4"/>
                                            </p:txEl>
                                          </p:spTgt>
                                        </p:tgtEl>
                                        <p:attrNameLst>
                                          <p:attrName>style.visibility</p:attrName>
                                        </p:attrNameLst>
                                      </p:cBhvr>
                                      <p:to>
                                        <p:strVal val="visible"/>
                                      </p:to>
                                    </p:set>
                                    <p:anim calcmode="lin" valueType="num">
                                      <p:cBhvr additive="base">
                                        <p:cTn id="2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base">
                                        <p:cTn id="27" dur="500" fill="hold"/>
                                        <p:tgtEl>
                                          <p:spTgt spid="173"/>
                                        </p:tgtEl>
                                        <p:attrNameLst>
                                          <p:attrName>ppt_x</p:attrName>
                                        </p:attrNameLst>
                                      </p:cBhvr>
                                      <p:tavLst>
                                        <p:tav tm="0">
                                          <p:val>
                                            <p:strVal val="#ppt_x"/>
                                          </p:val>
                                        </p:tav>
                                        <p:tav tm="100000">
                                          <p:val>
                                            <p:strVal val="#ppt_x"/>
                                          </p:val>
                                        </p:tav>
                                      </p:tavLst>
                                    </p:anim>
                                    <p:anim calcmode="lin" valueType="num">
                                      <p:cBhvr additive="base">
                                        <p:cTn id="2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1">
                                            <p:txEl>
                                              <p:pRg st="6" end="6"/>
                                            </p:txEl>
                                          </p:spTgt>
                                        </p:tgtEl>
                                        <p:attrNameLst>
                                          <p:attrName>style.visibility</p:attrName>
                                        </p:attrNameLst>
                                      </p:cBhvr>
                                      <p:to>
                                        <p:strVal val="visible"/>
                                      </p:to>
                                    </p:set>
                                    <p:anim calcmode="lin" valueType="num">
                                      <p:cBhvr additive="base">
                                        <p:cTn id="3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1">
                                            <p:txEl>
                                              <p:pRg st="6" end="6"/>
                                            </p:txEl>
                                          </p:spTgt>
                                        </p:tgtEl>
                                        <p:attrNameLst>
                                          <p:attrName>style.visibility</p:attrName>
                                        </p:attrNameLst>
                                      </p:cBhvr>
                                      <p:to>
                                        <p:strVal val="visible"/>
                                      </p:to>
                                    </p:set>
                                    <p:anim calcmode="lin" valueType="num">
                                      <p:cBhvr additive="base">
                                        <p:cTn id="39"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Narrow"/>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r conceptos básicos de operacionalización de variables y su relevancia para un estudio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rabajo individual: avanzar hacia la operacionalización de las variables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texto social y territorial</a:t>
            </a:r>
            <a:endParaRPr b="0" lang="en-US" sz="4200" spc="-1" strike="noStrike">
              <a:solidFill>
                <a:srgbClr val="000000"/>
              </a:solidFill>
              <a:latin typeface="Arial"/>
            </a:endParaRPr>
          </a:p>
        </p:txBody>
      </p:sp>
      <p:sp>
        <p:nvSpPr>
          <p:cNvPr id="1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ntes en esta escuela se trabajaba con niños hijos de campesino, hijo de temporera, pero ahora con la ampliación y la erradicación de muchas personas de poblaciones de Santiago, acá a la comuna ha llegado mucho niño de población y que traen muchos hábitos, malos hábitos y malas costumbres"(Municip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ste colegio partió muy de campo, rural. Ahora son minoría los niños de campo, aquí ya no quedan tierras de cultivo, ya no hay campo…… aquí generalmente son padres que están toda la semana fuera y llegan el día viernes y los niños con la mamá en la casa o solos"(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breza y vulnerabilidad</a:t>
            </a:r>
            <a:endParaRPr b="0" lang="en-US" sz="4200" spc="-1" strike="noStrike">
              <a:solidFill>
                <a:srgbClr val="000000"/>
              </a:solidFill>
              <a:latin typeface="Arial"/>
            </a:endParaRPr>
          </a:p>
        </p:txBody>
      </p:sp>
      <p:sp>
        <p:nvSpPr>
          <p:cNvPr id="17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t>
            </a:r>
            <a:r>
              <a:rPr b="0" i="1" lang="es-ES" sz="2100" spc="-1" strike="noStrike">
                <a:solidFill>
                  <a:srgbClr val="000000"/>
                </a:solidFill>
                <a:latin typeface="Arial"/>
              </a:rPr>
              <a:t>Viven medios hacinados con su padre, su madre, el padre llega borracho y hace lo que quiere con la madre, tenemos niños con violaciones severas, aquí, esto no lo sabe todo el mundo, pero esta es la realidad" (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hora en noviembre tuvimos un niño de séptimo que trató de matarse, tenia problemas familiares, el papá se había ido de la casa, había abandonado el hogar, habían peleado el matrimonio, la señora estaba muy mal y se desquitaba con el niño, lo mandaba a hacer las cosas y lo trataba muy mail y más encima tuvo tres ramos rojos e iba a repetir, así que el chico colapso" (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Gestión Escolar</a:t>
            </a: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l equipo como es pequeño, es fácil la comunicación porque prácticamente es verbal, nos vemos a diario, nos reunimos semanalmente, la comunicación es bastante fluida, no hay problema de que las personas reconozcan ciertas situaciones administrativas, o de ordenamiento técnico"(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2100" spc="-1" strike="noStrike">
              <a:solidFill>
                <a:srgbClr val="000000"/>
              </a:solidFill>
              <a:latin typeface="Arial"/>
            </a:endParaRPr>
          </a:p>
        </p:txBody>
      </p:sp>
      <p:sp>
        <p:nvSpPr>
          <p:cNvPr id="180" name="Line 5"/>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los, estructura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ol de las percepcion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iangulación de informació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binación de información cuantitativa con cualitativa</a:t>
            </a:r>
            <a:endParaRPr b="0" lang="en-US" sz="3000" spc="-1" strike="noStrike">
              <a:solidFill>
                <a:srgbClr val="000000"/>
              </a:solidFill>
              <a:latin typeface="Arial"/>
            </a:endParaRPr>
          </a:p>
        </p:txBody>
      </p:sp>
      <p:sp>
        <p:nvSpPr>
          <p:cNvPr id="1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ller de estudios de cas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5"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107"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0" name="Group 3"/>
          <p:cNvGrpSpPr/>
          <p:nvPr/>
        </p:nvGrpSpPr>
        <p:grpSpPr>
          <a:xfrm>
            <a:off x="735120" y="1292400"/>
            <a:ext cx="8229600" cy="4914720"/>
            <a:chOff x="735120" y="1292400"/>
            <a:chExt cx="8229600" cy="4914720"/>
          </a:xfrm>
        </p:grpSpPr>
        <p:sp>
          <p:nvSpPr>
            <p:cNvPr id="111"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113"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114"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115"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116"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117"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118"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119"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120"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121"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122"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123"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124"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125"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126"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127"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128"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129"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130"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131"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132"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46"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1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0-04-06T17:29:12Z</dcterms:modified>
  <cp:revision>71</cp:revision>
  <dc:subject/>
  <dc:title>TALLER INTRODUCTORIO  ESTUDIOS DE CASO</dc:title>
</cp:coreProperties>
</file>