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FABB-A125-4ABB-AACB-CFF9BC63FBE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B5DB-0330-45DD-9982-5081B1430B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2E08-CAFA-474E-A91C-9D7349B49F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D56D-2027-4B83-B617-3CD6D8831CB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EE9F-20DE-44E4-93EB-B84079536C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ABA-8474-4C6A-A705-111287F9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1AE-D157-40F4-B009-C243B567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4C9-0DEC-4B00-AD60-6BF09CEE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7AA-E3BC-4824-AD0C-4E096500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90B-165E-4D5F-A10D-FFA79A6B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A03-D73F-4085-B3D0-F07FA880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070-765B-484C-BE9F-6652953B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DF1-2008-4929-8EF6-AFF0D62D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E20-AD37-4E4C-8C6C-E2EE03C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308-431B-4741-B204-0FAB4B87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CED-DEAE-4A33-BCA0-69F58E8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FB1-DAE3-4485-B94B-0318D39F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9F55-9ABC-4D91-B5EC-B13808809CF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a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lejandra Mizala (Dii- MGPP). Temas de Pensiones y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rio Waissbluth – José Inostroza (Dii- MGPP) Análisis institucional. Modernización del Estad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ablo González (Dii y PNUD). Análisis econométricos en Educ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Rony Fischer (Dii) Temas de regulación e incentivos. Libre compet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steban Zarate (Dii) Políticas públicas y turismo. Desarrollo territor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José Zanlungo (Dii) Programa Cluster y Territo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. Fernanda Melis (dii). Temas de pobreza y educación, análisis de encuestas de hogar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tteo Triossi (DII) Economía Polític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ilar Romaguera (DII). Economia de la educación, educación superio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795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implementación de Políticas Públicas en su dimensión nacional, regional y local (PGPP) en educación, seguridad ciudadana y sistema de protección soc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Educación Superior (Enrique Fernández Oscar Espinoza, Andrés Bernasconi y José Joaquín Brunner,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anuel Krauskopf (prof MGP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Ignacia Fernández (prof MGPP)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descentralización, desarrollo local y política social a nivel loc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Vivien Villagrán (prof MGPP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os procesos de planificación de la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as modalidades de gestión de contratos en las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ropuestas para mantener y conservar el patrimonio de obras publ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Impacto de las inversiones de infraestructura en el empleo y crec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zabeth Guerrero (Prof MGPP). Implementación de políticas públicas, análisis a partir de metodología de estudio de caso desarrollada por Barcelay- Cortáza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Álvaro Väsquez (M. Economía).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Tecnología de Información y Modernización del Eº. Transpar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Carlos Lerda (prof MGPP) Finanzas Públicas y Descentraliz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Loreto Martínez (H de Cristo). Temas de pobreza, gestión de la fundación, sociedad civil- estado y temas de infa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Gabriela Rubilar (MGPP) Participación y Ciudadanía. Pobreza e inclusión Social. Interculturalida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Dorotea López (U.Chile- Cátedra OMC). Comercio internacional, tratados, análisis políticos de las relaciones comerciale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I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Alejandra Contreras (MGPP. Ingresa). Análisis de créditos con aval del Estado y temas asociad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sé Concha (MGPP). Temas del sistema de salud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rge Olave (PUC) Medio Ambiente, biodiversidad y Políticas Pública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ireya Dávila (MGPP- UAH). Tecnocracia, análisis técnico polít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Carlos  Andrade (MGPP). Vínculo público Privado y análisis con metodología multicrite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n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Claudia Serrano (Prof. MGPP). Desarrollo Territorial, especialmente en el ámbito ru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onzalo Muñoz (Fundación Chile). Directivos escolares, liderazgo escolar y temas de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avier Couso (Prof MGPP- UDP). Temas de la ética en el sector público y otr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erardo Valdebenito (MGPP-Infor). Temas foresta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20:18:43Z</dcterms:created>
  <dc:creator>M. Angelica Pavez</dc:creator>
  <dc:description/>
  <dc:language>en-US</dc:language>
  <cp:lastModifiedBy>M. Angelica Pavez</cp:lastModifiedBy>
  <dcterms:modified xsi:type="dcterms:W3CDTF">2010-08-12T21:10:31Z</dcterms:modified>
  <cp:revision>4</cp:revision>
  <dc:subject/>
  <dc:title>Algunos temas y ambitos de investigación que se ofrecen</dc:title>
</cp:coreProperties>
</file>