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F7D6-9AF1-485F-895C-32D27ADA2AA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8528-5EE4-4636-8FCA-E94033601B1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8D1D-3F4E-46D5-9980-CA0E10EF9F4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37C1-788E-45D9-BE7A-938F4B8C99B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ADE3-C1ED-4523-99BB-BD5974B081C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7895-3EB0-41E0-8977-8C7A7935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F68-D50F-4FE4-AAF9-29BE701D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56BF-EDB2-4142-B19D-9982F060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801-6537-404E-808F-52D0560B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B894-8B14-48B2-95F7-583329C3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15A9-4109-4FD2-A0A7-CBCDBC7D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DD7-840B-41B4-9404-F9A9325A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7F8E-705A-4884-9E97-3815F236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072-C891-46C3-9256-064E0306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E21-F86F-47DB-866B-4BF88843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CCCA-47AF-4432-99BB-0120BF19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720D-8D38-4AA2-A82D-AE4001B0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2A11-57A1-4626-A158-EA85C153109C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Algunos temas y ambitos de investigación que se ofrec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3552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Alejandra Mizala (Dii- MGPP). Temas de Pensiones y Educación en Gener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Mario Waissbluth – José Inostroza (Dii- MGPP) Análisis institucional. Modernización del Estad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Pablo González (Dii y PNUD). Análisis econométricos en Educació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Rony Fischer (Dii) Temas de regulación e incentivos. Libre competenci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Esteban Zarate (Dii) Políticas públicas y turismo. Desarrollo territori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Juan José Zanlungo (Dii) Programa Cluster y Territori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M. Fernanda Melis (dii). Temas de pobreza y educación, análisis de encuestas de hogar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Matteo Triossi (DII) Economía Polític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Pilar Romaguera (DII). Economia de la educación, educación superio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Algunos temas y ámbitos de investigación que se ofrec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795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Anillos de implementación de Políticas Públicas en su dimensión nacional, regional y local (PGPP) en educación, seguridad ciudadana y sistema de protección soci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Anillos de Educación Superior (Enrique Fernández Oscar Espinoza, Andrés Bernasconi y José Joaquín Brunner,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Manuel Krauskopf (prof MGP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Algunos temas y ámbitos de investigación que se ofrec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355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Ignacia Fernández (prof MGPP)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descentralización, desarrollo local y política social a nivel loc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Vivien Villagrán (prof MGPP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Análisis de los procesos de planificación de la obras de infraestruc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Análisis de las modalidades de gestión de contratos en las obras de infraestruc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ropuestas para mantener y conservar el patrimonio de obras public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Impacto de las inversiones de infraestructura en el empleo y crecimi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Elizabeth Guerrero (Prof MGPP). Implementación de políticas públicas, análisis a partir de metodología de estudio de caso desarrollada por Barcelay- Cortáza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Álvaro Väsquez (M. Economía).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Tecnología de Información y Modernización del Eº. Transparenci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Juan Carlos Lerda (prof MGPP) Finanzas Públicas y Descentralizació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Loreto Martínez (H de Cristo). Temas de pobreza, gestión de la fundación, sociedad civil- estado y temas de infanci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Gabriela Rubilar (MGPP) Participación y Ciudadanía. Pobreza e inclusión Social. Interculturalidad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Dorotea López (U.Chile- Cátedra OMC). Comercio internacional, tratados, análisis políticos de las relaciones comerciale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Algunos temas y ámbitos de investigación que se ofrec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355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Elisa Ansoleaga (MGPP). Proyecto iIterfacultades UDP: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Mujer, trabajo, maternidad, salud: tensiones no resueltas del siglo xx y propuestas para el bicentenari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Alejandra Contreras (MGPP. Ingresa). Análisis de créditos con aval del Estado y temas asociado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José Concha (MGPP). Temas del sistema de salud en gener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Jorge Olave (PUC) Medio Ambiente, biodiversidad y Políticas Pública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Mireya Dávila (MGPP- UAH). Tecnocracia, análisis técnico polític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Carlos  Andrade (MGPP). Vínculo público Privado y análisis con metodología multicriteri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Elisa Ansoleaga (MGPP). Proyecto interfacultades UDP: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Mujer, trabajo, maternidad, salud: tensiones no resueltas del siglo xx y propuestas para el bicentenari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Claudia Serrano (Prof. MGPP). Desarrollo Territorial, especialmente en el ámbito rur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Gonzalo Muñoz (Fundación Chile). Directivos escolares, liderazgo escolar y temas de educación en gener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Javier Couso (Prof MGPP- UDP). Temas de la ética en el sector público y otro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Gerardo Valdebenito (MGPP-Infor). Temas forestal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20:18:43Z</dcterms:created>
  <dc:creator>M. Angelica Pavez</dc:creator>
  <dc:description/>
  <dc:language>en-US</dc:language>
  <cp:lastModifiedBy>M. Angelica Pavez</cp:lastModifiedBy>
  <dcterms:modified xsi:type="dcterms:W3CDTF">2010-08-12T21:10:31Z</dcterms:modified>
  <cp:revision>4</cp:revision>
  <dc:subject/>
  <dc:title>Algunos temas y ambitos de investigación que se ofrecen</dc:title>
</cp:coreProperties>
</file>