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80BF-4786-4DFD-B61D-510DF3979B2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F8D9-A601-41EE-957E-53274156153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B89E-1D14-4A61-A64A-4DBDE2F087D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AFA4-27BD-44C8-8E95-602052A3468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BD11-27B0-4320-A27D-21C8FEB80A7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FC2D-7985-4EAA-A772-82E2F0FB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3FB-86D5-4124-9BA8-3C6EC511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C04-404F-46CD-8B0E-3223D847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32B0-EF37-410E-AE52-059BA530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B969-B218-48C7-B210-8C44C14E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B534-217E-4C84-BA65-0B75A078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DF5F-8DDA-426E-9EF6-A93F3D37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E980-B588-4CB1-90D4-53C8DDD8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5EBD-34F0-4478-98A6-C5984A7D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2C6E-0578-4432-B5AB-0C8878F9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7E1D-410C-4A90-A67B-29E6DC34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C034-6A20-4E33-80A0-FD0E32F6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7EED-B8E5-4E07-94E2-2A5354892457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Algunos temas y ambitos de investigación que se ofrec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3552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Alejandra Mizala (Dii- MGPP). Temas de Pensiones y Educación en Gener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Mario Waissbluth – José Inostroza (Dii- MGPP) Análisis institucional. Modernización del Estad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Pablo González (Dii y PNUD). Análisis econométricos en Educació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Rony Fischer (Dii) Temas de regulación e incentivos. Libre competenci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Esteban Zarate (Dii) Políticas públicas y turismo. Desarrollo territori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Juan José Zanlungo (Dii) Programa Cluster y Territori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M. Fernanda Melis (dii). Temas de pobreza y educación, análisis de encuestas de hogar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Matteo Triossi (DII) Economía Polític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Pilar Romaguera (DII). Economia de la educación, educación superio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Algunos temas y ámbitos de investigación que se ofrec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795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Anillos de implementación de Políticas Públicas en su dimensión nacional, regional y local (PGPP) en educación, seguridad ciudadana y sistema de protección soci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Anillos de Educación Superior (Enrique Fernández Oscar Espinoza, Andrés Bernasconi y José Joaquín Brunner, </a:t>
            </a: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Manuel Krauskopf (prof MGP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Algunos temas y ámbitos de investigación que se ofrec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355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Ignacia Fernández (prof MGPP) </a:t>
            </a: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descentralización, desarrollo local y política social a nivel loc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Vivien Villagrán (prof MGPP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Análisis de los procesos de planificación de la obras de infraestruc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Análisis de las modalidades de gestión de contratos en las obras de infraestruc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ropuestas para mantener y conservar el patrimonio de obras public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Impacto de las inversiones de infraestructura en el empleo y crecimie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Elizabeth Guerrero (Prof MGPP). Implementación de políticas públicas, análisis a partir de metodología de estudio de caso desarrollada por Barcelay- Cortáza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Álvaro Väsquez (M. Economía). </a:t>
            </a: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Tecnología de Información y Modernización del Eº. Transparenci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Juan Carlos Lerda (prof MGPP) Finanzas Públicas y Descentralizació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Loreto Martínez (H de Cristo). Temas de pobreza, gestión de la fundación, sociedad civil- estado y temas de infanci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Gabriela Rubilar (MGPP) Participación y Ciudadanía. Pobreza e inclusión Social. Interculturalidad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Dorotea López (U.Chile- Cátedra OMC). Comercio internacional, tratados, análisis políticos de las relaciones comerciale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Algunos temas y ámbitos de investigación que se ofrec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355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Elisa Ansoleaga (MGPP). Proyecto iIterfacultades UDP: </a:t>
            </a: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Mujer, trabajo, maternidad, salud: tensiones no resueltas del siglo xx y propuestas para el bicentenari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Alejandra Contreras (MGPP. Ingresa). Análisis de créditos con aval del Estado y temas asociado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José Concha (MGPP). Temas del sistema de salud en gener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Jorge Olave (PUC) Medio Ambiente, biodiversidad y Políticas Pública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Mireya Dávila (MGPP- UAH). Tecnocracia, análisis técnico polític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Carlos  Andrade (MGPP). Vínculo público Privado y análisis con metodología multicriteri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Elisa Ansoleaga (MGPP). Proyecto interfacultades UDP: </a:t>
            </a: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Mujer, trabajo, maternidad, salud: tensiones no resueltas del siglo xx y propuestas para el bicentenari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Claudia Serrano (Prof. MGPP). Desarrollo Territorial, especialmente en el ámbito rur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Gonzalo Muñoz (Fundación Chile). Directivos escolares, liderazgo escolar y temas de educación en gener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Javier Couso (Prof MGPP- UDP). Temas de la ética en el sector público y otro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Gerardo Valdebenito (MGPP-Infor). Temas forestal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20:18:43Z</dcterms:created>
  <dc:creator>M. Angelica Pavez</dc:creator>
  <dc:description/>
  <dc:language>en-US</dc:language>
  <cp:lastModifiedBy>M. Angelica Pavez</cp:lastModifiedBy>
  <dcterms:modified xsi:type="dcterms:W3CDTF">2010-08-12T21:10:31Z</dcterms:modified>
  <cp:revision>4</cp:revision>
  <dc:subject/>
  <dc:title>Algunos temas y ambitos de investigación que se ofrecen</dc:title>
</cp:coreProperties>
</file>