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D2F5-F37B-48F7-909B-E1751A47607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AE78-74A4-42FB-98C4-AA8FC8D643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CE7B-D7F9-4417-BB1C-7526A176359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434F-6C84-45CC-B6E3-F37FD6E75B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CE2C-C677-46AB-95E5-FAEF47DAF7C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28C-3DDC-453D-8209-E2868DE8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93E-AF30-465E-9EAF-23CA147F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1AE-32F8-4C95-9FA7-0BC538A9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CEE2-75C0-4D27-BAB7-7B7C4256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8F0-950B-40C0-A7E3-F3CFA761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573-DDB7-47FC-A26C-337FF889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E7D-D760-4DD6-8BCA-7138A0AD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166-715B-4318-BC4E-577EE2A4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4E4-F525-4F76-8D42-DB61775B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F3C-6E7D-4203-9BF1-24C78514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E06-C888-4A8F-8569-AFC6C61B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130-9F19-4028-A8D3-6DBE1116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5FB9-61A2-45D4-AE20-4043FDC9010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a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lejandra Mizala (Dii- MGPP). Temas de Pensiones y Educación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ario Waissbluth – José Inostroza (Dii- MGPP) Análisis institucional. Modernización del Estad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Pablo González (Dii y PNUD). Análisis econométricos en Educa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Rony Fischer (Dii) Temas de regulación e incentivos. Libre compete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steban Zarate (Dii) Políticas públicas y turismo. Desarrollo territori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Juan José Zanlungo (Dii) Programa Cluster y Territo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. Fernanda Melis (dii). Temas de pobreza y educación, análisis de encuestas de hogar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atteo Triossi (DII) Economía Polític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Pilar Romaguera (DII). Economia de la educación, educación superio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795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nillos de implementación de Políticas Públicas en su dimensión nacional, regional y local (PGPP) en educación, seguridad ciudadana y sistema de protección soci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nillos de Educación Superior (Enrique Fernández Oscar Espinoza, Andrés Bernasconi y José Joaquín Brunner,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anuel Krauskopf (prof MGP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Ignacia Fernández (prof MGPP)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descentralización, desarrollo local y política social a nivel loc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Vivien Villagrán (prof MGPP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nálisis de los procesos de planificación de la obras de infraestruc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nálisis de las modalidades de gestión de contratos en las obras de infraestruc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ropuestas para mantener y conservar el patrimonio de obras publ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Impacto de las inversiones de infraestructura en el empleo y creci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zabeth Guerrero (Prof MGPP). Implementación de políticas públicas, análisis a partir de metodología de estudio de caso desarrollada por Barcelay- Cortáza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Álvaro Väsquez (M. Economía).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Tecnología de Información y Modernización del Eº. Transpare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Juan Carlos Lerda (prof MGPP) Finanzas Públicas y Descentraliza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Loreto Martínez (H de Cristo). Temas de pobreza, gestión de la fundación, sociedad civil- estado y temas de infa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Gabriela Rubilar (MGPP) Participación y Ciudadanía. Pobreza e inclusión Social. Interculturalidad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Dorotea López (U.Chile- Cátedra OMC). Comercio internacional, tratados, análisis políticos de las relaciones comerciale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sa Ansoleaga (MGPP). Proyecto iIterfacultades UDP: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ujer, trabajo, maternidad, salud: tensiones no resueltas del siglo xx y propuestas para el bicentena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Alejandra Contreras (MGPP. Ingresa). Análisis de créditos con aval del Estado y temas asociad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osé Concha (MGPP). Temas del sistema de salud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orge Olave (PUC) Medio Ambiente, biodiversidad y Políticas Pública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ireya Dávila (MGPP- UAH). Tecnocracia, análisis técnico polític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Carlos  Andrade (MGPP). Vínculo público Privado y análisis con metodología multicrite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sa Ansoleaga (MGPP). Proyecto interfacultades UDP: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ujer, trabajo, maternidad, salud: tensiones no resueltas del siglo xx y propuestas para el bicentenari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Claudia Serrano (Prof. MGPP). Desarrollo Territorial, especialmente en el ámbito ru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Gonzalo Muñoz (Fundación Chile). Directivos escolares, liderazgo escolar y temas de educación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avier Couso (Prof MGPP- UDP). Temas de la ética en el sector público y otr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Gerardo Valdebenito (MGPP-Infor). Temas forestal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20:18:43Z</dcterms:created>
  <dc:creator>M. Angelica Pavez</dc:creator>
  <dc:description/>
  <dc:language>en-US</dc:language>
  <cp:lastModifiedBy>M. Angelica Pavez</cp:lastModifiedBy>
  <dcterms:modified xsi:type="dcterms:W3CDTF">2010-08-12T21:10:31Z</dcterms:modified>
  <cp:revision>4</cp:revision>
  <dc:subject/>
  <dc:title>Algunos temas y ambitos de investigación que se ofrecen</dc:title>
</cp:coreProperties>
</file>