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2C0-7347-4F1B-949A-D05FCB2667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1CE-9035-42D7-90C0-88354D5409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B145-F868-4E61-A378-BFF1E431FA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BAAB-0BA3-4BF7-9DCC-D1892D31A1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484-83DF-4ECF-89A0-86B5E2B642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21F-36A1-4C1A-B8A6-4BCE77B9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B81-193A-46F8-AAE0-78EF396D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96B-7CB2-42A5-A246-53430A35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4EB-0D3A-41AE-B526-5DB601C4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E3F-C17D-48AB-89A8-CA2961BD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610-E68A-4095-AEC8-909C5952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2B9-F03E-42CF-9F0C-1D5EC30A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ADC-1D7C-4C5A-8D22-2F2D2AB7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3E4-4C65-43A9-A3EB-4630782A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532-054D-4E70-A1D3-413FCF5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A14-3582-45EA-B1D3-9283381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CB8-7712-43C3-94DD-D975193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17BE-AF82-441A-988F-3EF1A57F4B6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a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lejandra Mizala (Dii- MGPP). Temas de Pensiones y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rio Waissbluth – José Inostroza (Dii- MGPP) Análisis institucional. Modernización del Estad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ablo González (Dii y PNUD). Análisis econométricos en Educ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Rony Fischer (Dii) Temas de regulación e incentivos. Libre compet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steban Zarate (Dii) Políticas públicas y turismo. Desarrollo territor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José Zanlungo (Dii) Programa Cluster y Territo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. Fernanda Melis (dii). Temas de pobreza y educación, análisis de encuestas de hogar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Matteo Triossi (DII) Economía Polític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Pilar Romaguera (DII). Economia de la educación, educación superi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795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implementación de Políticas Públicas en su dimensión nacional, regional y local (PGPP) en educación, seguridad ciudadana y sistema de protección soci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Anillos de Educación Superior (Enrique Fernández Oscar Espinoza, Andrés Bernasconi y José Joaquín Brunner,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anuel Krauskopf (prof MGP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Ignacia Fernández (prof MGPP)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descentralización, desarrollo local y política social a nivel loc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Vivien Villagrán (prof MGPP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os procesos de planificación de la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nálisis de las modalidades de gestión de contratos en las obras de infraestruc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ropuestas para mantener y conservar el patrimonio de obras publ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Impacto de las inversiones de infraestructura en el empleo y crec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zabeth Guerrero (Prof MGPP). Implementación de políticas públicas, análisis a partir de metodología de estudio de caso desarrollada por Barcelay- Cortáza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Álvaro Väsquez (M. Economía).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Tecnología de Información y Modernización del Eº. Transpare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Juan Carlos Lerda (prof MGPP) Finanzas Públicas y Descentraliz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Loreto Martínez (H de Cristo). Temas de pobreza, gestión de la fundación, sociedad civil- estado y temas de infan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Gabriela Rubilar (MGPP) Participación y Ciudadanía. Pobreza e inclusión Social. Interculturalida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Dorotea López (U.Chile- Cátedra OMC). Comercio internacional, tratados, análisis políticos de las relaciones comerciale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Algunos temas y ámbitos de investigación que se ofrec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355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I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Alejandra Contreras (MGPP. Ingresa). Análisis de créditos con aval del Estado y temas asociad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sé Concha (MGPP). Temas del sistema de salud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orge Olave (PUC) Medio Ambiente, biodiversidad y Políticas Públic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ireya Dávila (MGPP- UAH). Tecnocracia, análisis técnico polít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Carlos  Andrade (MGPP). Vínculo público Privado y análisis con metodología multicriteri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 Narrow"/>
              </a:rPr>
              <a:t>Elisa Ansoleaga (MGPP). Proyecto interfacultades UDP: </a:t>
            </a: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Mujer, trabajo, maternidad, salud: tensiones no resueltas del siglo xx y propuestas para el bicentenar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Claudia Serrano (Prof. MGPP). Desarrollo Territorial, especialmente en el ámbito ru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onzalo Muñoz (Fundación Chile). Directivos escolares, liderazgo escolar y temas de educación en gener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Javier Couso (Prof MGPP- UDP). Temas de la ética en el sector público y otr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 Narrow"/>
              </a:rPr>
              <a:t>Gerardo Valdebenito (MGPP-Infor). Temas forestal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20:18:43Z</dcterms:created>
  <dc:creator>M. Angelica Pavez</dc:creator>
  <dc:description/>
  <dc:language>en-US</dc:language>
  <cp:lastModifiedBy>M. Angelica Pavez</cp:lastModifiedBy>
  <dcterms:modified xsi:type="dcterms:W3CDTF">2010-08-12T21:10:31Z</dcterms:modified>
  <cp:revision>4</cp:revision>
  <dc:subject/>
  <dc:title>Algunos temas y ambitos de investigación que se ofrecen</dc:title>
</cp:coreProperties>
</file>