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25E-F2E1-4C00-96B7-F543370D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157-FA9A-4D39-987E-0B5441CB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766-9316-45D1-B5AD-4452E332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07A-9599-4760-863C-96ADF04B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3FF-87E1-4E27-AAF3-DF487754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13B-EC38-4E37-AC83-949E609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426-A21D-4636-A133-C20562B1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3B6-6769-40DF-A22A-DE47255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BF7-88C0-46E7-A7FF-A51DE29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D4E-CF18-4448-9B66-DD4C1C3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1F0-5727-48B1-B880-2A95C29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831-8A0A-492E-B01C-160078C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C71F3-0F2E-464B-8E46-A910DF610E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2753B-75B2-4154-B912-894096B5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8" descr=""/>
          <p:cNvPicPr/>
          <p:nvPr/>
        </p:nvPicPr>
        <p:blipFill>
          <a:blip r:embed="rId1"/>
          <a:stretch/>
        </p:blipFill>
        <p:spPr>
          <a:xfrm>
            <a:off x="144360" y="1390680"/>
            <a:ext cx="8772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72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Mis comentarios us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Rectángulo"/>
          <p:cNvSpPr/>
          <p:nvPr/>
        </p:nvSpPr>
        <p:spPr>
          <a:xfrm>
            <a:off x="357120" y="1562040"/>
            <a:ext cx="8501040" cy="4653000"/>
          </a:xfrm>
          <a:prstGeom prst="rect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Cuál es la neces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Qué? ¿Por qué? ¿Para qué? 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otivación débil: colocar las cosas en 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arco conceptual in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oherencia del objetivo general con el resto del in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etodología in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Falta de aproximación científica en la estrateg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Errores tipográficos en tablas y gráficos o son poco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arta Gantt poco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Uso inadecuado de 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Subutilización de Ane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7:00Z</dcterms:created>
  <dc:creator>William Baeza</dc:creator>
  <dc:description/>
  <dc:language>en-US</dc:language>
  <cp:lastModifiedBy>Willy</cp:lastModifiedBy>
  <dcterms:modified xsi:type="dcterms:W3CDTF">2010-09-01T03:49:17Z</dcterms:modified>
  <cp:revision>1684</cp:revision>
  <dc:subject/>
  <dc:title>Presentación 1</dc:title>
</cp:coreProperties>
</file>