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94B-33D1-4108-8C6D-AE749707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F01-231E-447A-AD11-0D7A97A4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7AF-1D70-46DC-86F7-65CFC7CE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A1E-0CF3-4826-BA17-9B9756DC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90A-A567-4FDD-A0D2-4ED09AA3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5D0-8133-40F4-8370-C04D7FA1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FA3-9588-4F54-B00F-C1D021A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E93-4395-4890-ADBC-43285C7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F82-0CED-4522-B657-B43D5880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11A-C7F1-439D-A1CC-6AB057BA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B6E-6457-4162-BFD6-719E646E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CBB-2647-49D6-A8F5-E2BFC0C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C3012-401D-479F-979C-5526D0BC2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C51E1-A290-4AE8-93B9-F80BFBBBA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4" descr="huincha_superior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8" descr=""/>
          <p:cNvPicPr/>
          <p:nvPr/>
        </p:nvPicPr>
        <p:blipFill>
          <a:blip r:embed="rId1"/>
          <a:stretch/>
        </p:blipFill>
        <p:spPr>
          <a:xfrm>
            <a:off x="144360" y="1390680"/>
            <a:ext cx="8772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Criterios Básicos y Adi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87724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solidFill>
            <a:srgbClr val="bfbfbf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22536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Century Gothic"/>
              </a:rPr>
              <a:t>Mis comentarios usu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Rectángulo"/>
          <p:cNvSpPr/>
          <p:nvPr/>
        </p:nvSpPr>
        <p:spPr>
          <a:xfrm>
            <a:off x="357120" y="1562040"/>
            <a:ext cx="8501040" cy="4653000"/>
          </a:xfrm>
          <a:prstGeom prst="rect">
            <a:avLst/>
          </a:prstGeom>
          <a:solidFill>
            <a:srgbClr val="f2dcdb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Cuál es la necesid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¿Qué? ¿Por qué? ¿Para qué? 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otivación débil: colocar las cosas en 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arco conceptual in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oherencia del objetivo general con el resto del in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Metodología inadecu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Falta de aproximación científica en la estrateg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Errores tipográficos en tablas y gráficos o son poco in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Carta Gantt poco detal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Uso inadecuado de bibli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26262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800" spc="-1" strike="noStrike">
                <a:solidFill>
                  <a:srgbClr val="262626"/>
                </a:solidFill>
                <a:latin typeface="Verdana"/>
              </a:rPr>
              <a:t>Subutilización de Anex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800" spc="-1" strike="noStrike">
                <a:solidFill>
                  <a:srgbClr val="464847"/>
                </a:solidFill>
                <a:latin typeface="Century Gothic"/>
              </a:rPr>
              <a:t>Criterios Calificación Informe Final IN69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800"/>
            </a:br>
            <a:r>
              <a:rPr b="1" lang="es-ES" sz="3200" spc="-1" strike="noStrike">
                <a:solidFill>
                  <a:srgbClr val="464847"/>
                </a:solidFill>
                <a:latin typeface="Century Gothic"/>
              </a:rPr>
              <a:t>Agosto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464847"/>
                </a:solidFill>
                <a:latin typeface="Century Gothic"/>
              </a:rPr>
              <a:t>William Ba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huincha_superior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9:27:00Z</dcterms:created>
  <dc:creator>William Baeza</dc:creator>
  <dc:description/>
  <dc:language>en-US</dc:language>
  <cp:lastModifiedBy>Willy</cp:lastModifiedBy>
  <dcterms:modified xsi:type="dcterms:W3CDTF">2010-09-01T03:49:17Z</dcterms:modified>
  <cp:revision>1684</cp:revision>
  <dc:subject/>
  <dc:title>Presentación 1</dc:title>
</cp:coreProperties>
</file>